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4.wmf" ContentType="image/x-wmf"/>
  <Override PartName="/ppt/media/image123.wmf" ContentType="image/x-wmf"/>
  <Override PartName="/ppt/media/image122.wmf" ContentType="image/x-wmf"/>
  <Override PartName="/ppt/media/image117.png" ContentType="image/png"/>
  <Override PartName="/ppt/media/image116.wmf" ContentType="image/x-wmf"/>
  <Override PartName="/ppt/media/image114.wmf" ContentType="image/x-wmf"/>
  <Override PartName="/ppt/media/image113.wmf" ContentType="image/x-wmf"/>
  <Override PartName="/ppt/media/image112.wmf" ContentType="image/x-wmf"/>
  <Override PartName="/ppt/media/image1.jpeg" ContentType="image/jpeg"/>
  <Override PartName="/ppt/media/image50.wmf" ContentType="image/x-wmf"/>
  <Override PartName="/ppt/media/image3.jpeg" ContentType="image/jpeg"/>
  <Override PartName="/ppt/media/image30.png" ContentType="image/png"/>
  <Override PartName="/ppt/media/image98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86.wmf" ContentType="image/x-wmf"/>
  <Override PartName="/ppt/media/image115.png" ContentType="image/png"/>
  <Override PartName="/ppt/media/image9.wmf" ContentType="image/x-wmf"/>
  <Override PartName="/ppt/media/image31.wmf" ContentType="image/x-wmf"/>
  <Override PartName="/ppt/media/image128.wmf" ContentType="image/x-wmf"/>
  <Override PartName="/ppt/media/image39.wmf" ContentType="image/x-wmf"/>
  <Override PartName="/ppt/media/image29.png" ContentType="image/png"/>
  <Override PartName="/ppt/media/image2.png" ContentType="image/png"/>
  <Override PartName="/ppt/media/image133.wmf" ContentType="image/x-wmf"/>
  <Override PartName="/ppt/media/image32.png" ContentType="image/png"/>
  <Override PartName="/ppt/media/image129.png" ContentType="image/png"/>
  <Override PartName="/ppt/media/image8.wmf" ContentType="image/x-wmf"/>
  <Override PartName="/ppt/media/image38.wmf" ContentType="image/x-wmf"/>
  <Override PartName="/ppt/media/image107.wmf" ContentType="image/x-wmf"/>
  <Override PartName="/ppt/media/image10.wmf" ContentType="image/x-wmf"/>
  <Override PartName="/ppt/media/image121.png" ContentType="image/png"/>
  <Override PartName="/ppt/media/image11.jpeg" ContentType="image/jpeg"/>
  <Override PartName="/ppt/media/image7.wmf" ContentType="image/x-wmf"/>
  <Override PartName="/ppt/media/image37.wmf" ContentType="image/x-wmf"/>
  <Override PartName="/ppt/media/image12.jpeg" ContentType="image/jpeg"/>
  <Override PartName="/ppt/media/image34.png" ContentType="image/png"/>
  <Override PartName="/ppt/media/image52.wmf" ContentType="image/x-wmf"/>
  <Override PartName="/ppt/media/image53.wmf" ContentType="image/x-wmf"/>
  <Override PartName="/ppt/media/image55.wmf" ContentType="image/x-wmf"/>
  <Override PartName="/ppt/media/image56.wmf" ContentType="image/x-wmf"/>
  <Override PartName="/ppt/media/image54.wmf" ContentType="image/x-wmf"/>
  <Override PartName="/ppt/media/image13.jpeg" ContentType="image/jpeg"/>
  <Override PartName="/ppt/media/image47.wmf" ContentType="image/x-wmf"/>
  <Override PartName="/ppt/media/image36.wmf" ContentType="image/x-wmf"/>
  <Override PartName="/ppt/media/image89.png" ContentType="image/png"/>
  <Override PartName="/ppt/media/image46.wmf" ContentType="image/x-wmf"/>
  <Override PartName="/ppt/media/image41.wmf" ContentType="image/x-wmf"/>
  <Override PartName="/ppt/media/image5.jpeg" ContentType="image/jpeg"/>
  <Override PartName="/ppt/media/image48.wmf" ContentType="image/x-wmf"/>
  <Override PartName="/ppt/media/image134.wmf" ContentType="image/x-wmf"/>
  <Override PartName="/ppt/media/image42.wmf" ContentType="image/x-wmf"/>
  <Override PartName="/ppt/media/image43.wmf" ContentType="image/x-wmf"/>
  <Override PartName="/ppt/media/image33.png" ContentType="image/png"/>
  <Override PartName="/ppt/media/image100.wmf" ContentType="image/x-wmf"/>
  <Override PartName="/ppt/media/image49.wmf" ContentType="image/x-wmf"/>
  <Override PartName="/ppt/media/image105.wmf" ContentType="image/x-wmf"/>
  <Override PartName="/ppt/media/image51.png" ContentType="image/png"/>
  <Override PartName="/ppt/media/image88.png" ContentType="image/png"/>
  <Override PartName="/ppt/media/image45.wmf" ContentType="image/x-wmf"/>
  <Override PartName="/ppt/media/image135.wmf" ContentType="image/x-wmf"/>
  <Override PartName="/ppt/media/image6.png" ContentType="image/png"/>
  <Override PartName="/ppt/media/image40.wmf" ContentType="image/x-wmf"/>
  <Override PartName="/ppt/media/image131.wmf" ContentType="image/x-wmf"/>
  <Override PartName="/ppt/media/image130.wmf" ContentType="image/x-wmf"/>
  <Override PartName="/ppt/media/image28.jpeg" ContentType="image/jpeg"/>
  <Override PartName="/ppt/media/image79.wmf" ContentType="image/x-wmf"/>
  <Override PartName="/ppt/media/image44.wmf" ContentType="image/x-wmf"/>
  <Override PartName="/ppt/media/image35.wmf" ContentType="image/x-wmf"/>
  <Override PartName="/ppt/media/image83.wmf" ContentType="image/x-wmf"/>
  <Override PartName="/ppt/media/image15.wmf" ContentType="image/x-wmf"/>
  <Override PartName="/ppt/media/image80.wmf" ContentType="image/x-wmf"/>
  <Override PartName="/ppt/media/image84.wmf" ContentType="image/x-wmf"/>
  <Override PartName="/ppt/media/image16.wmf" ContentType="image/x-wmf"/>
  <Override PartName="/ppt/media/image81.wmf" ContentType="image/x-wmf"/>
  <Override PartName="/ppt/media/image85.wmf" ContentType="image/x-wmf"/>
  <Override PartName="/ppt/media/image17.wmf" ContentType="image/x-wmf"/>
  <Override PartName="/ppt/media/image82.wmf" ContentType="image/x-wmf"/>
  <Override PartName="/ppt/media/image14.wmf" ContentType="image/x-wmf"/>
  <Override PartName="/ppt/media/image58.wmf" ContentType="image/x-wmf"/>
  <Override PartName="/ppt/media/image21.wmf" ContentType="image/x-wmf"/>
  <Override PartName="/ppt/media/image118.wmf" ContentType="image/x-wmf"/>
  <Override PartName="/ppt/media/image59.wmf" ContentType="image/x-wmf"/>
  <Override PartName="/ppt/media/image110.wmf" ContentType="image/x-wmf"/>
  <Override PartName="/ppt/media/image119.wmf" ContentType="image/x-wmf"/>
  <Override PartName="/ppt/media/image92.wmf" ContentType="image/x-wmf"/>
  <Override PartName="/ppt/media/image24.wmf" ContentType="image/x-wmf"/>
  <Override PartName="/ppt/media/image22.wmf" ContentType="image/x-wmf"/>
  <Override PartName="/ppt/media/image90.wmf" ContentType="image/x-wmf"/>
  <Override PartName="/ppt/media/image91.wmf" ContentType="image/x-wmf"/>
  <Override PartName="/ppt/media/image23.wmf" ContentType="image/x-wmf"/>
  <Override PartName="/ppt/media/image60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27.jpeg" ContentType="image/jpeg"/>
  <Override PartName="/ppt/media/image69.wmf" ContentType="image/x-wmf"/>
  <Override PartName="/ppt/media/image120.wmf" ContentType="image/x-wmf"/>
  <Override PartName="/ppt/media/image70.wmf" ContentType="image/x-wmf"/>
  <Override PartName="/ppt/media/image71.png" ContentType="image/png"/>
  <Override PartName="/ppt/media/image125.wmf" ContentType="image/x-wmf"/>
  <Override PartName="/ppt/media/image72.png" ContentType="image/png"/>
  <Override PartName="/ppt/media/image73.png" ContentType="image/png"/>
  <Override PartName="/ppt/media/image4.jpeg" ContentType="image/jpeg"/>
  <Override PartName="/ppt/media/image127.wmf" ContentType="image/x-wmf"/>
  <Override PartName="/ppt/media/image74.wmf" ContentType="image/x-wmf"/>
  <Override PartName="/ppt/media/image75.png" ContentType="image/png"/>
  <Override PartName="/ppt/media/image76.wmf" ContentType="image/x-wmf"/>
  <Override PartName="/ppt/media/image77.png" ContentType="image/png"/>
  <Override PartName="/ppt/media/image78.wmf" ContentType="image/x-wmf"/>
  <Override PartName="/ppt/media/image19.wmf" ContentType="image/x-wmf"/>
  <Override PartName="/ppt/media/image87.wmf" ContentType="image/x-wmf"/>
  <Override PartName="/ppt/media/image25.wmf" ContentType="image/x-wmf"/>
  <Override PartName="/ppt/media/image93.wmf" ContentType="image/x-wmf"/>
  <Override PartName="/ppt/media/image26.wmf" ContentType="image/x-wmf"/>
  <Override PartName="/ppt/media/image94.wmf" ContentType="image/x-wmf"/>
  <Override PartName="/ppt/media/image95.wmf" ContentType="image/x-wmf"/>
  <Override PartName="/ppt/media/image96.wmf" ContentType="image/x-wmf"/>
  <Override PartName="/ppt/media/image97.wmf" ContentType="image/x-wmf"/>
  <Override PartName="/ppt/media/image126.png" ContentType="image/png"/>
  <Override PartName="/ppt/media/image99.wmf" ContentType="image/x-wmf"/>
  <Override PartName="/ppt/media/image101.png" ContentType="image/png"/>
  <Override PartName="/ppt/media/image102.wmf" ContentType="image/x-wmf"/>
  <Override PartName="/ppt/media/image103.wmf" ContentType="image/x-wmf"/>
  <Override PartName="/ppt/media/image104.wmf" ContentType="image/x-wmf"/>
  <Override PartName="/ppt/media/image106.wmf" ContentType="image/x-wmf"/>
  <Override PartName="/ppt/media/image108.wmf" ContentType="image/x-wmf"/>
  <Override PartName="/ppt/media/image109.wmf" ContentType="image/x-wmf"/>
  <Override PartName="/ppt/media/image132.jpeg" ContentType="image/jpeg"/>
  <Override PartName="/ppt/media/image111.wmf" ContentType="image/x-wmf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  <p:sldId id="280" r:id="rId43"/>
    <p:sldId id="281" r:id="rId44"/>
    <p:sldId id="282" r:id="rId4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slide" Target="slides/slide25.xml"/><Relationship Id="rId44" Type="http://schemas.openxmlformats.org/officeDocument/2006/relationships/slide" Target="slides/slide26.xml"/><Relationship Id="rId45" Type="http://schemas.openxmlformats.org/officeDocument/2006/relationships/slide" Target="slides/slide27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dt" idx="4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sldImg"/>
          </p:nvPr>
        </p:nvSpPr>
        <p:spPr>
          <a:xfrm>
            <a:off x="1181160" y="64764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00060"/>
                </a:solidFill>
                <a:latin typeface="华文行楷"/>
              </a:rPr>
              <a:t>Click to move the slide</a:t>
            </a: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ftr" idx="4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6"/>
          <p:cNvSpPr>
            <a:spLocks noGrp="1"/>
          </p:cNvSpPr>
          <p:nvPr>
            <p:ph type="sldNum" idx="4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CCB3E-1372-4007-A5A6-B0D6CBA9009A}" type="slidenum">
              <a:rPr b="0" lang="zh-CN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C07BF-EEA1-42B9-BB82-1D430DDD99B2}" type="slidenum">
              <a:rPr b="0" lang="zh-CN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81160" y="64764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D7CBA-8906-4721-9E42-3EBAAFE5A9EC}" type="slidenum">
              <a:rPr b="0" lang="zh-CN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81160" y="64764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53F7A-B2A8-4EB6-B1EB-E02C815A7E52}" type="slidenum">
              <a:rPr b="0" lang="zh-CN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81160" y="64764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99CFB-7B9D-4171-887F-57B04141035B}" type="slidenum">
              <a:rPr b="0" lang="zh-CN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81160" y="64764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3DED3-CDD7-4484-AF3F-82591C25AA03}" type="slidenum">
              <a:rPr b="0" lang="zh-CN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81160" y="64764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94295-B9A5-461C-952D-299A3B54B629}" type="slidenum">
              <a:rPr b="0" lang="zh-CN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81160" y="64764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44CCD-F653-4A6C-8E47-8081D4705D52}" type="slidenum">
              <a:rPr b="0" lang="zh-CN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81160" y="64764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9F305-AADD-4985-8084-0FFEE67FA164}" type="slidenum">
              <a:rPr b="0" lang="zh-CN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81160" y="64764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5D3CE-778F-42B3-AA32-56AE34C1CD06}" type="slidenum">
              <a:rPr b="0" lang="zh-CN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81160" y="64764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EE2AD-0D29-4539-9B8B-F86BDF576E10}" type="slidenum">
              <a:rPr b="0" lang="zh-CN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81160" y="64764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A3EB3-D84B-407F-BC84-92620FD9FF7C}" type="slidenum">
              <a:rPr b="0" lang="zh-CN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81160" y="64764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74C20-7708-495A-B431-F55010D207EF}" type="slidenum">
              <a:rPr b="0" lang="zh-CN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81160" y="64764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66631-766E-4B22-8C5C-9C7EB8F002FD}" type="slidenum">
              <a:rPr b="0" lang="zh-CN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81160" y="64764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FDEE5-95A9-462A-B942-438D8D136392}" type="slidenum">
              <a:rPr b="0" lang="zh-CN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81160" y="64764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4CBD6-8C98-4A4F-8D2A-472C69D94537}" type="slidenum">
              <a:rPr b="0" lang="zh-CN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81160" y="64764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1574C-C5D3-4604-AC51-F97214160705}" type="slidenum">
              <a:rPr b="0" lang="zh-CN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81160" y="64764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57ADE-0AA4-4585-89BF-6D36FC7623E4}" type="slidenum">
              <a:rPr b="0" lang="zh-CN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81160" y="64764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70EC5-2B22-4AFD-9817-0E949FF36D7B}" type="slidenum">
              <a:rPr b="0" lang="zh-CN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81160" y="64764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C440F-53DF-42CC-A369-6BCD96BE2FDE}" type="slidenum">
              <a:rPr b="0" lang="zh-CN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81160" y="64764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2E30B-D189-4DDB-99D8-B3DBAA43259C}" type="slidenum">
              <a:rPr b="0" lang="zh-CN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81160" y="64764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D36EC-04D5-4685-A8EE-0999A9EBFE8B}" type="slidenum">
              <a:rPr b="0" lang="zh-CN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81160" y="64764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25069-14B1-4A05-8F98-226B74CA3471}" type="slidenum">
              <a:rPr b="0" lang="zh-CN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81160" y="64764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CB9FD-3E49-42B0-B91D-19C6482FAA2A}" type="slidenum">
              <a:rPr b="0" lang="zh-CN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81160" y="64764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39749-72B8-4FAC-B2A2-6451BFD73B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47280" y="1988640"/>
            <a:ext cx="727236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47280" y="4171320"/>
            <a:ext cx="727236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089B5-1407-4ED0-A1F0-4AC82961EDEB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547280" y="1988640"/>
            <a:ext cx="354888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274000" y="1988640"/>
            <a:ext cx="354888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2D7DD7-DCA8-4462-9BB6-33C49A78B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E35FF9-5C15-415A-AA0B-3134ABEE0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1547280" y="1125000"/>
            <a:ext cx="72723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3FBD7B-6E48-4E71-AC2F-99213B26D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547280" y="198864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274000" y="1988640"/>
            <a:ext cx="354888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547280" y="417132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2B1EC7-604F-43A7-B08B-410126D6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547280" y="1988640"/>
            <a:ext cx="354888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274000" y="198864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274000" y="417132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9B06CF-9B0F-4527-8384-6EA15854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547280" y="198864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274000" y="198864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1547280" y="4171320"/>
            <a:ext cx="727236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8AEC21-80EE-4DAA-9B2C-A58CB524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547280" y="1988640"/>
            <a:ext cx="727236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1547280" y="4171320"/>
            <a:ext cx="727236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611DCE-D0F7-4BD7-908F-9AEE219C1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547280" y="198864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274000" y="198864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547280" y="417132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5274000" y="417132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9D7A17-4603-42A1-895A-B5121C5F6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547280" y="1988640"/>
            <a:ext cx="234144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006080" y="1988640"/>
            <a:ext cx="234144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465240" y="1988640"/>
            <a:ext cx="234144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1547280" y="4171320"/>
            <a:ext cx="234144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4006080" y="4171320"/>
            <a:ext cx="234144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465240" y="4171320"/>
            <a:ext cx="234144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A436C2-B234-4B6C-8BB9-7C007BB68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851C99-8D90-4F9C-A019-D04D7D07D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47280" y="198864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74000" y="198864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47280" y="417132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74000" y="417132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FFCA6-6D17-4429-B613-D3051CBDF7E8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1547280" y="1988640"/>
            <a:ext cx="727236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130662-63D4-4728-8730-153D1527D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547280" y="1988640"/>
            <a:ext cx="727236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5D0811-0764-4A7C-9571-A8AB34165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547280" y="1988640"/>
            <a:ext cx="354888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274000" y="1988640"/>
            <a:ext cx="354888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2FECBF-F252-4F77-88B2-BBD9C202F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171AFB-DE70-4EB8-A167-01CE7C256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1547280" y="1125000"/>
            <a:ext cx="72723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E315E0-D2C9-439C-8EEB-729E50953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547280" y="198864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274000" y="1988640"/>
            <a:ext cx="354888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1547280" y="417132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464B8D-2ED7-4F67-A88F-875CED289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547280" y="1988640"/>
            <a:ext cx="354888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5274000" y="198864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274000" y="417132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3FE31B-FA63-4CB3-ABB2-8C2490042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547280" y="198864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274000" y="198864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1547280" y="4171320"/>
            <a:ext cx="727236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355E2C-6DA7-4285-AD12-3C1BCE87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547280" y="1988640"/>
            <a:ext cx="727236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1547280" y="4171320"/>
            <a:ext cx="727236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CFF541-8017-4E09-A20D-C180EEDC5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547280" y="198864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274000" y="198864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547280" y="417132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5274000" y="417132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9255D4-0A7E-494A-AEE4-EADDBDA6E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47280" y="1988640"/>
            <a:ext cx="234144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006080" y="1988640"/>
            <a:ext cx="234144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65240" y="1988640"/>
            <a:ext cx="234144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47280" y="4171320"/>
            <a:ext cx="234144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006080" y="4171320"/>
            <a:ext cx="234144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65240" y="4171320"/>
            <a:ext cx="234144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4DA48-9A50-484D-964B-55BFB81C3342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547280" y="1988640"/>
            <a:ext cx="234144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006080" y="1988640"/>
            <a:ext cx="234144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465240" y="1988640"/>
            <a:ext cx="234144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1547280" y="4171320"/>
            <a:ext cx="234144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4006080" y="4171320"/>
            <a:ext cx="234144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465240" y="4171320"/>
            <a:ext cx="234144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2FBFAA-52BC-451E-8B82-8C1F35E02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A82513F-9EFD-4523-9551-1C1AB1357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1547280" y="1988640"/>
            <a:ext cx="727236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6851B18-004E-47F4-9FF7-732CFE44B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547280" y="1988640"/>
            <a:ext cx="727236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C2FFB3F-39E0-4112-85BE-7E2937F2C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547280" y="1988640"/>
            <a:ext cx="354888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274000" y="1988640"/>
            <a:ext cx="354888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9B0F0CA-2597-41DD-B3AD-060F9748F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B479D94-257E-4426-8F82-957A7D9EE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1547280" y="1125000"/>
            <a:ext cx="72723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0083909-8098-4E65-84CA-23469C625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547280" y="198864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5274000" y="1988640"/>
            <a:ext cx="354888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1547280" y="417132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7682D6E-36E2-49CC-997A-60B0C4623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547280" y="1988640"/>
            <a:ext cx="354888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274000" y="198864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274000" y="417132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595D599-B6FA-4650-A750-6897BD1CF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547280" y="198864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274000" y="198864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1547280" y="4171320"/>
            <a:ext cx="727236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877479E-EBE3-4260-A5FE-B9157AF2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4169F2-0B84-4370-B23D-40D4E454A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547280" y="1988640"/>
            <a:ext cx="727236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1547280" y="4171320"/>
            <a:ext cx="727236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1686C87-1968-445B-8EFF-BF0B6C0FF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547280" y="198864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5274000" y="198864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1547280" y="417132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5274000" y="417132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B146F1F-4C51-4BC5-805A-27B0E6776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547280" y="1988640"/>
            <a:ext cx="234144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006080" y="1988640"/>
            <a:ext cx="234144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465240" y="1988640"/>
            <a:ext cx="234144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1547280" y="4171320"/>
            <a:ext cx="234144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4006080" y="4171320"/>
            <a:ext cx="234144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465240" y="4171320"/>
            <a:ext cx="234144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57668B8-0F3D-4740-8EB9-8343754E5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82CC82-8A4E-4DA2-A00E-CB4007211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1547280" y="1988640"/>
            <a:ext cx="727236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340085-186B-447E-87C4-464E47264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547280" y="1988640"/>
            <a:ext cx="727236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6B2CF2-21CC-47ED-B37C-49AFD80C6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547280" y="1988640"/>
            <a:ext cx="354888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274000" y="1988640"/>
            <a:ext cx="354888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CCBF6F-C8C2-4F9D-A20D-4873834C8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DC761A-ABE0-477D-A7BA-CC311FD97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1547280" y="1125000"/>
            <a:ext cx="72723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BF7D00-EDBC-4CC7-926A-C809F49A7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547280" y="198864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5274000" y="1988640"/>
            <a:ext cx="354888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1547280" y="417132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069A0F-4627-4F95-BAC8-5268458E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547280" y="1988640"/>
            <a:ext cx="727236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DD251D-9D9D-4056-A968-E615ADA4A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547280" y="1988640"/>
            <a:ext cx="354888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274000" y="198864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274000" y="417132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361287-80D0-4D88-A850-D8F2F02F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547280" y="198864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5274000" y="198864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1547280" y="4171320"/>
            <a:ext cx="727236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AC5A0E-151D-4C53-AB3D-4569FE91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547280" y="1988640"/>
            <a:ext cx="727236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1547280" y="4171320"/>
            <a:ext cx="727236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FE067E-0071-4B6A-BA93-D3405DDF9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547280" y="198864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274000" y="198864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547280" y="417132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5274000" y="417132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B7D9CA-2009-4738-8BD0-0826A0238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547280" y="1988640"/>
            <a:ext cx="234144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006080" y="1988640"/>
            <a:ext cx="234144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465240" y="1988640"/>
            <a:ext cx="234144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1547280" y="4171320"/>
            <a:ext cx="234144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4006080" y="4171320"/>
            <a:ext cx="234144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465240" y="4171320"/>
            <a:ext cx="234144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D9A6C6-70FE-4476-97A7-C5E5C1201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764F774-EAD4-4041-9D4B-6DFD30AFD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1547280" y="1988640"/>
            <a:ext cx="727236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9A099A8-2E1B-4D6D-A9E2-6C0520B40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547280" y="1988640"/>
            <a:ext cx="727236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65D932A-91DC-4326-A685-E7456DCBC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547280" y="1988640"/>
            <a:ext cx="354888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274000" y="1988640"/>
            <a:ext cx="354888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772018C-ACFB-48B4-A490-449A3A5E8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512C9D0-1B77-486D-A0EB-0241888BB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47280" y="1988640"/>
            <a:ext cx="727236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DCFDDC-1FD1-4034-AD16-6FD2275C2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1547280" y="1125000"/>
            <a:ext cx="72723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D5DD2F2-34F2-432C-83F6-8475F41CF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547280" y="198864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5274000" y="1988640"/>
            <a:ext cx="354888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1547280" y="417132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A0FF415-6CC7-42AF-A698-1B015EEC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547280" y="1988640"/>
            <a:ext cx="354888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5274000" y="198864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5274000" y="417132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CD77592-0EDB-47CD-BDFF-4FB5B96C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547280" y="198864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5274000" y="198864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1547280" y="4171320"/>
            <a:ext cx="727236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579C6BC-2C09-488D-9EB3-EEB0EDE9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547280" y="1988640"/>
            <a:ext cx="727236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1547280" y="4171320"/>
            <a:ext cx="727236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339B419-EE24-4DD7-A56F-99FB20461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547280" y="198864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5274000" y="198864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1547280" y="417132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5274000" y="417132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C51B4D9-B409-4732-9E75-ECBA6A48B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547280" y="1988640"/>
            <a:ext cx="234144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006080" y="1988640"/>
            <a:ext cx="234144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465240" y="1988640"/>
            <a:ext cx="234144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1547280" y="4171320"/>
            <a:ext cx="234144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4006080" y="4171320"/>
            <a:ext cx="234144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6465240" y="4171320"/>
            <a:ext cx="234144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B09A0EB-C3C2-4536-BA8B-5103A5957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342E455-10D2-4214-8B33-EA48953CE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1547280" y="1988640"/>
            <a:ext cx="727236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92CF584-164F-45DA-A2E1-93507A126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547280" y="1988640"/>
            <a:ext cx="727236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99AEE8B-0FC7-4C9A-B1D4-D00DB11DA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47280" y="1988640"/>
            <a:ext cx="354888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74000" y="1988640"/>
            <a:ext cx="354888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B98FC5-57F0-4979-80FE-9936CFF08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547280" y="1988640"/>
            <a:ext cx="354888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5274000" y="1988640"/>
            <a:ext cx="354888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B0A2ECE-7F1D-4032-B9EA-C9B392F11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A5A3E93-AFFC-4E12-81F2-584306175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ubTitle"/>
          </p:nvPr>
        </p:nvSpPr>
        <p:spPr>
          <a:xfrm>
            <a:off x="1547280" y="1125000"/>
            <a:ext cx="72723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519AFBB-6DA5-417C-901B-6FAE8C5B0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547280" y="198864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5274000" y="1988640"/>
            <a:ext cx="354888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1547280" y="417132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7A20D46-453A-4C3E-ABD5-602E2B9A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547280" y="1988640"/>
            <a:ext cx="354888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5274000" y="198864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274000" y="417132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70C2546-FE2A-4838-95C6-7208D2C06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547280" y="198864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5274000" y="198864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1547280" y="4171320"/>
            <a:ext cx="727236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08A3BA6-8E76-43FA-A525-2758EB72C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547280" y="1988640"/>
            <a:ext cx="727236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1547280" y="4171320"/>
            <a:ext cx="727236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C12AABE-D0E3-4AF3-91E9-B509900D0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1547280" y="198864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5274000" y="198864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1547280" y="417132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5274000" y="417132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08E26DD-268C-4D76-999B-AB76FAC51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547280" y="1988640"/>
            <a:ext cx="234144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006080" y="1988640"/>
            <a:ext cx="234144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465240" y="1988640"/>
            <a:ext cx="234144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1547280" y="4171320"/>
            <a:ext cx="234144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24" name="PlaceHolder 6"/>
          <p:cNvSpPr>
            <a:spLocks noGrp="1"/>
          </p:cNvSpPr>
          <p:nvPr>
            <p:ph/>
          </p:nvPr>
        </p:nvSpPr>
        <p:spPr>
          <a:xfrm>
            <a:off x="4006080" y="4171320"/>
            <a:ext cx="234144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25" name="PlaceHolder 7"/>
          <p:cNvSpPr>
            <a:spLocks noGrp="1"/>
          </p:cNvSpPr>
          <p:nvPr>
            <p:ph/>
          </p:nvPr>
        </p:nvSpPr>
        <p:spPr>
          <a:xfrm>
            <a:off x="6465240" y="4171320"/>
            <a:ext cx="234144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3CEAB27-FB1C-44E2-9B9B-AB7CC1C06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54E7BBC-31E4-4693-BC27-19F53913D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1FC006-D4E0-4CD6-803F-B8C21E236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1547280" y="1988640"/>
            <a:ext cx="727236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03E083E-788D-4B33-8BF5-A66D4CC53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1547280" y="1988640"/>
            <a:ext cx="727236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B1D421E-4742-4AEE-BE25-141A6B07C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547280" y="1988640"/>
            <a:ext cx="354888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5274000" y="1988640"/>
            <a:ext cx="354888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A05D281-58FB-466E-A585-703DA98FF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D4DEFFA-5666-465A-B50C-43338F7BC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ubTitle"/>
          </p:nvPr>
        </p:nvSpPr>
        <p:spPr>
          <a:xfrm>
            <a:off x="1547280" y="1125000"/>
            <a:ext cx="72723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67F30E5-5685-4DF4-AD7C-002B6B307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1547280" y="198864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5274000" y="1988640"/>
            <a:ext cx="354888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1547280" y="417132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1E7EC04-D7AE-4A06-8E60-AD8FA8D72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547280" y="1988640"/>
            <a:ext cx="354888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5274000" y="198864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5274000" y="417132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AB2214B-14BD-4216-BD45-6A599905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547280" y="198864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5274000" y="198864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1547280" y="4171320"/>
            <a:ext cx="727236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7723EA1-CD3A-416A-BB12-4A6B3CB08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1547280" y="1988640"/>
            <a:ext cx="727236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1547280" y="4171320"/>
            <a:ext cx="727236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2411820-6834-4EB0-BB68-DDE4A2579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547280" y="198864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5274000" y="198864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1547280" y="417132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5274000" y="417132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45A9877-8034-406C-B930-5F6424B09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47280" y="1125000"/>
            <a:ext cx="72723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78B77A-2DE9-4198-B4D9-C8783438F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547280" y="1988640"/>
            <a:ext cx="234144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006080" y="1988640"/>
            <a:ext cx="234144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465240" y="1988640"/>
            <a:ext cx="234144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1547280" y="4171320"/>
            <a:ext cx="234144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69" name="PlaceHolder 6"/>
          <p:cNvSpPr>
            <a:spLocks noGrp="1"/>
          </p:cNvSpPr>
          <p:nvPr>
            <p:ph/>
          </p:nvPr>
        </p:nvSpPr>
        <p:spPr>
          <a:xfrm>
            <a:off x="4006080" y="4171320"/>
            <a:ext cx="234144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70" name="PlaceHolder 7"/>
          <p:cNvSpPr>
            <a:spLocks noGrp="1"/>
          </p:cNvSpPr>
          <p:nvPr>
            <p:ph/>
          </p:nvPr>
        </p:nvSpPr>
        <p:spPr>
          <a:xfrm>
            <a:off x="6465240" y="4171320"/>
            <a:ext cx="234144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45BC05E-BB11-4DCB-92D9-96ABA8B14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5F74E44-F72F-4133-BD67-E380ABE3B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subTitle"/>
          </p:nvPr>
        </p:nvSpPr>
        <p:spPr>
          <a:xfrm>
            <a:off x="1547280" y="1988640"/>
            <a:ext cx="727236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C0D9999-A82B-4854-A62D-A83CE9F5F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547280" y="1988640"/>
            <a:ext cx="727236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DDAD7C6-14B3-42E5-AAF9-06FBE5AEE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1547280" y="1988640"/>
            <a:ext cx="354888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5274000" y="1988640"/>
            <a:ext cx="354888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9FDBBB6-09C7-4B89-80F4-6F8BA4BFF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9EABBB8-F827-4120-A50E-B94B9FFEE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ubTitle"/>
          </p:nvPr>
        </p:nvSpPr>
        <p:spPr>
          <a:xfrm>
            <a:off x="1547280" y="1125000"/>
            <a:ext cx="72723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836E1F5-B114-4E4B-84E2-CA8445F5A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547280" y="198864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5274000" y="1988640"/>
            <a:ext cx="354888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1547280" y="417132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9AFD3DF-69A6-4C45-B2AA-CADEF58E5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1547280" y="1988640"/>
            <a:ext cx="354888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5274000" y="198864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5274000" y="417132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6C684ED-9DF7-4011-BEC8-D42A49FEF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1547280" y="198864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5274000" y="198864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1547280" y="4171320"/>
            <a:ext cx="727236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1949CAB-F6D2-49A9-ACD2-238F7293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47280" y="198864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74000" y="1988640"/>
            <a:ext cx="354888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47280" y="417132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12A756-03CC-442E-AE87-A5F284036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1547280" y="1988640"/>
            <a:ext cx="727236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1547280" y="4171320"/>
            <a:ext cx="727236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88F84A0-8C0C-4E87-B5A0-E4B36B3EC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1547280" y="198864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5274000" y="198864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1547280" y="417132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5274000" y="417132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6A23893-7D4D-4C9D-BBE5-31AF2BEDC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1547280" y="1988640"/>
            <a:ext cx="234144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006080" y="1988640"/>
            <a:ext cx="234144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465240" y="1988640"/>
            <a:ext cx="234144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1547280" y="4171320"/>
            <a:ext cx="234144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14" name="PlaceHolder 6"/>
          <p:cNvSpPr>
            <a:spLocks noGrp="1"/>
          </p:cNvSpPr>
          <p:nvPr>
            <p:ph/>
          </p:nvPr>
        </p:nvSpPr>
        <p:spPr>
          <a:xfrm>
            <a:off x="4006080" y="4171320"/>
            <a:ext cx="234144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15" name="PlaceHolder 7"/>
          <p:cNvSpPr>
            <a:spLocks noGrp="1"/>
          </p:cNvSpPr>
          <p:nvPr>
            <p:ph/>
          </p:nvPr>
        </p:nvSpPr>
        <p:spPr>
          <a:xfrm>
            <a:off x="6465240" y="4171320"/>
            <a:ext cx="234144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E6EDA16-C4B8-4413-8C60-ED8C30AD0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47280" y="1988640"/>
            <a:ext cx="727236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55C34-B863-49CC-AE22-53F1324A31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47280" y="1988640"/>
            <a:ext cx="354888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74000" y="198864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274000" y="417132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3C649F-EF62-4D2B-BFCF-5CC8EC84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47280" y="198864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74000" y="198864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47280" y="4171320"/>
            <a:ext cx="727236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A88F15-6929-47DD-A76B-F901A467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47280" y="1988640"/>
            <a:ext cx="727236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547280" y="4171320"/>
            <a:ext cx="727236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0ECEB9-15B4-44F7-9275-44BEFC3E7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47280" y="198864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74000" y="198864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547280" y="417132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274000" y="417132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D01E71-06E6-455C-A545-FD79EB77D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47280" y="1988640"/>
            <a:ext cx="234144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06080" y="1988640"/>
            <a:ext cx="234144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465240" y="1988640"/>
            <a:ext cx="234144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547280" y="4171320"/>
            <a:ext cx="234144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06080" y="4171320"/>
            <a:ext cx="234144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465240" y="4171320"/>
            <a:ext cx="234144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4CF3C1-8EDF-41E3-B30B-1BA19376D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4214A3-1552-4C51-B204-F8B404247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547280" y="1988640"/>
            <a:ext cx="727236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5679F1-F1C7-4001-B722-E561732EE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47280" y="1988640"/>
            <a:ext cx="727236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26B0F4-C9A9-42AE-8F0C-8FB61E1E1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47280" y="1988640"/>
            <a:ext cx="354888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74000" y="1988640"/>
            <a:ext cx="354888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458D10-6FD1-4257-8E46-F20FA862D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4F05BF-FF75-4918-906C-1AF3866E1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47280" y="1988640"/>
            <a:ext cx="727236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68C09-BBDB-47F4-BA0F-ED54A4290B1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547280" y="1125000"/>
            <a:ext cx="72723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584629-73B3-42C0-96D6-D71CC5DFA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47280" y="198864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74000" y="1988640"/>
            <a:ext cx="354888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547280" y="417132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056F44-F028-4044-A8C6-F4D3D3EF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47280" y="1988640"/>
            <a:ext cx="354888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74000" y="198864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274000" y="417132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FCADB9-366C-4653-9CBA-8FCB6AD9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47280" y="198864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74000" y="198864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547280" y="4171320"/>
            <a:ext cx="727236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EDB7CE-D0ED-499D-B37E-2FCC6A34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47280" y="1988640"/>
            <a:ext cx="727236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547280" y="4171320"/>
            <a:ext cx="727236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4E927A-1F21-4462-B1E9-98CDCF0B7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47280" y="198864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74000" y="198864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547280" y="417132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274000" y="417132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D1F745-A544-423A-BFB9-D5CA43416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47280" y="1988640"/>
            <a:ext cx="234144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006080" y="1988640"/>
            <a:ext cx="234144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465240" y="1988640"/>
            <a:ext cx="234144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547280" y="4171320"/>
            <a:ext cx="234144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4006080" y="4171320"/>
            <a:ext cx="234144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465240" y="4171320"/>
            <a:ext cx="234144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389530-378E-48C9-942E-F96B165B8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A10030-8CE2-4103-B768-33B87A104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547280" y="1988640"/>
            <a:ext cx="727236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45A467-FDF7-4A33-BBF9-B023F8628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47280" y="1988640"/>
            <a:ext cx="727236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EE8987-1359-4466-907A-B32C49FF2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47280" y="1988640"/>
            <a:ext cx="354888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74000" y="1988640"/>
            <a:ext cx="354888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0F98B-0B6B-485B-B04F-1EB79EDC9FD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47280" y="1988640"/>
            <a:ext cx="354888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274000" y="1988640"/>
            <a:ext cx="354888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78A5D1-8909-4C71-B4EA-2E0398F74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49A78B-2BC6-455A-910B-218968281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1547280" y="1125000"/>
            <a:ext cx="72723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5599DE-A12F-47D3-9AE6-BE4BD9ECA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47280" y="198864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274000" y="1988640"/>
            <a:ext cx="354888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547280" y="417132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827A53-01FA-4233-A085-001BF2845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47280" y="1988640"/>
            <a:ext cx="354888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274000" y="198864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274000" y="417132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860F16-2A0E-4414-8F5C-204F27CE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47280" y="198864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274000" y="198864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547280" y="4171320"/>
            <a:ext cx="727236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A23D49-7020-4D90-8E78-C59ACF1F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47280" y="1988640"/>
            <a:ext cx="727236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1547280" y="4171320"/>
            <a:ext cx="727236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380E4D-9AC3-4272-8BA8-573035C44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47280" y="198864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274000" y="198864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547280" y="417132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274000" y="417132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AE80A6-2821-46CD-B011-0ECA18AC2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47280" y="1988640"/>
            <a:ext cx="234144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06080" y="1988640"/>
            <a:ext cx="234144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465240" y="1988640"/>
            <a:ext cx="234144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1547280" y="4171320"/>
            <a:ext cx="234144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4006080" y="4171320"/>
            <a:ext cx="234144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465240" y="4171320"/>
            <a:ext cx="234144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ECD1D6-F848-4B11-A082-07C018858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5103085-F95D-42CD-8F21-DCD420DB3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62FE2-D4E9-4CAE-A211-F87439553AA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547280" y="1988640"/>
            <a:ext cx="727236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CD07D1-3E2A-4C57-8D31-6DCBA8FB0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47280" y="1988640"/>
            <a:ext cx="727236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A3C371A-EAF1-4108-92C3-1F791A892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47280" y="1988640"/>
            <a:ext cx="354888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274000" y="1988640"/>
            <a:ext cx="354888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78D22FA-E31E-4B74-A1BB-1650AD922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89A3931-17C6-4BAC-9C37-0972DBEEC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1547280" y="1125000"/>
            <a:ext cx="72723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A901A8D-0679-446B-BC92-BE58C5BB5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47280" y="198864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274000" y="1988640"/>
            <a:ext cx="354888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547280" y="417132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67D119B-1FB6-4FC3-9CCA-E23E4FE60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547280" y="1988640"/>
            <a:ext cx="354888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274000" y="198864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274000" y="417132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E088C4E-2524-404D-9499-CE8F71D2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547280" y="198864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274000" y="198864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547280" y="4171320"/>
            <a:ext cx="727236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AF41EB9-EBE5-4496-B4E0-7667D35D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547280" y="1988640"/>
            <a:ext cx="727236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1547280" y="4171320"/>
            <a:ext cx="727236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C709167-8829-4647-AE27-F54FE9A46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547280" y="198864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274000" y="198864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1547280" y="417132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5274000" y="417132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2A6B057-F13E-4E33-BAD8-878FF0899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47280" y="1125000"/>
            <a:ext cx="72723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18C25-A753-4F78-A331-58BDE6B551F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547280" y="1988640"/>
            <a:ext cx="234144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006080" y="1988640"/>
            <a:ext cx="234144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465240" y="1988640"/>
            <a:ext cx="234144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1547280" y="4171320"/>
            <a:ext cx="234144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4006080" y="4171320"/>
            <a:ext cx="234144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465240" y="4171320"/>
            <a:ext cx="234144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1BD8A47-585D-4621-A9FD-14E466C6B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F9EE471-4DE3-4CCF-91EA-17A065782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1547280" y="1988640"/>
            <a:ext cx="727236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3E3767F-B0AE-4563-87E1-014C57BA8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547280" y="1988640"/>
            <a:ext cx="727236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C7D1D7C-05E9-4A72-8492-CB47C0404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547280" y="1988640"/>
            <a:ext cx="354888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74000" y="1988640"/>
            <a:ext cx="354888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9294D99-C538-4CF6-89E0-277BCC307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D7E457B-E3B9-40E7-B725-720D39B89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547280" y="1125000"/>
            <a:ext cx="72723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B8D633B-1022-43CB-9A79-2C29CF28C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547280" y="198864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274000" y="1988640"/>
            <a:ext cx="354888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547280" y="417132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29107F2-CE11-4B34-9974-651A1E7FA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547280" y="1988640"/>
            <a:ext cx="354888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274000" y="198864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274000" y="417132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1E992FD-ECA1-4310-A40E-6730608F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547280" y="198864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274000" y="198864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1547280" y="4171320"/>
            <a:ext cx="727236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9EF0CB3-99A7-42E0-AF80-0A56E5C7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47280" y="198864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4000" y="1988640"/>
            <a:ext cx="354888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47280" y="417132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EF86C-D04D-4C55-BA4B-E6DE877DBFB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547280" y="1988640"/>
            <a:ext cx="727236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1547280" y="4171320"/>
            <a:ext cx="727236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FBD3455-E1B4-4A6E-A60C-F76B08A64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547280" y="198864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274000" y="198864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547280" y="417132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5274000" y="417132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2E75F63-1475-4212-80D5-C7755A25C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547280" y="1988640"/>
            <a:ext cx="234144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006080" y="1988640"/>
            <a:ext cx="234144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465240" y="1988640"/>
            <a:ext cx="234144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1547280" y="4171320"/>
            <a:ext cx="234144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4006080" y="4171320"/>
            <a:ext cx="234144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465240" y="4171320"/>
            <a:ext cx="234144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6C90844-45FF-4C92-8630-4AAFD1EBF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9FED00E-2B1A-4FA1-8248-67C134FCF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1547280" y="1988640"/>
            <a:ext cx="727236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6F2DF45-658F-430E-9F19-934AA0AE2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547280" y="1988640"/>
            <a:ext cx="727236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24CE4DE-73EA-436A-8FD9-762E1F146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547280" y="1988640"/>
            <a:ext cx="354888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274000" y="1988640"/>
            <a:ext cx="354888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03D7721-60E8-46EF-9534-E325747C2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3670FBC-DD93-40B2-8B85-F41072850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1547280" y="1125000"/>
            <a:ext cx="72723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7519C95-2B27-4C12-A225-F85923108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547280" y="198864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274000" y="1988640"/>
            <a:ext cx="354888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1547280" y="417132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979D304-1E60-4098-8B00-434AA2C37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47280" y="1988640"/>
            <a:ext cx="354888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74000" y="198864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74000" y="417132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86EC2-6F08-4A62-B5F5-8879B093839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547280" y="1988640"/>
            <a:ext cx="354888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274000" y="198864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274000" y="417132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6D778F4-846D-4826-BDA0-2C15B386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547280" y="198864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274000" y="198864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547280" y="4171320"/>
            <a:ext cx="727236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F6CB765-B955-47F6-BEF4-07422BAD0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547280" y="1988640"/>
            <a:ext cx="727236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1547280" y="4171320"/>
            <a:ext cx="727236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F1C59BC-2080-45C7-99FE-2B82530D1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547280" y="198864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4000" y="198864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547280" y="417132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5274000" y="417132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27EDD93-6FD6-475B-84C6-CE4BA57F2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547280" y="1988640"/>
            <a:ext cx="234144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006080" y="1988640"/>
            <a:ext cx="234144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465240" y="1988640"/>
            <a:ext cx="234144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1547280" y="4171320"/>
            <a:ext cx="234144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4006080" y="4171320"/>
            <a:ext cx="234144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465240" y="4171320"/>
            <a:ext cx="234144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D0D663D-F05D-4DA2-A95D-C5323CA06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F43F808-FCEF-4673-86F4-1797DD1BA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1547280" y="1988640"/>
            <a:ext cx="727236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95FAF77-F337-4D1E-A34D-877828B93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547280" y="1988640"/>
            <a:ext cx="727236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25B706C-3A06-418F-9383-55BA171EC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547280" y="1988640"/>
            <a:ext cx="354888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274000" y="1988640"/>
            <a:ext cx="354888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9E81CF5-CB05-48D2-9822-35F2B66B6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03649F0-3AED-43D8-8EEB-A5F62F2C6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47280" y="198864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4000" y="198864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47280" y="4171320"/>
            <a:ext cx="727236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AEF14-2C4E-4F89-A3ED-05E0AA4D11BA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1547280" y="1125000"/>
            <a:ext cx="72723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EC4C8C2-6F66-4F6F-810C-3B12C7B7D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547280" y="198864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274000" y="1988640"/>
            <a:ext cx="354888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1547280" y="417132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75C8F42-EBCF-41BA-AF31-FD335AE7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547280" y="1988640"/>
            <a:ext cx="354888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274000" y="198864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274000" y="417132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2A04F69-BE5E-4A98-875A-AAA74DAC8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547280" y="198864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274000" y="198864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1547280" y="4171320"/>
            <a:ext cx="727236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FEBBAEA-2E3C-4158-80B3-D5153880C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547280" y="1988640"/>
            <a:ext cx="727236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1547280" y="4171320"/>
            <a:ext cx="727236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E01B912-7BA6-4541-8F5F-4AEF31A91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547280" y="198864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274000" y="198864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1547280" y="417132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5274000" y="4171320"/>
            <a:ext cx="3548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7FA13C5-6B0A-46FE-869D-446E93ACD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547280" y="1988640"/>
            <a:ext cx="234144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006080" y="1988640"/>
            <a:ext cx="234144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465240" y="1988640"/>
            <a:ext cx="234144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1547280" y="4171320"/>
            <a:ext cx="234144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4006080" y="4171320"/>
            <a:ext cx="234144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465240" y="4171320"/>
            <a:ext cx="234144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AA4DD93-32D6-4F79-8490-140C2A5F7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C13F62-1DC4-47B6-A970-A0927F99F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1547280" y="1988640"/>
            <a:ext cx="727236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A73DD2-1322-4BFB-98DB-2748F3726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547280" y="1988640"/>
            <a:ext cx="727236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9EF514-5649-473E-A715-A94B264AC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00060"/>
                </a:solidFill>
                <a:latin typeface="华文行楷"/>
              </a:rPr>
              <a:t>Click to edit the title text format</a:t>
            </a: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47280" y="1988640"/>
            <a:ext cx="727236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87708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A2EAA-EFE6-43BC-986C-01D4E696536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8"/>
          <p:cNvSpPr/>
          <p:nvPr/>
        </p:nvSpPr>
        <p:spPr>
          <a:xfrm>
            <a:off x="1476360" y="1052640"/>
            <a:ext cx="0" cy="5805360"/>
          </a:xfrm>
          <a:prstGeom prst="line">
            <a:avLst/>
          </a:prstGeom>
          <a:ln w="57240">
            <a:solidFill>
              <a:srgbClr val="900b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Line 9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57240">
            <a:solidFill>
              <a:srgbClr val="900b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" name="Picture 10" descr="清华大学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0" y="1484280"/>
            <a:ext cx="1403280" cy="439920"/>
          </a:xfrm>
          <a:prstGeom prst="rect">
            <a:avLst/>
          </a:prstGeom>
          <a:ln w="0">
            <a:noFill/>
          </a:ln>
        </p:spPr>
      </p:pic>
      <p:sp>
        <p:nvSpPr>
          <p:cNvPr id="6" name="Text Box 11"/>
          <p:cNvSpPr/>
          <p:nvPr/>
        </p:nvSpPr>
        <p:spPr>
          <a:xfrm>
            <a:off x="0" y="5357880"/>
            <a:ext cx="14032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Comic Sans MS"/>
              </a:rPr>
              <a:t>1</a:t>
            </a:r>
            <a:r>
              <a:rPr b="1" lang="en-US" sz="1400" spc="-1" strike="noStrike" baseline="30000">
                <a:solidFill>
                  <a:srgbClr val="cc00cc"/>
                </a:solidFill>
                <a:latin typeface="Comic Sans MS"/>
              </a:rPr>
              <a:t>st </a:t>
            </a:r>
            <a:r>
              <a:rPr b="1" lang="en-US" sz="1400" spc="-1" strike="noStrike">
                <a:solidFill>
                  <a:srgbClr val="cc00cc"/>
                </a:solidFill>
                <a:latin typeface="Comic Sans MS"/>
              </a:rPr>
              <a:t> international symposium on solar sailin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Line 8"/>
          <p:cNvSpPr/>
          <p:nvPr/>
        </p:nvSpPr>
        <p:spPr>
          <a:xfrm>
            <a:off x="1476360" y="1052640"/>
            <a:ext cx="0" cy="5805360"/>
          </a:xfrm>
          <a:prstGeom prst="line">
            <a:avLst/>
          </a:prstGeom>
          <a:ln w="57240">
            <a:solidFill>
              <a:srgbClr val="900b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Line 9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57240">
            <a:solidFill>
              <a:srgbClr val="900b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03" name="Picture 10" descr="清华大学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0" y="1484280"/>
            <a:ext cx="1403280" cy="439920"/>
          </a:xfrm>
          <a:prstGeom prst="rect">
            <a:avLst/>
          </a:prstGeom>
          <a:ln w="0">
            <a:noFill/>
          </a:ln>
        </p:spPr>
      </p:pic>
      <p:sp>
        <p:nvSpPr>
          <p:cNvPr id="404" name="Text Box 11"/>
          <p:cNvSpPr/>
          <p:nvPr/>
        </p:nvSpPr>
        <p:spPr>
          <a:xfrm>
            <a:off x="0" y="5357880"/>
            <a:ext cx="14032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Comic Sans MS"/>
              </a:rPr>
              <a:t>1</a:t>
            </a:r>
            <a:r>
              <a:rPr b="1" lang="en-US" sz="1400" spc="-1" strike="noStrike" baseline="30000">
                <a:solidFill>
                  <a:srgbClr val="cc00cc"/>
                </a:solidFill>
                <a:latin typeface="Comic Sans MS"/>
              </a:rPr>
              <a:t>st </a:t>
            </a:r>
            <a:r>
              <a:rPr b="1" lang="en-US" sz="1400" spc="-1" strike="noStrike">
                <a:solidFill>
                  <a:srgbClr val="cc00cc"/>
                </a:solidFill>
                <a:latin typeface="Comic Sans MS"/>
              </a:rPr>
              <a:t> international symposium on solar sailin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00060"/>
                </a:solidFill>
                <a:latin typeface="华文行楷"/>
              </a:rPr>
              <a:t>Click to edit the title text format</a:t>
            </a: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1547280" y="1988640"/>
            <a:ext cx="727236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6"/>
          </p:nvPr>
        </p:nvSpPr>
        <p:spPr>
          <a:xfrm>
            <a:off x="154764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B621B-5F7B-4099-8520-3E3C61735AF7}" type="datetime2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026年7月29日 星期三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7"/>
          </p:nvPr>
        </p:nvSpPr>
        <p:spPr>
          <a:xfrm>
            <a:off x="3779640" y="6237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清华大学自动化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8"/>
          </p:nvPr>
        </p:nvSpPr>
        <p:spPr>
          <a:xfrm>
            <a:off x="687708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30FF5-4170-41CE-8307-7B7C97FF7FB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Line 8"/>
          <p:cNvSpPr/>
          <p:nvPr/>
        </p:nvSpPr>
        <p:spPr>
          <a:xfrm>
            <a:off x="1476360" y="1052640"/>
            <a:ext cx="0" cy="5805360"/>
          </a:xfrm>
          <a:prstGeom prst="line">
            <a:avLst/>
          </a:prstGeom>
          <a:ln w="57240">
            <a:solidFill>
              <a:srgbClr val="900b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Line 9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57240">
            <a:solidFill>
              <a:srgbClr val="900b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8" name="Picture 10" descr="清华大学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0" y="1484280"/>
            <a:ext cx="1403280" cy="439920"/>
          </a:xfrm>
          <a:prstGeom prst="rect">
            <a:avLst/>
          </a:prstGeom>
          <a:ln w="0">
            <a:noFill/>
          </a:ln>
        </p:spPr>
      </p:pic>
      <p:sp>
        <p:nvSpPr>
          <p:cNvPr id="449" name="Text Box 11"/>
          <p:cNvSpPr/>
          <p:nvPr/>
        </p:nvSpPr>
        <p:spPr>
          <a:xfrm>
            <a:off x="0" y="5357880"/>
            <a:ext cx="14032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Comic Sans MS"/>
              </a:rPr>
              <a:t>1</a:t>
            </a:r>
            <a:r>
              <a:rPr b="1" lang="en-US" sz="1400" spc="-1" strike="noStrike" baseline="30000">
                <a:solidFill>
                  <a:srgbClr val="cc00cc"/>
                </a:solidFill>
                <a:latin typeface="Comic Sans MS"/>
              </a:rPr>
              <a:t>st </a:t>
            </a:r>
            <a:r>
              <a:rPr b="1" lang="en-US" sz="1400" spc="-1" strike="noStrike">
                <a:solidFill>
                  <a:srgbClr val="cc00cc"/>
                </a:solidFill>
                <a:latin typeface="Comic Sans MS"/>
              </a:rPr>
              <a:t> international symposium on solar sailin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00060"/>
                </a:solidFill>
                <a:latin typeface="华文行楷"/>
              </a:rPr>
              <a:t>Click to edit the title text format</a:t>
            </a: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1547280" y="1988640"/>
            <a:ext cx="727236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29"/>
          </p:nvPr>
        </p:nvSpPr>
        <p:spPr>
          <a:xfrm>
            <a:off x="154764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BDE59-C10B-4C0F-B866-7CCF2F7C5CE0}" type="datetime2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026年7月29日 星期三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30"/>
          </p:nvPr>
        </p:nvSpPr>
        <p:spPr>
          <a:xfrm>
            <a:off x="3779640" y="6237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清华大学自动化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31"/>
          </p:nvPr>
        </p:nvSpPr>
        <p:spPr>
          <a:xfrm>
            <a:off x="687708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8E463-E5F2-4763-916A-67FDA5CC35B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Line 8"/>
          <p:cNvSpPr/>
          <p:nvPr/>
        </p:nvSpPr>
        <p:spPr>
          <a:xfrm>
            <a:off x="1476360" y="1052640"/>
            <a:ext cx="0" cy="5805360"/>
          </a:xfrm>
          <a:prstGeom prst="line">
            <a:avLst/>
          </a:prstGeom>
          <a:ln w="57240">
            <a:solidFill>
              <a:srgbClr val="900b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Line 9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57240">
            <a:solidFill>
              <a:srgbClr val="900b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93" name="Picture 10" descr="清华大学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0" y="1484280"/>
            <a:ext cx="1403280" cy="439920"/>
          </a:xfrm>
          <a:prstGeom prst="rect">
            <a:avLst/>
          </a:prstGeom>
          <a:ln w="0">
            <a:noFill/>
          </a:ln>
        </p:spPr>
      </p:pic>
      <p:sp>
        <p:nvSpPr>
          <p:cNvPr id="494" name="Text Box 11"/>
          <p:cNvSpPr/>
          <p:nvPr/>
        </p:nvSpPr>
        <p:spPr>
          <a:xfrm>
            <a:off x="0" y="5357880"/>
            <a:ext cx="14032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Comic Sans MS"/>
              </a:rPr>
              <a:t>1</a:t>
            </a:r>
            <a:r>
              <a:rPr b="1" lang="en-US" sz="1400" spc="-1" strike="noStrike" baseline="30000">
                <a:solidFill>
                  <a:srgbClr val="cc00cc"/>
                </a:solidFill>
                <a:latin typeface="Comic Sans MS"/>
              </a:rPr>
              <a:t>st </a:t>
            </a:r>
            <a:r>
              <a:rPr b="1" lang="en-US" sz="1400" spc="-1" strike="noStrike">
                <a:solidFill>
                  <a:srgbClr val="cc00cc"/>
                </a:solidFill>
                <a:latin typeface="Comic Sans MS"/>
              </a:rPr>
              <a:t> international symposium on solar sailin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00060"/>
                </a:solidFill>
                <a:latin typeface="华文行楷"/>
              </a:rPr>
              <a:t>Click to edit the title text format</a:t>
            </a: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1547280" y="1988640"/>
            <a:ext cx="727236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2"/>
          </p:nvPr>
        </p:nvSpPr>
        <p:spPr>
          <a:xfrm>
            <a:off x="154764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75BEF-6C27-433C-8C3F-92551AEC57BA}" type="datetime2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026年7月29日 星期三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3"/>
          </p:nvPr>
        </p:nvSpPr>
        <p:spPr>
          <a:xfrm>
            <a:off x="3779640" y="6237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清华大学自动化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4"/>
          </p:nvPr>
        </p:nvSpPr>
        <p:spPr>
          <a:xfrm>
            <a:off x="687708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BEDE2-EED5-4B6A-9841-857BCCBC7D7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Line 8"/>
          <p:cNvSpPr/>
          <p:nvPr/>
        </p:nvSpPr>
        <p:spPr>
          <a:xfrm>
            <a:off x="1476360" y="1052640"/>
            <a:ext cx="0" cy="5805360"/>
          </a:xfrm>
          <a:prstGeom prst="line">
            <a:avLst/>
          </a:prstGeom>
          <a:ln w="57240">
            <a:solidFill>
              <a:srgbClr val="900b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Line 9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57240">
            <a:solidFill>
              <a:srgbClr val="900b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38" name="Picture 10" descr="清华大学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0" y="1484280"/>
            <a:ext cx="1403280" cy="439920"/>
          </a:xfrm>
          <a:prstGeom prst="rect">
            <a:avLst/>
          </a:prstGeom>
          <a:ln w="0">
            <a:noFill/>
          </a:ln>
        </p:spPr>
      </p:pic>
      <p:sp>
        <p:nvSpPr>
          <p:cNvPr id="539" name="Text Box 11"/>
          <p:cNvSpPr/>
          <p:nvPr/>
        </p:nvSpPr>
        <p:spPr>
          <a:xfrm>
            <a:off x="0" y="5357880"/>
            <a:ext cx="14032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Comic Sans MS"/>
              </a:rPr>
              <a:t>1</a:t>
            </a:r>
            <a:r>
              <a:rPr b="1" lang="en-US" sz="1400" spc="-1" strike="noStrike" baseline="30000">
                <a:solidFill>
                  <a:srgbClr val="cc00cc"/>
                </a:solidFill>
                <a:latin typeface="Comic Sans MS"/>
              </a:rPr>
              <a:t>st </a:t>
            </a:r>
            <a:r>
              <a:rPr b="1" lang="en-US" sz="1400" spc="-1" strike="noStrike">
                <a:solidFill>
                  <a:srgbClr val="cc00cc"/>
                </a:solidFill>
                <a:latin typeface="Comic Sans MS"/>
              </a:rPr>
              <a:t> international symposium on solar sailin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00060"/>
                </a:solidFill>
                <a:latin typeface="华文行楷"/>
              </a:rPr>
              <a:t>Click to edit the title text format</a:t>
            </a: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1547280" y="1988640"/>
            <a:ext cx="727236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 type="dt" idx="35"/>
          </p:nvPr>
        </p:nvSpPr>
        <p:spPr>
          <a:xfrm>
            <a:off x="154764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8C208-64F9-46CB-9793-CB3AA7E59883}" type="datetime2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026年7月29日 星期三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 type="ftr" idx="36"/>
          </p:nvPr>
        </p:nvSpPr>
        <p:spPr>
          <a:xfrm>
            <a:off x="3779640" y="6237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清华大学自动化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 type="sldNum" idx="37"/>
          </p:nvPr>
        </p:nvSpPr>
        <p:spPr>
          <a:xfrm>
            <a:off x="687708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06927-729C-4438-9C7F-15FA53067EC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Line 8"/>
          <p:cNvSpPr/>
          <p:nvPr/>
        </p:nvSpPr>
        <p:spPr>
          <a:xfrm>
            <a:off x="1476360" y="1052640"/>
            <a:ext cx="0" cy="5805360"/>
          </a:xfrm>
          <a:prstGeom prst="line">
            <a:avLst/>
          </a:prstGeom>
          <a:ln w="57240">
            <a:solidFill>
              <a:srgbClr val="900b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Line 9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57240">
            <a:solidFill>
              <a:srgbClr val="900b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83" name="Picture 10" descr="清华大学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0" y="1484280"/>
            <a:ext cx="1403280" cy="439920"/>
          </a:xfrm>
          <a:prstGeom prst="rect">
            <a:avLst/>
          </a:prstGeom>
          <a:ln w="0">
            <a:noFill/>
          </a:ln>
        </p:spPr>
      </p:pic>
      <p:sp>
        <p:nvSpPr>
          <p:cNvPr id="584" name="Text Box 11"/>
          <p:cNvSpPr/>
          <p:nvPr/>
        </p:nvSpPr>
        <p:spPr>
          <a:xfrm>
            <a:off x="0" y="5357880"/>
            <a:ext cx="14032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Comic Sans MS"/>
              </a:rPr>
              <a:t>1</a:t>
            </a:r>
            <a:r>
              <a:rPr b="1" lang="en-US" sz="1400" spc="-1" strike="noStrike" baseline="30000">
                <a:solidFill>
                  <a:srgbClr val="cc00cc"/>
                </a:solidFill>
                <a:latin typeface="Comic Sans MS"/>
              </a:rPr>
              <a:t>st </a:t>
            </a:r>
            <a:r>
              <a:rPr b="1" lang="en-US" sz="1400" spc="-1" strike="noStrike">
                <a:solidFill>
                  <a:srgbClr val="cc00cc"/>
                </a:solidFill>
                <a:latin typeface="Comic Sans MS"/>
              </a:rPr>
              <a:t> international symposium on solar sailin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00060"/>
                </a:solidFill>
                <a:latin typeface="华文行楷"/>
              </a:rPr>
              <a:t>Click to edit the title text format</a:t>
            </a: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1547280" y="1988640"/>
            <a:ext cx="727236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dt" idx="38"/>
          </p:nvPr>
        </p:nvSpPr>
        <p:spPr>
          <a:xfrm>
            <a:off x="154764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B95A3-ED3A-4339-B6C9-54D8BC0368F3}" type="datetime2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026年7月29日 星期三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ftr" idx="39"/>
          </p:nvPr>
        </p:nvSpPr>
        <p:spPr>
          <a:xfrm>
            <a:off x="3779640" y="6237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清华大学自动化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 type="sldNum" idx="40"/>
          </p:nvPr>
        </p:nvSpPr>
        <p:spPr>
          <a:xfrm>
            <a:off x="687708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0D89E-D1A4-472F-8B46-506B0E0AB5A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Line 8"/>
          <p:cNvSpPr/>
          <p:nvPr/>
        </p:nvSpPr>
        <p:spPr>
          <a:xfrm>
            <a:off x="1476360" y="1052640"/>
            <a:ext cx="0" cy="5805360"/>
          </a:xfrm>
          <a:prstGeom prst="line">
            <a:avLst/>
          </a:prstGeom>
          <a:ln w="57240">
            <a:solidFill>
              <a:srgbClr val="900b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7" name="Line 9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57240">
            <a:solidFill>
              <a:srgbClr val="900b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28" name="Picture 10" descr="清华大学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0" y="1484280"/>
            <a:ext cx="1403280" cy="439920"/>
          </a:xfrm>
          <a:prstGeom prst="rect">
            <a:avLst/>
          </a:prstGeom>
          <a:ln w="0">
            <a:noFill/>
          </a:ln>
        </p:spPr>
      </p:pic>
      <p:sp>
        <p:nvSpPr>
          <p:cNvPr id="629" name="Text Box 11"/>
          <p:cNvSpPr/>
          <p:nvPr/>
        </p:nvSpPr>
        <p:spPr>
          <a:xfrm>
            <a:off x="0" y="5357880"/>
            <a:ext cx="14032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Comic Sans MS"/>
              </a:rPr>
              <a:t>1</a:t>
            </a:r>
            <a:r>
              <a:rPr b="1" lang="en-US" sz="1400" spc="-1" strike="noStrike" baseline="30000">
                <a:solidFill>
                  <a:srgbClr val="cc00cc"/>
                </a:solidFill>
                <a:latin typeface="Comic Sans MS"/>
              </a:rPr>
              <a:t>st </a:t>
            </a:r>
            <a:r>
              <a:rPr b="1" lang="en-US" sz="1400" spc="-1" strike="noStrike">
                <a:solidFill>
                  <a:srgbClr val="cc00cc"/>
                </a:solidFill>
                <a:latin typeface="Comic Sans MS"/>
              </a:rPr>
              <a:t> international symposium on solar sailin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00060"/>
                </a:solidFill>
                <a:latin typeface="华文行楷"/>
              </a:rPr>
              <a:t>Click to edit the title text format</a:t>
            </a: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1547280" y="1988640"/>
            <a:ext cx="727236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 type="dt" idx="41"/>
          </p:nvPr>
        </p:nvSpPr>
        <p:spPr>
          <a:xfrm>
            <a:off x="154764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86231-CA74-4B05-919C-A87CCC46DD99}" type="datetime2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026年7月29日 星期三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 type="ftr" idx="42"/>
          </p:nvPr>
        </p:nvSpPr>
        <p:spPr>
          <a:xfrm>
            <a:off x="3779640" y="6237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清华大学自动化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 type="sldNum" idx="43"/>
          </p:nvPr>
        </p:nvSpPr>
        <p:spPr>
          <a:xfrm>
            <a:off x="687708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1D65B-239D-42DB-9DBA-B6BB3290296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Line 8"/>
          <p:cNvSpPr/>
          <p:nvPr/>
        </p:nvSpPr>
        <p:spPr>
          <a:xfrm>
            <a:off x="1476360" y="1052640"/>
            <a:ext cx="0" cy="5805360"/>
          </a:xfrm>
          <a:prstGeom prst="line">
            <a:avLst/>
          </a:prstGeom>
          <a:ln w="57240">
            <a:solidFill>
              <a:srgbClr val="900b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Line 9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57240">
            <a:solidFill>
              <a:srgbClr val="900b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73" name="Picture 10" descr="清华大学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0" y="1484280"/>
            <a:ext cx="1403280" cy="439920"/>
          </a:xfrm>
          <a:prstGeom prst="rect">
            <a:avLst/>
          </a:prstGeom>
          <a:ln w="0">
            <a:noFill/>
          </a:ln>
        </p:spPr>
      </p:pic>
      <p:sp>
        <p:nvSpPr>
          <p:cNvPr id="674" name="Text Box 11"/>
          <p:cNvSpPr/>
          <p:nvPr/>
        </p:nvSpPr>
        <p:spPr>
          <a:xfrm>
            <a:off x="0" y="5357880"/>
            <a:ext cx="14032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Comic Sans MS"/>
              </a:rPr>
              <a:t>1</a:t>
            </a:r>
            <a:r>
              <a:rPr b="1" lang="en-US" sz="1400" spc="-1" strike="noStrike" baseline="30000">
                <a:solidFill>
                  <a:srgbClr val="cc00cc"/>
                </a:solidFill>
                <a:latin typeface="Comic Sans MS"/>
              </a:rPr>
              <a:t>st </a:t>
            </a:r>
            <a:r>
              <a:rPr b="1" lang="en-US" sz="1400" spc="-1" strike="noStrike">
                <a:solidFill>
                  <a:srgbClr val="cc00cc"/>
                </a:solidFill>
                <a:latin typeface="Comic Sans MS"/>
              </a:rPr>
              <a:t> international symposium on solar sailin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00060"/>
                </a:solidFill>
                <a:latin typeface="华文行楷"/>
              </a:rPr>
              <a:t>Click to edit the title text format</a:t>
            </a: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1547280" y="1988640"/>
            <a:ext cx="727236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 type="dt" idx="44"/>
          </p:nvPr>
        </p:nvSpPr>
        <p:spPr>
          <a:xfrm>
            <a:off x="154764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4F300-7249-4E14-9AD3-E0936960683C}" type="datetime2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026年7月29日 星期三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 type="ftr" idx="45"/>
          </p:nvPr>
        </p:nvSpPr>
        <p:spPr>
          <a:xfrm>
            <a:off x="3779640" y="6237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清华大学自动化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 type="sldNum" idx="46"/>
          </p:nvPr>
        </p:nvSpPr>
        <p:spPr>
          <a:xfrm>
            <a:off x="687708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2229F-B86A-40AE-8E54-BB872B57577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0" y="1908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清华大学"/>
          <p:cNvPicPr/>
          <p:nvPr/>
        </p:nvPicPr>
        <p:blipFill>
          <a:blip r:embed="rId3">
            <a:alphaModFix amt="0"/>
          </a:blip>
          <a:stretch/>
        </p:blipFill>
        <p:spPr>
          <a:xfrm>
            <a:off x="5940360" y="0"/>
            <a:ext cx="3203640" cy="95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00060"/>
                </a:solidFill>
                <a:latin typeface="华文行楷"/>
              </a:rPr>
              <a:t>Click to edit the title text format</a:t>
            </a: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547280" y="1988640"/>
            <a:ext cx="727236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647E8-A1D5-4753-8728-A8FAFD2C0B7F}" type="datetime2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026年7月29日 星期三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清华大学自动化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2C48C-4631-4A7A-B53E-FE93C1F244B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Line 8"/>
          <p:cNvSpPr/>
          <p:nvPr/>
        </p:nvSpPr>
        <p:spPr>
          <a:xfrm>
            <a:off x="1476360" y="1052640"/>
            <a:ext cx="0" cy="5805360"/>
          </a:xfrm>
          <a:prstGeom prst="line">
            <a:avLst/>
          </a:prstGeom>
          <a:ln w="57240">
            <a:solidFill>
              <a:srgbClr val="900b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Line 9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57240">
            <a:solidFill>
              <a:srgbClr val="900b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8" name="Picture 10" descr="清华大学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0" y="1484280"/>
            <a:ext cx="1403280" cy="4399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1"/>
          <p:cNvSpPr/>
          <p:nvPr/>
        </p:nvSpPr>
        <p:spPr>
          <a:xfrm>
            <a:off x="0" y="5357880"/>
            <a:ext cx="14032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Comic Sans MS"/>
              </a:rPr>
              <a:t>1</a:t>
            </a:r>
            <a:r>
              <a:rPr b="1" lang="en-US" sz="1400" spc="-1" strike="noStrike" baseline="30000">
                <a:solidFill>
                  <a:srgbClr val="cc00cc"/>
                </a:solidFill>
                <a:latin typeface="Comic Sans MS"/>
              </a:rPr>
              <a:t>st </a:t>
            </a:r>
            <a:r>
              <a:rPr b="1" lang="en-US" sz="1400" spc="-1" strike="noStrike">
                <a:solidFill>
                  <a:srgbClr val="cc00cc"/>
                </a:solidFill>
                <a:latin typeface="Comic Sans MS"/>
              </a:rPr>
              <a:t> international symposium on solar sailin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00060"/>
                </a:solidFill>
                <a:latin typeface="华文行楷"/>
              </a:rPr>
              <a:t>Click to edit the title text format</a:t>
            </a: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547280" y="1988640"/>
            <a:ext cx="727236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5"/>
          </p:nvPr>
        </p:nvSpPr>
        <p:spPr>
          <a:xfrm>
            <a:off x="154764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C85D6-ECFC-41C1-AB25-0EEC42DF3282}" type="datetime2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026年7月29日 星期三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3779640" y="6237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清华大学自动化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687708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6B9A5-58C0-403E-A043-2D250785B86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Line 8"/>
          <p:cNvSpPr/>
          <p:nvPr/>
        </p:nvSpPr>
        <p:spPr>
          <a:xfrm>
            <a:off x="1476360" y="1052640"/>
            <a:ext cx="0" cy="5805360"/>
          </a:xfrm>
          <a:prstGeom prst="line">
            <a:avLst/>
          </a:prstGeom>
          <a:ln w="57240">
            <a:solidFill>
              <a:srgbClr val="900b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Line 9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57240">
            <a:solidFill>
              <a:srgbClr val="900b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3" name="Picture 10" descr="清华大学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0" y="1484280"/>
            <a:ext cx="1403280" cy="4399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1"/>
          <p:cNvSpPr/>
          <p:nvPr/>
        </p:nvSpPr>
        <p:spPr>
          <a:xfrm>
            <a:off x="0" y="5357880"/>
            <a:ext cx="14032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Comic Sans MS"/>
              </a:rPr>
              <a:t>1</a:t>
            </a:r>
            <a:r>
              <a:rPr b="1" lang="en-US" sz="1400" spc="-1" strike="noStrike" baseline="30000">
                <a:solidFill>
                  <a:srgbClr val="cc00cc"/>
                </a:solidFill>
                <a:latin typeface="Comic Sans MS"/>
              </a:rPr>
              <a:t>st </a:t>
            </a:r>
            <a:r>
              <a:rPr b="1" lang="en-US" sz="1400" spc="-1" strike="noStrike">
                <a:solidFill>
                  <a:srgbClr val="cc00cc"/>
                </a:solidFill>
                <a:latin typeface="Comic Sans MS"/>
              </a:rPr>
              <a:t> international symposium on solar sailin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00060"/>
                </a:solidFill>
                <a:latin typeface="华文行楷"/>
              </a:rPr>
              <a:t>Click to edit the title text format</a:t>
            </a: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1547280" y="1988640"/>
            <a:ext cx="727236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154764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FF488-E8CC-4902-B805-CA70E7CE613C}" type="datetime2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026年7月29日 星期三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9"/>
          </p:nvPr>
        </p:nvSpPr>
        <p:spPr>
          <a:xfrm>
            <a:off x="3779640" y="6237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清华大学自动化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0"/>
          </p:nvPr>
        </p:nvSpPr>
        <p:spPr>
          <a:xfrm>
            <a:off x="687708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6D966-2A69-4D1E-A9E2-8B61D613F18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Line 8"/>
          <p:cNvSpPr/>
          <p:nvPr/>
        </p:nvSpPr>
        <p:spPr>
          <a:xfrm>
            <a:off x="1476360" y="1052640"/>
            <a:ext cx="0" cy="5805360"/>
          </a:xfrm>
          <a:prstGeom prst="line">
            <a:avLst/>
          </a:prstGeom>
          <a:ln w="57240">
            <a:solidFill>
              <a:srgbClr val="900b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Line 9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57240">
            <a:solidFill>
              <a:srgbClr val="900b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Picture 10" descr="清华大学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0" y="1484280"/>
            <a:ext cx="1403280" cy="43992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11"/>
          <p:cNvSpPr/>
          <p:nvPr/>
        </p:nvSpPr>
        <p:spPr>
          <a:xfrm>
            <a:off x="0" y="5357880"/>
            <a:ext cx="14032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Comic Sans MS"/>
              </a:rPr>
              <a:t>1</a:t>
            </a:r>
            <a:r>
              <a:rPr b="1" lang="en-US" sz="1400" spc="-1" strike="noStrike" baseline="30000">
                <a:solidFill>
                  <a:srgbClr val="cc00cc"/>
                </a:solidFill>
                <a:latin typeface="Comic Sans MS"/>
              </a:rPr>
              <a:t>st </a:t>
            </a:r>
            <a:r>
              <a:rPr b="1" lang="en-US" sz="1400" spc="-1" strike="noStrike">
                <a:solidFill>
                  <a:srgbClr val="cc00cc"/>
                </a:solidFill>
                <a:latin typeface="Comic Sans MS"/>
              </a:rPr>
              <a:t> international symposium on solar sailin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00060"/>
                </a:solidFill>
                <a:latin typeface="华文行楷"/>
              </a:rPr>
              <a:t>Click to edit the title text format</a:t>
            </a: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1547280" y="1988640"/>
            <a:ext cx="727236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1"/>
          </p:nvPr>
        </p:nvSpPr>
        <p:spPr>
          <a:xfrm>
            <a:off x="154764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F5BF2-397F-451C-942E-062E6A7E5BFE}" type="datetime2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026年7月29日 星期三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2"/>
          </p:nvPr>
        </p:nvSpPr>
        <p:spPr>
          <a:xfrm>
            <a:off x="3779640" y="6237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清华大学自动化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3"/>
          </p:nvPr>
        </p:nvSpPr>
        <p:spPr>
          <a:xfrm>
            <a:off x="687708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C5E91-6610-4DBF-A37A-33A3BC923F6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Line 8"/>
          <p:cNvSpPr/>
          <p:nvPr/>
        </p:nvSpPr>
        <p:spPr>
          <a:xfrm>
            <a:off x="1476360" y="1052640"/>
            <a:ext cx="0" cy="5805360"/>
          </a:xfrm>
          <a:prstGeom prst="line">
            <a:avLst/>
          </a:prstGeom>
          <a:ln w="57240">
            <a:solidFill>
              <a:srgbClr val="900b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Line 9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57240">
            <a:solidFill>
              <a:srgbClr val="900b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3" name="Picture 10" descr="清华大学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0" y="1484280"/>
            <a:ext cx="1403280" cy="43992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11"/>
          <p:cNvSpPr/>
          <p:nvPr/>
        </p:nvSpPr>
        <p:spPr>
          <a:xfrm>
            <a:off x="0" y="5357880"/>
            <a:ext cx="14032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Comic Sans MS"/>
              </a:rPr>
              <a:t>1</a:t>
            </a:r>
            <a:r>
              <a:rPr b="1" lang="en-US" sz="1400" spc="-1" strike="noStrike" baseline="30000">
                <a:solidFill>
                  <a:srgbClr val="cc00cc"/>
                </a:solidFill>
                <a:latin typeface="Comic Sans MS"/>
              </a:rPr>
              <a:t>st </a:t>
            </a:r>
            <a:r>
              <a:rPr b="1" lang="en-US" sz="1400" spc="-1" strike="noStrike">
                <a:solidFill>
                  <a:srgbClr val="cc00cc"/>
                </a:solidFill>
                <a:latin typeface="Comic Sans MS"/>
              </a:rPr>
              <a:t> international symposium on solar sailin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00060"/>
                </a:solidFill>
                <a:latin typeface="华文行楷"/>
              </a:rPr>
              <a:t>Click to edit the title text format</a:t>
            </a: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1547280" y="1988640"/>
            <a:ext cx="727236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4"/>
          </p:nvPr>
        </p:nvSpPr>
        <p:spPr>
          <a:xfrm>
            <a:off x="154764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12111-4F5B-4ED9-9E29-8F516290FB91}" type="datetime2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026年7月29日 星期三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5"/>
          </p:nvPr>
        </p:nvSpPr>
        <p:spPr>
          <a:xfrm>
            <a:off x="3779640" y="6237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清华大学自动化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6"/>
          </p:nvPr>
        </p:nvSpPr>
        <p:spPr>
          <a:xfrm>
            <a:off x="687708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D09A3-72BC-4753-B11D-5AF1BD9ED2D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Line 8"/>
          <p:cNvSpPr/>
          <p:nvPr/>
        </p:nvSpPr>
        <p:spPr>
          <a:xfrm>
            <a:off x="1476360" y="1052640"/>
            <a:ext cx="0" cy="5805360"/>
          </a:xfrm>
          <a:prstGeom prst="line">
            <a:avLst/>
          </a:prstGeom>
          <a:ln w="57240">
            <a:solidFill>
              <a:srgbClr val="900b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Line 9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57240">
            <a:solidFill>
              <a:srgbClr val="900b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8" name="Picture 10" descr="清华大学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0" y="1484280"/>
            <a:ext cx="1403280" cy="43992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11"/>
          <p:cNvSpPr/>
          <p:nvPr/>
        </p:nvSpPr>
        <p:spPr>
          <a:xfrm>
            <a:off x="0" y="5357880"/>
            <a:ext cx="14032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Comic Sans MS"/>
              </a:rPr>
              <a:t>1</a:t>
            </a:r>
            <a:r>
              <a:rPr b="1" lang="en-US" sz="1400" spc="-1" strike="noStrike" baseline="30000">
                <a:solidFill>
                  <a:srgbClr val="cc00cc"/>
                </a:solidFill>
                <a:latin typeface="Comic Sans MS"/>
              </a:rPr>
              <a:t>st </a:t>
            </a:r>
            <a:r>
              <a:rPr b="1" lang="en-US" sz="1400" spc="-1" strike="noStrike">
                <a:solidFill>
                  <a:srgbClr val="cc00cc"/>
                </a:solidFill>
                <a:latin typeface="Comic Sans MS"/>
              </a:rPr>
              <a:t> international symposium on solar sailin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00060"/>
                </a:solidFill>
                <a:latin typeface="华文行楷"/>
              </a:rPr>
              <a:t>Click to edit the title text format</a:t>
            </a: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1547280" y="1988640"/>
            <a:ext cx="727236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7"/>
          </p:nvPr>
        </p:nvSpPr>
        <p:spPr>
          <a:xfrm>
            <a:off x="154764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EEF7D-7A02-4AA3-9D1E-C6973893B35D}" type="datetime2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026年7月29日 星期三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18"/>
          </p:nvPr>
        </p:nvSpPr>
        <p:spPr>
          <a:xfrm>
            <a:off x="3779640" y="6237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清华大学自动化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19"/>
          </p:nvPr>
        </p:nvSpPr>
        <p:spPr>
          <a:xfrm>
            <a:off x="687708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C8C33-9263-4A73-BFB4-CD2C48F1AD5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Line 8"/>
          <p:cNvSpPr/>
          <p:nvPr/>
        </p:nvSpPr>
        <p:spPr>
          <a:xfrm>
            <a:off x="1476360" y="1052640"/>
            <a:ext cx="0" cy="5805360"/>
          </a:xfrm>
          <a:prstGeom prst="line">
            <a:avLst/>
          </a:prstGeom>
          <a:ln w="57240">
            <a:solidFill>
              <a:srgbClr val="900b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Line 9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57240">
            <a:solidFill>
              <a:srgbClr val="900b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13" name="Picture 10" descr="清华大学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0" y="1484280"/>
            <a:ext cx="1403280" cy="43992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11"/>
          <p:cNvSpPr/>
          <p:nvPr/>
        </p:nvSpPr>
        <p:spPr>
          <a:xfrm>
            <a:off x="0" y="5357880"/>
            <a:ext cx="14032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Comic Sans MS"/>
              </a:rPr>
              <a:t>1</a:t>
            </a:r>
            <a:r>
              <a:rPr b="1" lang="en-US" sz="1400" spc="-1" strike="noStrike" baseline="30000">
                <a:solidFill>
                  <a:srgbClr val="cc00cc"/>
                </a:solidFill>
                <a:latin typeface="Comic Sans MS"/>
              </a:rPr>
              <a:t>st </a:t>
            </a:r>
            <a:r>
              <a:rPr b="1" lang="en-US" sz="1400" spc="-1" strike="noStrike">
                <a:solidFill>
                  <a:srgbClr val="cc00cc"/>
                </a:solidFill>
                <a:latin typeface="Comic Sans MS"/>
              </a:rPr>
              <a:t> international symposium on solar sailin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00060"/>
                </a:solidFill>
                <a:latin typeface="华文行楷"/>
              </a:rPr>
              <a:t>Click to edit the title text format</a:t>
            </a: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1547280" y="1988640"/>
            <a:ext cx="727236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20"/>
          </p:nvPr>
        </p:nvSpPr>
        <p:spPr>
          <a:xfrm>
            <a:off x="154764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158B6-C6C2-4B3E-8AF3-F90984281E82}" type="datetime2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026年7月29日 星期三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21"/>
          </p:nvPr>
        </p:nvSpPr>
        <p:spPr>
          <a:xfrm>
            <a:off x="3779640" y="6237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清华大学自动化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22"/>
          </p:nvPr>
        </p:nvSpPr>
        <p:spPr>
          <a:xfrm>
            <a:off x="687708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72EF7-A173-476D-9790-A2B0F9B0D09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Line 8"/>
          <p:cNvSpPr/>
          <p:nvPr/>
        </p:nvSpPr>
        <p:spPr>
          <a:xfrm>
            <a:off x="1476360" y="1052640"/>
            <a:ext cx="0" cy="5805360"/>
          </a:xfrm>
          <a:prstGeom prst="line">
            <a:avLst/>
          </a:prstGeom>
          <a:ln w="57240">
            <a:solidFill>
              <a:srgbClr val="900b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Line 9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57240">
            <a:solidFill>
              <a:srgbClr val="900b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58" name="Picture 10" descr="清华大学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0" y="1484280"/>
            <a:ext cx="1403280" cy="439920"/>
          </a:xfrm>
          <a:prstGeom prst="rect">
            <a:avLst/>
          </a:prstGeom>
          <a:ln w="0">
            <a:noFill/>
          </a:ln>
        </p:spPr>
      </p:pic>
      <p:sp>
        <p:nvSpPr>
          <p:cNvPr id="359" name="Text Box 11"/>
          <p:cNvSpPr/>
          <p:nvPr/>
        </p:nvSpPr>
        <p:spPr>
          <a:xfrm>
            <a:off x="0" y="5357880"/>
            <a:ext cx="14032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Comic Sans MS"/>
              </a:rPr>
              <a:t>1</a:t>
            </a:r>
            <a:r>
              <a:rPr b="1" lang="en-US" sz="1400" spc="-1" strike="noStrike" baseline="30000">
                <a:solidFill>
                  <a:srgbClr val="cc00cc"/>
                </a:solidFill>
                <a:latin typeface="Comic Sans MS"/>
              </a:rPr>
              <a:t>st </a:t>
            </a:r>
            <a:r>
              <a:rPr b="1" lang="en-US" sz="1400" spc="-1" strike="noStrike">
                <a:solidFill>
                  <a:srgbClr val="cc00cc"/>
                </a:solidFill>
                <a:latin typeface="Comic Sans MS"/>
              </a:rPr>
              <a:t> international symposium on solar sailin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547280" y="1125000"/>
            <a:ext cx="72723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00060"/>
                </a:solidFill>
                <a:latin typeface="华文行楷"/>
              </a:rPr>
              <a:t>Click to edit the title text format</a:t>
            </a: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1547280" y="1988640"/>
            <a:ext cx="727236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23"/>
          </p:nvPr>
        </p:nvSpPr>
        <p:spPr>
          <a:xfrm>
            <a:off x="154764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1085E-5054-4167-B96F-B168691AB51F}" type="datetime2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026年7月29日 星期三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ftr" idx="24"/>
          </p:nvPr>
        </p:nvSpPr>
        <p:spPr>
          <a:xfrm>
            <a:off x="3779640" y="6237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清华大学自动化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sldNum" idx="25"/>
          </p:nvPr>
        </p:nvSpPr>
        <p:spPr>
          <a:xfrm>
            <a:off x="687708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E85F6-C7C5-4384-887C-E73D97940B8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8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9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0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41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42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43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44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45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46.wmf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47.wmf"/><Relationship Id="rId28" Type="http://schemas.openxmlformats.org/officeDocument/2006/relationships/oleObject" Target="../embeddings/oleObject14.bin"/><Relationship Id="rId29" Type="http://schemas.openxmlformats.org/officeDocument/2006/relationships/image" Target="../media/image48.wmf"/><Relationship Id="rId30" Type="http://schemas.openxmlformats.org/officeDocument/2006/relationships/oleObject" Target="../embeddings/oleObject15.bin"/><Relationship Id="rId31" Type="http://schemas.openxmlformats.org/officeDocument/2006/relationships/image" Target="../media/image49.wmf"/><Relationship Id="rId32" Type="http://schemas.openxmlformats.org/officeDocument/2006/relationships/oleObject" Target="../embeddings/oleObject16.bin"/><Relationship Id="rId33" Type="http://schemas.openxmlformats.org/officeDocument/2006/relationships/image" Target="../media/image50.wmf"/><Relationship Id="rId34" Type="http://schemas.openxmlformats.org/officeDocument/2006/relationships/slideLayout" Target="../slideLayouts/slideLayout25.xml"/><Relationship Id="rId3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6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7.wmf"/><Relationship Id="rId14" Type="http://schemas.openxmlformats.org/officeDocument/2006/relationships/slideLayout" Target="../slideLayouts/slideLayout25.xml"/><Relationship Id="rId1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2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63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64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65.wmf"/><Relationship Id="rId18" Type="http://schemas.openxmlformats.org/officeDocument/2006/relationships/slideLayout" Target="../slideLayouts/slideLayout25.xml"/><Relationship Id="rId1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8.wmf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9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70.wmf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74.wmf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78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79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80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81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82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83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84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85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86.wmf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87.wmf"/><Relationship Id="rId21" Type="http://schemas.openxmlformats.org/officeDocument/2006/relationships/image" Target="../media/image88.png"/><Relationship Id="rId22" Type="http://schemas.openxmlformats.org/officeDocument/2006/relationships/slideLayout" Target="../slideLayouts/slideLayout25.xml"/><Relationship Id="rId2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93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94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95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96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97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98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99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100.wmf"/><Relationship Id="rId24" Type="http://schemas.openxmlformats.org/officeDocument/2006/relationships/slideLayout" Target="../slideLayouts/slideLayout25.xml"/><Relationship Id="rId2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0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06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07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08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09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10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11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112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113.wmf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114.wmf"/><Relationship Id="rId28" Type="http://schemas.openxmlformats.org/officeDocument/2006/relationships/slideLayout" Target="../slideLayouts/slideLayout25.xml"/><Relationship Id="rId2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6.wmf"/><Relationship Id="rId4" Type="http://schemas.openxmlformats.org/officeDocument/2006/relationships/image" Target="../media/image117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18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19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20.wmf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25.wmf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8.wmf"/><Relationship Id="rId6" Type="http://schemas.openxmlformats.org/officeDocument/2006/relationships/image" Target="../media/image129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3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31.wmf"/><Relationship Id="rId11" Type="http://schemas.openxmlformats.org/officeDocument/2006/relationships/slideLayout" Target="../slideLayouts/slideLayout157.xml"/><Relationship Id="rId1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87.wmf"/><Relationship Id="rId19" Type="http://schemas.openxmlformats.org/officeDocument/2006/relationships/image" Target="../media/image133.wmf"/><Relationship Id="rId20" Type="http://schemas.openxmlformats.org/officeDocument/2006/relationships/image" Target="../media/image126.png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96.wmf"/><Relationship Id="rId23" Type="http://schemas.openxmlformats.org/officeDocument/2006/relationships/oleObject" Target="../embeddings/oleObject11.bin"/><Relationship Id="rId24" Type="http://schemas.openxmlformats.org/officeDocument/2006/relationships/image" Target="../media/image97.wmf"/><Relationship Id="rId25" Type="http://schemas.openxmlformats.org/officeDocument/2006/relationships/oleObject" Target="../embeddings/oleObject12.bin"/><Relationship Id="rId26" Type="http://schemas.openxmlformats.org/officeDocument/2006/relationships/image" Target="../media/image98.wmf"/><Relationship Id="rId27" Type="http://schemas.openxmlformats.org/officeDocument/2006/relationships/oleObject" Target="../embeddings/oleObject13.bin"/><Relationship Id="rId28" Type="http://schemas.openxmlformats.org/officeDocument/2006/relationships/image" Target="../media/image99.wmf"/><Relationship Id="rId29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4.wmf"/><Relationship Id="rId2" Type="http://schemas.openxmlformats.org/officeDocument/2006/relationships/image" Target="../media/image101.pn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5.wmf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0.wmf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8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9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0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21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22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23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24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25.wmf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26.wmf"/><Relationship Id="rId28" Type="http://schemas.openxmlformats.org/officeDocument/2006/relationships/slideLayout" Target="../slideLayouts/slideLayout145.xml"/><Relationship Id="rId2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8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9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0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21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31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23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24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25.wmf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26.wmf"/><Relationship Id="rId28" Type="http://schemas.openxmlformats.org/officeDocument/2006/relationships/image" Target="../media/image32.png"/><Relationship Id="rId29" Type="http://schemas.openxmlformats.org/officeDocument/2006/relationships/image" Target="../media/image33.png"/><Relationship Id="rId30" Type="http://schemas.openxmlformats.org/officeDocument/2006/relationships/slideLayout" Target="../slideLayouts/slideLayout25.xml"/><Relationship Id="rId3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1476360" y="3860640"/>
            <a:ext cx="64008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ingLiU-ExtB"/>
                <a:ea typeface="MingLiU-ExtB"/>
              </a:rPr>
              <a:t>Shengping Gong, Hexi Baoyin, Junfeng Li</a:t>
            </a:r>
            <a:endParaRPr b="0" lang="en-US" sz="22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Tsinghua University, Beijing, China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24" name="Text Box 6"/>
          <p:cNvSpPr/>
          <p:nvPr/>
        </p:nvSpPr>
        <p:spPr>
          <a:xfrm>
            <a:off x="1357200" y="1500120"/>
            <a:ext cx="66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Comic Sans MS"/>
              </a:rPr>
              <a:t>Passive Stability Design for Solar Sail on Displaced Solar Orbi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5" name="Text Box 9"/>
          <p:cNvSpPr/>
          <p:nvPr/>
        </p:nvSpPr>
        <p:spPr>
          <a:xfrm>
            <a:off x="2143080" y="2857680"/>
            <a:ext cx="535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Comic Sans MS"/>
                <a:ea typeface="幼圆"/>
              </a:rPr>
              <a:t>1</a:t>
            </a:r>
            <a:r>
              <a:rPr b="0" lang="en-US" sz="2000" spc="-1" strike="noStrike" baseline="30000">
                <a:solidFill>
                  <a:srgbClr val="cc00cc"/>
                </a:solidFill>
                <a:latin typeface="Comic Sans MS"/>
                <a:ea typeface="幼圆"/>
              </a:rPr>
              <a:t>st</a:t>
            </a:r>
            <a:r>
              <a:rPr b="0" lang="en-US" sz="2000" spc="-1" strike="noStrike">
                <a:solidFill>
                  <a:srgbClr val="cc00cc"/>
                </a:solidFill>
                <a:latin typeface="Comic Sans MS"/>
                <a:ea typeface="幼圆"/>
              </a:rPr>
              <a:t> international symposium on solar sailing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灯片编号占位符 5"/>
          <p:cNvSpPr/>
          <p:nvPr/>
        </p:nvSpPr>
        <p:spPr>
          <a:xfrm>
            <a:off x="8448840" y="6237360"/>
            <a:ext cx="33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52429-2E0A-45AD-A06B-8B4612E86111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灯片编号占位符 5"/>
          <p:cNvSpPr/>
          <p:nvPr/>
        </p:nvSpPr>
        <p:spPr>
          <a:xfrm>
            <a:off x="687708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D301E-1EB3-4256-AC9F-646D82D53329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3" name="Rectangle 5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4" name="Rectangle 7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35" name="Picture 16" descr="10"/>
          <p:cNvPicPr/>
          <p:nvPr/>
        </p:nvPicPr>
        <p:blipFill>
          <a:blip r:embed="rId1"/>
          <a:stretch/>
        </p:blipFill>
        <p:spPr>
          <a:xfrm>
            <a:off x="0" y="0"/>
            <a:ext cx="9144000" cy="1019160"/>
          </a:xfrm>
          <a:prstGeom prst="rect">
            <a:avLst/>
          </a:prstGeom>
          <a:ln w="0">
            <a:noFill/>
          </a:ln>
        </p:spPr>
      </p:pic>
      <p:sp>
        <p:nvSpPr>
          <p:cNvPr id="936" name="Text Box 6"/>
          <p:cNvSpPr/>
          <p:nvPr/>
        </p:nvSpPr>
        <p:spPr>
          <a:xfrm>
            <a:off x="95400" y="2482920"/>
            <a:ext cx="154764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. DS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PD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P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cc0099"/>
                </a:solidFill>
                <a:latin typeface="Comic Sans MS"/>
              </a:rPr>
              <a:t>DD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. S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. AP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7" name="Rectangle 2"/>
          <p:cNvSpPr/>
          <p:nvPr/>
        </p:nvSpPr>
        <p:spPr>
          <a:xfrm>
            <a:off x="1714680" y="1000080"/>
            <a:ext cx="664344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Details for the Design Metho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38" name="组合 69"/>
          <p:cNvGrpSpPr/>
          <p:nvPr/>
        </p:nvGrpSpPr>
        <p:grpSpPr>
          <a:xfrm>
            <a:off x="2214720" y="2000160"/>
            <a:ext cx="4500360" cy="3413160"/>
            <a:chOff x="2214720" y="2000160"/>
            <a:chExt cx="4500360" cy="3413160"/>
          </a:xfrm>
        </p:grpSpPr>
        <p:sp>
          <p:nvSpPr>
            <p:cNvPr id="939" name="Oval 16"/>
            <p:cNvSpPr/>
            <p:nvPr/>
          </p:nvSpPr>
          <p:spPr>
            <a:xfrm>
              <a:off x="2214720" y="3657240"/>
              <a:ext cx="1883160" cy="786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0" name="Line 17"/>
            <p:cNvSpPr/>
            <p:nvPr/>
          </p:nvSpPr>
          <p:spPr>
            <a:xfrm>
              <a:off x="4109040" y="4064040"/>
              <a:ext cx="1883160" cy="674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1" name="Line 18"/>
            <p:cNvSpPr/>
            <p:nvPr/>
          </p:nvSpPr>
          <p:spPr>
            <a:xfrm>
              <a:off x="4109040" y="4064040"/>
              <a:ext cx="10760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2" name="Line 19"/>
            <p:cNvSpPr/>
            <p:nvPr/>
          </p:nvSpPr>
          <p:spPr>
            <a:xfrm>
              <a:off x="5185440" y="4064040"/>
              <a:ext cx="807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3" name="Line 20"/>
            <p:cNvSpPr/>
            <p:nvPr/>
          </p:nvSpPr>
          <p:spPr>
            <a:xfrm flipH="1" flipV="1">
              <a:off x="3909240" y="3169800"/>
              <a:ext cx="196920" cy="88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4" name="Line 21"/>
            <p:cNvSpPr/>
            <p:nvPr/>
          </p:nvSpPr>
          <p:spPr>
            <a:xfrm flipH="1" flipV="1">
              <a:off x="4041360" y="3278160"/>
              <a:ext cx="68400" cy="7840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5" name="Line 22"/>
            <p:cNvSpPr/>
            <p:nvPr/>
          </p:nvSpPr>
          <p:spPr>
            <a:xfrm flipH="1" flipV="1">
              <a:off x="3970080" y="2603880"/>
              <a:ext cx="70560" cy="671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6" name="Line 23"/>
            <p:cNvSpPr/>
            <p:nvPr/>
          </p:nvSpPr>
          <p:spPr>
            <a:xfrm>
              <a:off x="3974760" y="2602080"/>
              <a:ext cx="2017800" cy="146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7" name="Line 24"/>
            <p:cNvSpPr/>
            <p:nvPr/>
          </p:nvSpPr>
          <p:spPr>
            <a:xfrm>
              <a:off x="5992560" y="4064040"/>
              <a:ext cx="0" cy="67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8" name="Line 25"/>
            <p:cNvSpPr/>
            <p:nvPr/>
          </p:nvSpPr>
          <p:spPr>
            <a:xfrm flipH="1">
              <a:off x="3909600" y="2601360"/>
              <a:ext cx="54720" cy="57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9" name="Line 26"/>
            <p:cNvSpPr/>
            <p:nvPr/>
          </p:nvSpPr>
          <p:spPr>
            <a:xfrm>
              <a:off x="3914640" y="3184200"/>
              <a:ext cx="2080080" cy="154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0" name="AutoShape 27"/>
            <p:cNvSpPr/>
            <p:nvPr/>
          </p:nvSpPr>
          <p:spPr>
            <a:xfrm>
              <a:off x="4006080" y="3999240"/>
              <a:ext cx="198720" cy="129600"/>
            </a:xfrm>
            <a:prstGeom prst="can">
              <a:avLst>
                <a:gd name="adj" fmla="val 250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1" name="Oval 28"/>
            <p:cNvSpPr/>
            <p:nvPr/>
          </p:nvSpPr>
          <p:spPr>
            <a:xfrm>
              <a:off x="3083760" y="4862160"/>
              <a:ext cx="105840" cy="102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2" name="Line 29"/>
            <p:cNvSpPr/>
            <p:nvPr/>
          </p:nvSpPr>
          <p:spPr>
            <a:xfrm flipV="1">
              <a:off x="3135960" y="3992400"/>
              <a:ext cx="0" cy="919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3" name="Line 30"/>
            <p:cNvSpPr/>
            <p:nvPr/>
          </p:nvSpPr>
          <p:spPr>
            <a:xfrm flipV="1">
              <a:off x="3135960" y="2621520"/>
              <a:ext cx="0" cy="144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954" name="Object 31"/>
            <p:cNvGraphicFramePr/>
            <p:nvPr/>
          </p:nvGraphicFramePr>
          <p:xfrm>
            <a:off x="2438640" y="3337200"/>
            <a:ext cx="1085040" cy="230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55" name="Object 31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438640" y="3337200"/>
                      <a:ext cx="1085040" cy="23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56" name="Object 32"/>
            <p:cNvGraphicFramePr/>
            <p:nvPr/>
          </p:nvGraphicFramePr>
          <p:xfrm>
            <a:off x="2842200" y="5029920"/>
            <a:ext cx="307800" cy="1584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957" name="Object 32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842200" y="5029920"/>
                      <a:ext cx="307800" cy="15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58" name="Line 33"/>
            <p:cNvSpPr/>
            <p:nvPr/>
          </p:nvSpPr>
          <p:spPr>
            <a:xfrm>
              <a:off x="3133800" y="4064040"/>
              <a:ext cx="941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959" name="Object 4"/>
            <p:cNvGraphicFramePr/>
            <p:nvPr/>
          </p:nvGraphicFramePr>
          <p:xfrm>
            <a:off x="3851280" y="4591800"/>
            <a:ext cx="190440" cy="2592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960" name="Object 4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851280" y="4591800"/>
                      <a:ext cx="190440" cy="259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61" name="Object 5"/>
            <p:cNvGraphicFramePr/>
            <p:nvPr/>
          </p:nvGraphicFramePr>
          <p:xfrm>
            <a:off x="3436560" y="4040280"/>
            <a:ext cx="219600" cy="2592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962" name="Object 5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3436560" y="4040280"/>
                      <a:ext cx="219600" cy="259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63" name="Line 36"/>
            <p:cNvSpPr/>
            <p:nvPr/>
          </p:nvSpPr>
          <p:spPr>
            <a:xfrm>
              <a:off x="3111480" y="4905360"/>
              <a:ext cx="2208240" cy="50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4" name="Line 37"/>
            <p:cNvSpPr/>
            <p:nvPr/>
          </p:nvSpPr>
          <p:spPr>
            <a:xfrm>
              <a:off x="4086720" y="4064040"/>
              <a:ext cx="0" cy="10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965" name="Object 38"/>
            <p:cNvGraphicFramePr/>
            <p:nvPr/>
          </p:nvGraphicFramePr>
          <p:xfrm>
            <a:off x="2898360" y="3051720"/>
            <a:ext cx="219600" cy="2592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966" name="Object 38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2898360" y="3051720"/>
                      <a:ext cx="219600" cy="259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67" name="Object 39"/>
            <p:cNvGraphicFramePr/>
            <p:nvPr/>
          </p:nvGraphicFramePr>
          <p:xfrm>
            <a:off x="3951360" y="4142520"/>
            <a:ext cx="175320" cy="20088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968" name="Object 39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3951360" y="4142520"/>
                      <a:ext cx="175320" cy="20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969" name="AutoShape 40"/>
            <p:cNvCxnSpPr/>
            <p:nvPr/>
          </p:nvCxnSpPr>
          <p:spPr>
            <a:xfrm flipV="1">
              <a:off x="4097880" y="3992400"/>
              <a:ext cx="2427120" cy="48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70" name="AutoShape 41"/>
            <p:cNvCxnSpPr/>
            <p:nvPr/>
          </p:nvCxnSpPr>
          <p:spPr>
            <a:xfrm flipV="1">
              <a:off x="4107960" y="2053080"/>
              <a:ext cx="1080" cy="1986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71" name="AutoShape 42"/>
            <p:cNvCxnSpPr/>
            <p:nvPr/>
          </p:nvCxnSpPr>
          <p:spPr>
            <a:xfrm flipV="1">
              <a:off x="4109040" y="2457000"/>
              <a:ext cx="812880" cy="1552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72" name="AutoShape 43"/>
            <p:cNvCxnSpPr/>
            <p:nvPr/>
          </p:nvCxnSpPr>
          <p:spPr>
            <a:xfrm>
              <a:off x="4921560" y="3656880"/>
              <a:ext cx="1379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73" name="AutoShape 44"/>
            <p:cNvCxnSpPr/>
            <p:nvPr/>
          </p:nvCxnSpPr>
          <p:spPr>
            <a:xfrm flipV="1">
              <a:off x="4921200" y="2727360"/>
              <a:ext cx="1080" cy="929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74" name="AutoShape 45"/>
            <p:cNvCxnSpPr/>
            <p:nvPr/>
          </p:nvCxnSpPr>
          <p:spPr>
            <a:xfrm flipV="1">
              <a:off x="4921200" y="2911680"/>
              <a:ext cx="717840" cy="745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graphicFrame>
          <p:nvGraphicFramePr>
            <p:cNvPr id="975" name="Object 46"/>
            <p:cNvGraphicFramePr/>
            <p:nvPr/>
          </p:nvGraphicFramePr>
          <p:xfrm>
            <a:off x="4779720" y="3635640"/>
            <a:ext cx="219600" cy="25920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976" name="Object 46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4779720" y="3635640"/>
                      <a:ext cx="219600" cy="259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77" name="Object 47"/>
            <p:cNvGraphicFramePr/>
            <p:nvPr/>
          </p:nvGraphicFramePr>
          <p:xfrm>
            <a:off x="6524640" y="4040280"/>
            <a:ext cx="190440" cy="25920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978" name="Object 47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6524640" y="4040280"/>
                      <a:ext cx="190440" cy="259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79" name="Object 48"/>
            <p:cNvGraphicFramePr/>
            <p:nvPr/>
          </p:nvGraphicFramePr>
          <p:xfrm>
            <a:off x="4808520" y="2198160"/>
            <a:ext cx="204480" cy="259200"/>
          </p:xfrm>
          <a:graphic>
            <a:graphicData uri="http://schemas.openxmlformats.org/presentationml/2006/ole">
              <p:oleObj r:id="rId18" spid="">
                <p:embed/>
                <p:pic>
                  <p:nvPicPr>
                    <p:cNvPr id="980" name="Object 48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4808520" y="2198160"/>
                      <a:ext cx="204480" cy="259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81" name="Object 49"/>
            <p:cNvGraphicFramePr/>
            <p:nvPr/>
          </p:nvGraphicFramePr>
          <p:xfrm>
            <a:off x="3682080" y="2000160"/>
            <a:ext cx="190440" cy="259200"/>
          </p:xfrm>
          <a:graphic>
            <a:graphicData uri="http://schemas.openxmlformats.org/presentationml/2006/ole">
              <p:oleObj r:id="rId20" spid="">
                <p:embed/>
                <p:pic>
                  <p:nvPicPr>
                    <p:cNvPr id="982" name="Object 49" descr="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>
                      <a:off x="3682080" y="2000160"/>
                      <a:ext cx="190440" cy="259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83" name="Object 50"/>
            <p:cNvGraphicFramePr/>
            <p:nvPr/>
          </p:nvGraphicFramePr>
          <p:xfrm>
            <a:off x="6334200" y="3567960"/>
            <a:ext cx="190440" cy="259200"/>
          </p:xfrm>
          <a:graphic>
            <a:graphicData uri="http://schemas.openxmlformats.org/presentationml/2006/ole">
              <p:oleObj r:id="rId22" spid="">
                <p:embed/>
                <p:pic>
                  <p:nvPicPr>
                    <p:cNvPr id="984" name="Object 50" descr=""/>
                    <p:cNvPicPr/>
                    <p:nvPr/>
                  </p:nvPicPr>
                  <p:blipFill>
                    <a:blip r:embed="rId23"/>
                    <a:stretch/>
                  </p:blipFill>
                  <p:spPr>
                    <a:xfrm>
                      <a:off x="6334200" y="3567960"/>
                      <a:ext cx="190440" cy="259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85" name="Object 51"/>
            <p:cNvGraphicFramePr/>
            <p:nvPr/>
          </p:nvGraphicFramePr>
          <p:xfrm>
            <a:off x="5717520" y="2904840"/>
            <a:ext cx="204480" cy="259200"/>
          </p:xfrm>
          <a:graphic>
            <a:graphicData uri="http://schemas.openxmlformats.org/presentationml/2006/ole">
              <p:oleObj r:id="rId24" spid="">
                <p:embed/>
                <p:pic>
                  <p:nvPicPr>
                    <p:cNvPr id="986" name="Object 51" descr=""/>
                    <p:cNvPicPr/>
                    <p:nvPr/>
                  </p:nvPicPr>
                  <p:blipFill>
                    <a:blip r:embed="rId25"/>
                    <a:stretch/>
                  </p:blipFill>
                  <p:spPr>
                    <a:xfrm>
                      <a:off x="5717520" y="2904840"/>
                      <a:ext cx="204480" cy="259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87" name="Object 52"/>
            <p:cNvGraphicFramePr/>
            <p:nvPr/>
          </p:nvGraphicFramePr>
          <p:xfrm>
            <a:off x="4994640" y="2695680"/>
            <a:ext cx="190440" cy="259200"/>
          </p:xfrm>
          <a:graphic>
            <a:graphicData uri="http://schemas.openxmlformats.org/presentationml/2006/ole">
              <p:oleObj r:id="rId26" spid="">
                <p:embed/>
                <p:pic>
                  <p:nvPicPr>
                    <p:cNvPr id="988" name="Object 52" descr=""/>
                    <p:cNvPicPr/>
                    <p:nvPr/>
                  </p:nvPicPr>
                  <p:blipFill>
                    <a:blip r:embed="rId27"/>
                    <a:stretch/>
                  </p:blipFill>
                  <p:spPr>
                    <a:xfrm>
                      <a:off x="4994640" y="2695680"/>
                      <a:ext cx="190440" cy="259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989" name="Object 53"/>
          <p:cNvGraphicFramePr/>
          <p:nvPr/>
        </p:nvGraphicFramePr>
        <p:xfrm>
          <a:off x="4214880" y="6143760"/>
          <a:ext cx="1857240" cy="35712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990" name="Object 53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4214880" y="6143760"/>
                    <a:ext cx="185724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1" name="Object 34"/>
          <p:cNvGraphicFramePr/>
          <p:nvPr/>
        </p:nvGraphicFramePr>
        <p:xfrm>
          <a:off x="3254400" y="5786280"/>
          <a:ext cx="746280" cy="33048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992" name="Object 34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3254400" y="5786280"/>
                    <a:ext cx="74628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3" name="TextBox 43"/>
          <p:cNvSpPr/>
          <p:nvPr/>
        </p:nvSpPr>
        <p:spPr>
          <a:xfrm>
            <a:off x="1928880" y="5786280"/>
            <a:ext cx="171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rbital frame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4" name="TextBox 44"/>
          <p:cNvSpPr/>
          <p:nvPr/>
        </p:nvSpPr>
        <p:spPr>
          <a:xfrm>
            <a:off x="6215040" y="5786280"/>
            <a:ext cx="17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ody-fixed frame :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995" name="Object 35"/>
          <p:cNvGraphicFramePr/>
          <p:nvPr/>
        </p:nvGraphicFramePr>
        <p:xfrm>
          <a:off x="7786800" y="5786280"/>
          <a:ext cx="714240" cy="35748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996" name="Object 35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7786800" y="5786280"/>
                    <a:ext cx="714240" cy="3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7" name="Rectangle 11"/>
          <p:cNvSpPr/>
          <p:nvPr/>
        </p:nvSpPr>
        <p:spPr>
          <a:xfrm>
            <a:off x="7215120" y="2286000"/>
            <a:ext cx="180036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Select parameters satisfying constraint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8" name="Rectangle 12"/>
          <p:cNvSpPr/>
          <p:nvPr/>
        </p:nvSpPr>
        <p:spPr>
          <a:xfrm>
            <a:off x="7215120" y="3000240"/>
            <a:ext cx="180036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Derivation of the coupled equation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9" name="Rectangle 22"/>
          <p:cNvSpPr/>
          <p:nvPr/>
        </p:nvSpPr>
        <p:spPr>
          <a:xfrm>
            <a:off x="7299000" y="3671640"/>
            <a:ext cx="1632600" cy="515160"/>
          </a:xfrm>
          <a:prstGeom prst="rect">
            <a:avLst/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Linearization of the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oupled equation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0" name="Rectangle 23"/>
          <p:cNvSpPr/>
          <p:nvPr/>
        </p:nvSpPr>
        <p:spPr>
          <a:xfrm>
            <a:off x="7215120" y="4477320"/>
            <a:ext cx="1800360" cy="332280"/>
          </a:xfrm>
          <a:prstGeom prst="rect">
            <a:avLst/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Stability analysi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1" name="下箭头 64"/>
          <p:cNvSpPr/>
          <p:nvPr/>
        </p:nvSpPr>
        <p:spPr>
          <a:xfrm>
            <a:off x="7929720" y="2714760"/>
            <a:ext cx="285480" cy="285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2" name="下箭头 65"/>
          <p:cNvSpPr/>
          <p:nvPr/>
        </p:nvSpPr>
        <p:spPr>
          <a:xfrm>
            <a:off x="7929720" y="3429000"/>
            <a:ext cx="285480" cy="285840"/>
          </a:xfrm>
          <a:prstGeom prst="downArrow">
            <a:avLst>
              <a:gd name="adj1" fmla="val 50000"/>
              <a:gd name="adj2" fmla="val 50063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3" name="下箭头 66"/>
          <p:cNvSpPr/>
          <p:nvPr/>
        </p:nvSpPr>
        <p:spPr>
          <a:xfrm>
            <a:off x="7929720" y="4143240"/>
            <a:ext cx="285480" cy="285840"/>
          </a:xfrm>
          <a:prstGeom prst="downArrow">
            <a:avLst>
              <a:gd name="adj1" fmla="val 50000"/>
              <a:gd name="adj2" fmla="val 50063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4" name="右箭头 67"/>
          <p:cNvSpPr/>
          <p:nvPr/>
        </p:nvSpPr>
        <p:spPr>
          <a:xfrm>
            <a:off x="4071960" y="5786280"/>
            <a:ext cx="2071800" cy="357480"/>
          </a:xfrm>
          <a:prstGeom prst="rightArrow">
            <a:avLst>
              <a:gd name="adj1" fmla="val 50000"/>
              <a:gd name="adj2" fmla="val 4996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灯片编号占位符 5"/>
          <p:cNvSpPr/>
          <p:nvPr/>
        </p:nvSpPr>
        <p:spPr>
          <a:xfrm>
            <a:off x="687708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013D6-7EF7-4B58-A613-990C76FAB102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06" name="Picture 7" descr="11"/>
          <p:cNvPicPr/>
          <p:nvPr/>
        </p:nvPicPr>
        <p:blipFill>
          <a:blip r:embed="rId1"/>
          <a:stretch/>
        </p:blipFill>
        <p:spPr>
          <a:xfrm>
            <a:off x="0" y="0"/>
            <a:ext cx="9144000" cy="1019160"/>
          </a:xfrm>
          <a:prstGeom prst="rect">
            <a:avLst/>
          </a:prstGeom>
          <a:ln w="0">
            <a:noFill/>
          </a:ln>
        </p:spPr>
      </p:pic>
      <p:sp>
        <p:nvSpPr>
          <p:cNvPr id="1007" name="Text Box 6"/>
          <p:cNvSpPr/>
          <p:nvPr/>
        </p:nvSpPr>
        <p:spPr>
          <a:xfrm>
            <a:off x="95400" y="2482920"/>
            <a:ext cx="154764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. DS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PD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P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cc0099"/>
                </a:solidFill>
                <a:latin typeface="Comic Sans MS"/>
              </a:rPr>
              <a:t>DD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. S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. AP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8" name="Rectangle 2"/>
          <p:cNvSpPr/>
          <p:nvPr/>
        </p:nvSpPr>
        <p:spPr>
          <a:xfrm>
            <a:off x="1643040" y="1071720"/>
            <a:ext cx="664380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Details for the Design Metho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9" name="流程图: 过程 18"/>
          <p:cNvSpPr/>
          <p:nvPr/>
        </p:nvSpPr>
        <p:spPr>
          <a:xfrm>
            <a:off x="4214880" y="3429000"/>
            <a:ext cx="2571840" cy="7142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0" name="流程图: 资料带 14"/>
          <p:cNvSpPr/>
          <p:nvPr/>
        </p:nvSpPr>
        <p:spPr>
          <a:xfrm>
            <a:off x="4714920" y="2214720"/>
            <a:ext cx="1714320" cy="714240"/>
          </a:xfrm>
          <a:prstGeom prst="flowChartPunchedTape">
            <a:avLst/>
          </a:prstGeom>
          <a:solidFill>
            <a:srgbClr val="ffffff"/>
          </a:solidFill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11" name="Object 1"/>
          <p:cNvGraphicFramePr/>
          <p:nvPr/>
        </p:nvGraphicFramePr>
        <p:xfrm>
          <a:off x="1643040" y="2381400"/>
          <a:ext cx="2286000" cy="47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2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43040" y="2381400"/>
                    <a:ext cx="228600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3" name="Object 3"/>
          <p:cNvGraphicFramePr/>
          <p:nvPr/>
        </p:nvGraphicFramePr>
        <p:xfrm>
          <a:off x="1731960" y="4357800"/>
          <a:ext cx="4554720" cy="428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14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31960" y="4357800"/>
                    <a:ext cx="4554720" cy="42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5" name="Object 5"/>
          <p:cNvGraphicFramePr/>
          <p:nvPr/>
        </p:nvGraphicFramePr>
        <p:xfrm>
          <a:off x="4724280" y="2357280"/>
          <a:ext cx="1633680" cy="428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16" name="Object 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724280" y="2357280"/>
                    <a:ext cx="163368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7" name="Object 7"/>
          <p:cNvGraphicFramePr/>
          <p:nvPr/>
        </p:nvGraphicFramePr>
        <p:xfrm>
          <a:off x="4214880" y="3500280"/>
          <a:ext cx="2570040" cy="642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18" name="Object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214880" y="3500280"/>
                    <a:ext cx="257004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9" name="Object 9"/>
          <p:cNvGraphicFramePr/>
          <p:nvPr/>
        </p:nvGraphicFramePr>
        <p:xfrm>
          <a:off x="2643120" y="5143680"/>
          <a:ext cx="1782720" cy="642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020" name="Object 9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643120" y="5143680"/>
                    <a:ext cx="1782720" cy="642600"/>
                  </a:xfrm>
                  <a:prstGeom prst="rect">
                    <a:avLst/>
                  </a:prstGeom>
                  <a:ln w="25560">
                    <a:solidFill>
                      <a:srgbClr val="cc00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21" name="右箭头 19"/>
          <p:cNvSpPr/>
          <p:nvPr/>
        </p:nvSpPr>
        <p:spPr>
          <a:xfrm>
            <a:off x="4000680" y="2428920"/>
            <a:ext cx="620640" cy="35712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2" name="下箭头 17"/>
          <p:cNvSpPr/>
          <p:nvPr/>
        </p:nvSpPr>
        <p:spPr>
          <a:xfrm>
            <a:off x="5357880" y="2951280"/>
            <a:ext cx="357120" cy="477720"/>
          </a:xfrm>
          <a:prstGeom prst="downArrow">
            <a:avLst>
              <a:gd name="adj1" fmla="val 50000"/>
              <a:gd name="adj2" fmla="val 50003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3" name="斜纹 21"/>
          <p:cNvSpPr/>
          <p:nvPr/>
        </p:nvSpPr>
        <p:spPr>
          <a:xfrm>
            <a:off x="4443480" y="4857840"/>
            <a:ext cx="557280" cy="785880"/>
          </a:xfrm>
          <a:prstGeom prst="pi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24" name="Object 11"/>
          <p:cNvGraphicFramePr/>
          <p:nvPr/>
        </p:nvGraphicFramePr>
        <p:xfrm>
          <a:off x="4572000" y="5572080"/>
          <a:ext cx="2930400" cy="6588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025" name="Object 11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572000" y="5572080"/>
                    <a:ext cx="2930400" cy="658800"/>
                  </a:xfrm>
                  <a:prstGeom prst="rect">
                    <a:avLst/>
                  </a:prstGeom>
                  <a:ln w="25560">
                    <a:solidFill>
                      <a:srgbClr val="cc00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26" name="下箭头 23"/>
          <p:cNvSpPr/>
          <p:nvPr/>
        </p:nvSpPr>
        <p:spPr>
          <a:xfrm>
            <a:off x="5572080" y="4857840"/>
            <a:ext cx="357120" cy="642960"/>
          </a:xfrm>
          <a:prstGeom prst="downArrow">
            <a:avLst>
              <a:gd name="adj1" fmla="val 50000"/>
              <a:gd name="adj2" fmla="val 50036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7" name="Rectangle 11"/>
          <p:cNvSpPr/>
          <p:nvPr/>
        </p:nvSpPr>
        <p:spPr>
          <a:xfrm>
            <a:off x="7215120" y="2286000"/>
            <a:ext cx="180036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Select parameters satisfying constraint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8" name="Rectangle 12"/>
          <p:cNvSpPr/>
          <p:nvPr/>
        </p:nvSpPr>
        <p:spPr>
          <a:xfrm>
            <a:off x="7215120" y="3000240"/>
            <a:ext cx="180036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Derivation of the coupled equation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9" name="Rectangle 22"/>
          <p:cNvSpPr/>
          <p:nvPr/>
        </p:nvSpPr>
        <p:spPr>
          <a:xfrm>
            <a:off x="7299000" y="3671640"/>
            <a:ext cx="1632600" cy="515160"/>
          </a:xfrm>
          <a:prstGeom prst="rect">
            <a:avLst/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Linearization of the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oupled equation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0" name="Rectangle 23"/>
          <p:cNvSpPr/>
          <p:nvPr/>
        </p:nvSpPr>
        <p:spPr>
          <a:xfrm>
            <a:off x="7215120" y="4477320"/>
            <a:ext cx="1800360" cy="332280"/>
          </a:xfrm>
          <a:prstGeom prst="rect">
            <a:avLst/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Stability analysi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1" name="下箭头 42"/>
          <p:cNvSpPr/>
          <p:nvPr/>
        </p:nvSpPr>
        <p:spPr>
          <a:xfrm>
            <a:off x="7929720" y="2714760"/>
            <a:ext cx="285480" cy="285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2" name="下箭头 43"/>
          <p:cNvSpPr/>
          <p:nvPr/>
        </p:nvSpPr>
        <p:spPr>
          <a:xfrm>
            <a:off x="7929720" y="3429000"/>
            <a:ext cx="285480" cy="285840"/>
          </a:xfrm>
          <a:prstGeom prst="downArrow">
            <a:avLst>
              <a:gd name="adj1" fmla="val 50000"/>
              <a:gd name="adj2" fmla="val 50063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3" name="下箭头 44"/>
          <p:cNvSpPr/>
          <p:nvPr/>
        </p:nvSpPr>
        <p:spPr>
          <a:xfrm>
            <a:off x="7929720" y="4143240"/>
            <a:ext cx="285480" cy="285840"/>
          </a:xfrm>
          <a:prstGeom prst="downArrow">
            <a:avLst>
              <a:gd name="adj1" fmla="val 50000"/>
              <a:gd name="adj2" fmla="val 50063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灯片编号占位符 5"/>
          <p:cNvSpPr/>
          <p:nvPr/>
        </p:nvSpPr>
        <p:spPr>
          <a:xfrm>
            <a:off x="687708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46327-C9FA-4CB0-ABC0-2C7E2D1E6310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35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1019160"/>
          </a:xfrm>
          <a:prstGeom prst="rect">
            <a:avLst/>
          </a:prstGeom>
          <a:ln w="0">
            <a:noFill/>
          </a:ln>
        </p:spPr>
      </p:pic>
      <p:sp>
        <p:nvSpPr>
          <p:cNvPr id="1036" name="Text Box 6"/>
          <p:cNvSpPr/>
          <p:nvPr/>
        </p:nvSpPr>
        <p:spPr>
          <a:xfrm>
            <a:off x="95400" y="2482920"/>
            <a:ext cx="154764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. DS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PD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P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cc0099"/>
                </a:solidFill>
                <a:latin typeface="Comic Sans MS"/>
              </a:rPr>
              <a:t>DD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. S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. AP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7" name="Rectangle 2"/>
          <p:cNvSpPr/>
          <p:nvPr/>
        </p:nvSpPr>
        <p:spPr>
          <a:xfrm>
            <a:off x="1643040" y="1071720"/>
            <a:ext cx="664380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Details for the Design Metho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38" name="Object 1"/>
          <p:cNvGraphicFramePr/>
          <p:nvPr/>
        </p:nvGraphicFramePr>
        <p:xfrm>
          <a:off x="2500200" y="2143080"/>
          <a:ext cx="1285920" cy="428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9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0200" y="2143080"/>
                    <a:ext cx="128592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0" name="Object 3"/>
          <p:cNvGraphicFramePr/>
          <p:nvPr/>
        </p:nvGraphicFramePr>
        <p:xfrm>
          <a:off x="4786200" y="2131920"/>
          <a:ext cx="2357640" cy="797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41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86200" y="2131920"/>
                    <a:ext cx="235764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2" name="TextBox 9"/>
          <p:cNvSpPr/>
          <p:nvPr/>
        </p:nvSpPr>
        <p:spPr>
          <a:xfrm>
            <a:off x="1828800" y="2109960"/>
            <a:ext cx="6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43" name="Object 5"/>
          <p:cNvGraphicFramePr/>
          <p:nvPr/>
        </p:nvGraphicFramePr>
        <p:xfrm>
          <a:off x="1914480" y="2629080"/>
          <a:ext cx="1013040" cy="357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44" name="Object 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14480" y="2629080"/>
                    <a:ext cx="101304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5" name="Object 7"/>
          <p:cNvGraphicFramePr/>
          <p:nvPr/>
        </p:nvGraphicFramePr>
        <p:xfrm>
          <a:off x="3000240" y="2627280"/>
          <a:ext cx="857520" cy="3175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46" name="Object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000240" y="2627280"/>
                    <a:ext cx="85752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7" name="Object 9"/>
          <p:cNvGraphicFramePr/>
          <p:nvPr/>
        </p:nvGraphicFramePr>
        <p:xfrm>
          <a:off x="4143240" y="3079800"/>
          <a:ext cx="2428920" cy="1278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048" name="Object 9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143240" y="3079800"/>
                    <a:ext cx="2428920" cy="12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9" name="右箭头 16"/>
          <p:cNvSpPr/>
          <p:nvPr/>
        </p:nvSpPr>
        <p:spPr>
          <a:xfrm>
            <a:off x="3929040" y="2286000"/>
            <a:ext cx="857160" cy="401760"/>
          </a:xfrm>
          <a:prstGeom prst="rightArrow">
            <a:avLst>
              <a:gd name="adj1" fmla="val 50000"/>
              <a:gd name="adj2" fmla="val 86634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50" name="Object 11"/>
          <p:cNvGraphicFramePr/>
          <p:nvPr/>
        </p:nvGraphicFramePr>
        <p:xfrm>
          <a:off x="3071880" y="4500720"/>
          <a:ext cx="2357280" cy="5950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051" name="Object 11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071880" y="4500720"/>
                    <a:ext cx="2357280" cy="59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2" name="Object 17"/>
          <p:cNvGraphicFramePr/>
          <p:nvPr/>
        </p:nvGraphicFramePr>
        <p:xfrm>
          <a:off x="2643120" y="3440160"/>
          <a:ext cx="1071720" cy="4017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053" name="Object 17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643120" y="3440160"/>
                    <a:ext cx="107172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4" name="Object 24"/>
          <p:cNvGraphicFramePr/>
          <p:nvPr/>
        </p:nvGraphicFramePr>
        <p:xfrm>
          <a:off x="2000160" y="5286240"/>
          <a:ext cx="841320" cy="13320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055" name="Object 24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000160" y="5286240"/>
                    <a:ext cx="841320" cy="13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6" name="AutoShape 17"/>
          <p:cNvSpPr/>
          <p:nvPr/>
        </p:nvSpPr>
        <p:spPr>
          <a:xfrm>
            <a:off x="2857680" y="5524560"/>
            <a:ext cx="1714320" cy="762120"/>
          </a:xfrm>
          <a:custGeom>
            <a:avLst/>
            <a:gdLst>
              <a:gd name="textAreaLeft" fmla="*/ 219600 w 1714320"/>
              <a:gd name="textAreaRight" fmla="*/ 1494720 w 17143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062" y="5400"/>
                </a:lnTo>
                <a:lnTo>
                  <a:pt x="16062" y="0"/>
                </a:lnTo>
                <a:lnTo>
                  <a:pt x="21600" y="10800"/>
                </a:lnTo>
                <a:lnTo>
                  <a:pt x="16062" y="21600"/>
                </a:lnTo>
                <a:lnTo>
                  <a:pt x="16062" y="16200"/>
                </a:lnTo>
                <a:lnTo>
                  <a:pt x="0" y="16200"/>
                </a:lnTo>
                <a:lnTo>
                  <a:pt x="2769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system i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7" name="Text Box 18"/>
          <p:cNvSpPr/>
          <p:nvPr/>
        </p:nvSpPr>
        <p:spPr>
          <a:xfrm>
            <a:off x="4643280" y="5286240"/>
            <a:ext cx="2571840" cy="13262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Unstabl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Marginally stab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Asymptotically stab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8" name="Rectangle 11"/>
          <p:cNvSpPr/>
          <p:nvPr/>
        </p:nvSpPr>
        <p:spPr>
          <a:xfrm>
            <a:off x="7215120" y="2286000"/>
            <a:ext cx="180036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Select parameters satisfying constraint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9" name="Rectangle 12"/>
          <p:cNvSpPr/>
          <p:nvPr/>
        </p:nvSpPr>
        <p:spPr>
          <a:xfrm>
            <a:off x="7215120" y="3000240"/>
            <a:ext cx="180036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Derivation of the coupled equation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0" name="Rectangle 22"/>
          <p:cNvSpPr/>
          <p:nvPr/>
        </p:nvSpPr>
        <p:spPr>
          <a:xfrm>
            <a:off x="7299000" y="3671640"/>
            <a:ext cx="1632600" cy="515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Linearization of the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coupled equation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1" name="Rectangle 23"/>
          <p:cNvSpPr/>
          <p:nvPr/>
        </p:nvSpPr>
        <p:spPr>
          <a:xfrm>
            <a:off x="7215120" y="4477320"/>
            <a:ext cx="1800360" cy="332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Stability analysi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2" name="下箭头 35"/>
          <p:cNvSpPr/>
          <p:nvPr/>
        </p:nvSpPr>
        <p:spPr>
          <a:xfrm>
            <a:off x="7929720" y="2714760"/>
            <a:ext cx="285480" cy="285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3" name="下箭头 36"/>
          <p:cNvSpPr/>
          <p:nvPr/>
        </p:nvSpPr>
        <p:spPr>
          <a:xfrm>
            <a:off x="7929720" y="3429000"/>
            <a:ext cx="285480" cy="285840"/>
          </a:xfrm>
          <a:prstGeom prst="downArrow">
            <a:avLst>
              <a:gd name="adj1" fmla="val 50000"/>
              <a:gd name="adj2" fmla="val 50063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4" name="下箭头 37"/>
          <p:cNvSpPr/>
          <p:nvPr/>
        </p:nvSpPr>
        <p:spPr>
          <a:xfrm>
            <a:off x="7929720" y="4143240"/>
            <a:ext cx="285480" cy="285840"/>
          </a:xfrm>
          <a:prstGeom prst="downArrow">
            <a:avLst>
              <a:gd name="adj1" fmla="val 50000"/>
              <a:gd name="adj2" fmla="val 50063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5" name="Picture 3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1019160"/>
          </a:xfrm>
          <a:prstGeom prst="rect">
            <a:avLst/>
          </a:prstGeom>
          <a:ln w="0">
            <a:noFill/>
          </a:ln>
        </p:spPr>
      </p:pic>
      <p:sp>
        <p:nvSpPr>
          <p:cNvPr id="1066" name="灯片编号占位符 5"/>
          <p:cNvSpPr/>
          <p:nvPr/>
        </p:nvSpPr>
        <p:spPr>
          <a:xfrm>
            <a:off x="687708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7" name="Rectangle 2"/>
          <p:cNvSpPr/>
          <p:nvPr/>
        </p:nvSpPr>
        <p:spPr>
          <a:xfrm>
            <a:off x="1643040" y="1071720"/>
            <a:ext cx="664380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Details for the Design Metho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8" name="Text Box 6"/>
          <p:cNvSpPr/>
          <p:nvPr/>
        </p:nvSpPr>
        <p:spPr>
          <a:xfrm>
            <a:off x="95400" y="2482920"/>
            <a:ext cx="154764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. DS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PD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P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cc0099"/>
                </a:solidFill>
                <a:latin typeface="Comic Sans MS"/>
              </a:rPr>
              <a:t>DD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. S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. AP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9" name="Oval 33"/>
          <p:cNvSpPr/>
          <p:nvPr/>
        </p:nvSpPr>
        <p:spPr>
          <a:xfrm>
            <a:off x="1571760" y="5000760"/>
            <a:ext cx="2000160" cy="14284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Restoring torque and force should be generated when the sail deviates from the equilibrium posi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0" name="Rectangle 41"/>
          <p:cNvSpPr/>
          <p:nvPr/>
        </p:nvSpPr>
        <p:spPr>
          <a:xfrm>
            <a:off x="2428920" y="4815000"/>
            <a:ext cx="214200" cy="18576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71" name="Object 25"/>
          <p:cNvGraphicFramePr/>
          <p:nvPr/>
        </p:nvGraphicFramePr>
        <p:xfrm>
          <a:off x="4765680" y="5429160"/>
          <a:ext cx="1235160" cy="466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2" name="Object 2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65680" y="5429160"/>
                    <a:ext cx="1235160" cy="466920"/>
                  </a:xfrm>
                  <a:prstGeom prst="rect">
                    <a:avLst/>
                  </a:prstGeom>
                  <a:ln w="25560">
                    <a:solidFill>
                      <a:srgbClr val="cc00cc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073" name="Object 2"/>
          <p:cNvGraphicFramePr/>
          <p:nvPr/>
        </p:nvGraphicFramePr>
        <p:xfrm>
          <a:off x="3714840" y="2571840"/>
          <a:ext cx="3357360" cy="357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74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714840" y="2571840"/>
                    <a:ext cx="3357360" cy="357120"/>
                  </a:xfrm>
                  <a:prstGeom prst="rect">
                    <a:avLst/>
                  </a:prstGeom>
                  <a:ln w="9360">
                    <a:solidFill>
                      <a:srgbClr val="cc00cc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075" name="Object 1"/>
          <p:cNvGraphicFramePr/>
          <p:nvPr/>
        </p:nvGraphicFramePr>
        <p:xfrm>
          <a:off x="4214880" y="3929040"/>
          <a:ext cx="2428920" cy="357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76" name="Object 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214880" y="3929040"/>
                    <a:ext cx="2428920" cy="357120"/>
                  </a:xfrm>
                  <a:prstGeom prst="rect">
                    <a:avLst/>
                  </a:prstGeom>
                  <a:ln w="9360">
                    <a:solidFill>
                      <a:srgbClr val="cc00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77" name="Oval 21"/>
          <p:cNvSpPr/>
          <p:nvPr/>
        </p:nvSpPr>
        <p:spPr>
          <a:xfrm>
            <a:off x="1638360" y="2185920"/>
            <a:ext cx="1861920" cy="1100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The resultant force is equal to zero when the sail is in equilibriu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8" name="Text Box 20"/>
          <p:cNvSpPr/>
          <p:nvPr/>
        </p:nvSpPr>
        <p:spPr>
          <a:xfrm>
            <a:off x="2443320" y="2243160"/>
            <a:ext cx="484200" cy="18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9" name="Rectangle 39"/>
          <p:cNvSpPr/>
          <p:nvPr/>
        </p:nvSpPr>
        <p:spPr>
          <a:xfrm>
            <a:off x="2428920" y="2028960"/>
            <a:ext cx="214200" cy="18576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0" name="Rectangle 40"/>
          <p:cNvSpPr/>
          <p:nvPr/>
        </p:nvSpPr>
        <p:spPr>
          <a:xfrm>
            <a:off x="2428920" y="3386160"/>
            <a:ext cx="201600" cy="25704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1" name="Oval 30"/>
          <p:cNvSpPr/>
          <p:nvPr/>
        </p:nvSpPr>
        <p:spPr>
          <a:xfrm>
            <a:off x="1643040" y="3571920"/>
            <a:ext cx="1857240" cy="1143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The resultant torque is equal to zero when the sail is in equilibriu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2" name="Rectangle 11"/>
          <p:cNvSpPr/>
          <p:nvPr/>
        </p:nvSpPr>
        <p:spPr>
          <a:xfrm>
            <a:off x="7215120" y="2286000"/>
            <a:ext cx="180036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Select parameters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satisfying constraint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3" name="Rectangle 12"/>
          <p:cNvSpPr/>
          <p:nvPr/>
        </p:nvSpPr>
        <p:spPr>
          <a:xfrm>
            <a:off x="7215120" y="3000240"/>
            <a:ext cx="180036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Derivation of the coupled equation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4" name="Rectangle 22"/>
          <p:cNvSpPr/>
          <p:nvPr/>
        </p:nvSpPr>
        <p:spPr>
          <a:xfrm>
            <a:off x="7299000" y="3671640"/>
            <a:ext cx="1632600" cy="515160"/>
          </a:xfrm>
          <a:prstGeom prst="rect">
            <a:avLst/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Linearization of the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oupled equation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5" name="Rectangle 23"/>
          <p:cNvSpPr/>
          <p:nvPr/>
        </p:nvSpPr>
        <p:spPr>
          <a:xfrm>
            <a:off x="7215120" y="4477320"/>
            <a:ext cx="1800360" cy="332280"/>
          </a:xfrm>
          <a:prstGeom prst="rect">
            <a:avLst/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Stability analysi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6" name="下箭头 28"/>
          <p:cNvSpPr/>
          <p:nvPr/>
        </p:nvSpPr>
        <p:spPr>
          <a:xfrm>
            <a:off x="7929720" y="2714760"/>
            <a:ext cx="285480" cy="285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7" name="下箭头 36"/>
          <p:cNvSpPr/>
          <p:nvPr/>
        </p:nvSpPr>
        <p:spPr>
          <a:xfrm>
            <a:off x="7929720" y="3429000"/>
            <a:ext cx="285480" cy="285840"/>
          </a:xfrm>
          <a:prstGeom prst="downArrow">
            <a:avLst>
              <a:gd name="adj1" fmla="val 50000"/>
              <a:gd name="adj2" fmla="val 50063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8" name="下箭头 37"/>
          <p:cNvSpPr/>
          <p:nvPr/>
        </p:nvSpPr>
        <p:spPr>
          <a:xfrm>
            <a:off x="7929720" y="4143240"/>
            <a:ext cx="285480" cy="285840"/>
          </a:xfrm>
          <a:prstGeom prst="downArrow">
            <a:avLst>
              <a:gd name="adj1" fmla="val 50000"/>
              <a:gd name="adj2" fmla="val 50063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Picture 3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1019160"/>
          </a:xfrm>
          <a:prstGeom prst="rect">
            <a:avLst/>
          </a:prstGeom>
          <a:ln w="0">
            <a:noFill/>
          </a:ln>
        </p:spPr>
      </p:pic>
      <p:sp>
        <p:nvSpPr>
          <p:cNvPr id="1090" name="灯片编号占位符 5"/>
          <p:cNvSpPr/>
          <p:nvPr/>
        </p:nvSpPr>
        <p:spPr>
          <a:xfrm>
            <a:off x="687708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1" name="Rectangle 2"/>
          <p:cNvSpPr/>
          <p:nvPr/>
        </p:nvSpPr>
        <p:spPr>
          <a:xfrm>
            <a:off x="1643040" y="1071720"/>
            <a:ext cx="664380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Details for the Design Metho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2" name="Text Box 6"/>
          <p:cNvSpPr/>
          <p:nvPr/>
        </p:nvSpPr>
        <p:spPr>
          <a:xfrm>
            <a:off x="95400" y="2482920"/>
            <a:ext cx="154764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. DS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PD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P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cc0099"/>
                </a:solidFill>
                <a:latin typeface="Comic Sans MS"/>
              </a:rPr>
              <a:t>DD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. S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. AP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93" name="Picture 16" descr=""/>
          <p:cNvPicPr/>
          <p:nvPr/>
        </p:nvPicPr>
        <p:blipFill>
          <a:blip r:embed="rId2"/>
          <a:stretch/>
        </p:blipFill>
        <p:spPr>
          <a:xfrm>
            <a:off x="4572000" y="2484360"/>
            <a:ext cx="2786040" cy="716040"/>
          </a:xfrm>
          <a:prstGeom prst="rect">
            <a:avLst/>
          </a:prstGeom>
          <a:ln w="0">
            <a:noFill/>
          </a:ln>
        </p:spPr>
      </p:pic>
      <p:sp>
        <p:nvSpPr>
          <p:cNvPr id="1094" name="TextBox 4"/>
          <p:cNvSpPr/>
          <p:nvPr/>
        </p:nvSpPr>
        <p:spPr>
          <a:xfrm>
            <a:off x="1785960" y="264312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 variabl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5" name="TextBox 5"/>
          <p:cNvSpPr/>
          <p:nvPr/>
        </p:nvSpPr>
        <p:spPr>
          <a:xfrm>
            <a:off x="1763640" y="476424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iz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6" name="TextBox 6"/>
          <p:cNvSpPr/>
          <p:nvPr/>
        </p:nvSpPr>
        <p:spPr>
          <a:xfrm>
            <a:off x="1785960" y="371484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ject to constrai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97" name="Object 2"/>
          <p:cNvGraphicFramePr/>
          <p:nvPr/>
        </p:nvGraphicFramePr>
        <p:xfrm>
          <a:off x="4857840" y="3527280"/>
          <a:ext cx="4032000" cy="90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8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7840" y="3527280"/>
                    <a:ext cx="403200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9" name="Object 4"/>
          <p:cNvGraphicFramePr/>
          <p:nvPr/>
        </p:nvGraphicFramePr>
        <p:xfrm>
          <a:off x="4929120" y="4915080"/>
          <a:ext cx="828720" cy="442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29120" y="4915080"/>
                    <a:ext cx="82872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1" name="Picture 4" descr="13"/>
          <p:cNvPicPr/>
          <p:nvPr/>
        </p:nvPicPr>
        <p:blipFill>
          <a:blip r:embed="rId1"/>
          <a:stretch/>
        </p:blipFill>
        <p:spPr>
          <a:xfrm>
            <a:off x="0" y="0"/>
            <a:ext cx="9144000" cy="1019160"/>
          </a:xfrm>
          <a:prstGeom prst="rect">
            <a:avLst/>
          </a:prstGeom>
          <a:ln w="0">
            <a:noFill/>
          </a:ln>
        </p:spPr>
      </p:pic>
      <p:sp>
        <p:nvSpPr>
          <p:cNvPr id="1102" name="灯片编号占位符 5"/>
          <p:cNvSpPr/>
          <p:nvPr/>
        </p:nvSpPr>
        <p:spPr>
          <a:xfrm>
            <a:off x="687708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3" name="矩形 13"/>
          <p:cNvSpPr/>
          <p:nvPr/>
        </p:nvSpPr>
        <p:spPr>
          <a:xfrm>
            <a:off x="1848600" y="1214280"/>
            <a:ext cx="34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imulation Resul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4" name="Text Box 6"/>
          <p:cNvSpPr/>
          <p:nvPr/>
        </p:nvSpPr>
        <p:spPr>
          <a:xfrm>
            <a:off x="95400" y="2482920"/>
            <a:ext cx="154764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. DS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. PD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P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D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0" lang="en-US" sz="1800" spc="-1" strike="noStrike">
                <a:solidFill>
                  <a:srgbClr val="cc00cc"/>
                </a:solidFill>
                <a:latin typeface="Comic Sans MS"/>
              </a:rPr>
              <a:t>S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. AP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05" name="Picture 55" descr=""/>
          <p:cNvPicPr/>
          <p:nvPr/>
        </p:nvPicPr>
        <p:blipFill>
          <a:blip r:embed="rId2"/>
          <a:stretch/>
        </p:blipFill>
        <p:spPr>
          <a:xfrm>
            <a:off x="3200400" y="2562120"/>
            <a:ext cx="3228840" cy="1866960"/>
          </a:xfrm>
          <a:prstGeom prst="rect">
            <a:avLst/>
          </a:prstGeom>
          <a:ln w="0">
            <a:noFill/>
          </a:ln>
        </p:spPr>
      </p:pic>
      <p:pic>
        <p:nvPicPr>
          <p:cNvPr id="1106" name="Picture 57" descr=""/>
          <p:cNvPicPr/>
          <p:nvPr/>
        </p:nvPicPr>
        <p:blipFill>
          <a:blip r:embed="rId3"/>
          <a:stretch/>
        </p:blipFill>
        <p:spPr>
          <a:xfrm>
            <a:off x="1881360" y="4500720"/>
            <a:ext cx="6762600" cy="1771560"/>
          </a:xfrm>
          <a:prstGeom prst="rect">
            <a:avLst/>
          </a:prstGeom>
          <a:ln w="0">
            <a:noFill/>
          </a:ln>
        </p:spPr>
      </p:pic>
      <p:sp>
        <p:nvSpPr>
          <p:cNvPr id="1107" name="Rectangle 5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08" name="Object 58"/>
          <p:cNvGraphicFramePr/>
          <p:nvPr/>
        </p:nvGraphicFramePr>
        <p:xfrm>
          <a:off x="2643120" y="2041560"/>
          <a:ext cx="4214880" cy="387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09" name="Object 5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643120" y="2041560"/>
                    <a:ext cx="421488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灯片编号占位符 5"/>
          <p:cNvSpPr/>
          <p:nvPr/>
        </p:nvSpPr>
        <p:spPr>
          <a:xfrm>
            <a:off x="687708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11" name="Picture 4" descr="15"/>
          <p:cNvPicPr/>
          <p:nvPr/>
        </p:nvPicPr>
        <p:blipFill>
          <a:blip r:embed="rId1"/>
          <a:stretch/>
        </p:blipFill>
        <p:spPr>
          <a:xfrm>
            <a:off x="0" y="0"/>
            <a:ext cx="9144000" cy="1019160"/>
          </a:xfrm>
          <a:prstGeom prst="rect">
            <a:avLst/>
          </a:prstGeom>
          <a:ln w="0">
            <a:noFill/>
          </a:ln>
        </p:spPr>
      </p:pic>
      <p:sp>
        <p:nvSpPr>
          <p:cNvPr id="1112" name="Rectangle 6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3" name="矩形 12"/>
          <p:cNvSpPr/>
          <p:nvPr/>
        </p:nvSpPr>
        <p:spPr>
          <a:xfrm>
            <a:off x="1848600" y="1214280"/>
            <a:ext cx="34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imulation Resul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4" name="Text Box 6"/>
          <p:cNvSpPr/>
          <p:nvPr/>
        </p:nvSpPr>
        <p:spPr>
          <a:xfrm>
            <a:off x="95400" y="2482920"/>
            <a:ext cx="154764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. DS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. PD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P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D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0" lang="en-US" sz="1800" spc="-1" strike="noStrike">
                <a:solidFill>
                  <a:srgbClr val="cc00cc"/>
                </a:solidFill>
                <a:latin typeface="Comic Sans MS"/>
              </a:rPr>
              <a:t>S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. AP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5" name="TextBox 15"/>
          <p:cNvSpPr/>
          <p:nvPr/>
        </p:nvSpPr>
        <p:spPr>
          <a:xfrm>
            <a:off x="1571760" y="5572080"/>
            <a:ext cx="72151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Palatino Linotype"/>
                <a:ea typeface="华文楷体"/>
              </a:rPr>
              <a:t>The  sailcraft is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marginally</a:t>
            </a:r>
            <a:r>
              <a:rPr b="0" lang="en-US" sz="1800" spc="-1" strike="noStrike">
                <a:solidFill>
                  <a:srgbClr val="ff0000"/>
                </a:solidFill>
                <a:latin typeface="Palatino Linotype"/>
                <a:ea typeface="华文楷体"/>
              </a:rPr>
              <a:t> stable on the orbi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Palatino Linotype"/>
                <a:ea typeface="华文楷体"/>
              </a:rPr>
              <a:t>The  amplitude of the vibration  increases with initial error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16" name="Picture 10" descr=""/>
          <p:cNvPicPr/>
          <p:nvPr/>
        </p:nvPicPr>
        <p:blipFill>
          <a:blip r:embed="rId2"/>
          <a:stretch/>
        </p:blipFill>
        <p:spPr>
          <a:xfrm>
            <a:off x="1785960" y="1785960"/>
            <a:ext cx="6348240" cy="37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灯片编号占位符 5"/>
          <p:cNvSpPr/>
          <p:nvPr/>
        </p:nvSpPr>
        <p:spPr>
          <a:xfrm>
            <a:off x="687708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8" name="Rectangle 5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9" name="Rectangle 7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0" name="Rectangle 9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1" name="Rectangle 11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22" name="Picture 1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1019160"/>
          </a:xfrm>
          <a:prstGeom prst="rect">
            <a:avLst/>
          </a:prstGeom>
          <a:ln w="0">
            <a:noFill/>
          </a:ln>
        </p:spPr>
      </p:pic>
      <p:sp>
        <p:nvSpPr>
          <p:cNvPr id="1123" name="Text Box 6"/>
          <p:cNvSpPr/>
          <p:nvPr/>
        </p:nvSpPr>
        <p:spPr>
          <a:xfrm>
            <a:off x="95400" y="2482920"/>
            <a:ext cx="154764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. DS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. PD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P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D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0" lang="en-US" sz="1800" spc="-1" strike="noStrike">
                <a:solidFill>
                  <a:srgbClr val="cc00cc"/>
                </a:solidFill>
                <a:latin typeface="Comic Sans MS"/>
              </a:rPr>
              <a:t>S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. AP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24" name="Picture 23" descr=""/>
          <p:cNvPicPr/>
          <p:nvPr/>
        </p:nvPicPr>
        <p:blipFill>
          <a:blip r:embed="rId2"/>
          <a:stretch/>
        </p:blipFill>
        <p:spPr>
          <a:xfrm>
            <a:off x="4714920" y="2071800"/>
            <a:ext cx="3429000" cy="2655720"/>
          </a:xfrm>
          <a:prstGeom prst="rect">
            <a:avLst/>
          </a:prstGeom>
          <a:ln w="0">
            <a:noFill/>
          </a:ln>
        </p:spPr>
      </p:pic>
      <p:sp>
        <p:nvSpPr>
          <p:cNvPr id="1125" name="矩形 27"/>
          <p:cNvSpPr/>
          <p:nvPr/>
        </p:nvSpPr>
        <p:spPr>
          <a:xfrm>
            <a:off x="1848600" y="1214280"/>
            <a:ext cx="34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imulation Resul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26" name="Group 24"/>
          <p:cNvGrpSpPr/>
          <p:nvPr/>
        </p:nvGrpSpPr>
        <p:grpSpPr>
          <a:xfrm>
            <a:off x="2143080" y="2000160"/>
            <a:ext cx="2500200" cy="2428920"/>
            <a:chOff x="2143080" y="2000160"/>
            <a:chExt cx="2500200" cy="2428920"/>
          </a:xfrm>
        </p:grpSpPr>
        <p:sp>
          <p:nvSpPr>
            <p:cNvPr id="1127" name="Rectangle 25"/>
            <p:cNvSpPr/>
            <p:nvPr/>
          </p:nvSpPr>
          <p:spPr>
            <a:xfrm>
              <a:off x="3673080" y="3192120"/>
              <a:ext cx="115920" cy="12204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8" name="Rectangle 26"/>
            <p:cNvSpPr/>
            <p:nvPr/>
          </p:nvSpPr>
          <p:spPr>
            <a:xfrm>
              <a:off x="2883240" y="3255120"/>
              <a:ext cx="1312920" cy="366480"/>
            </a:xfrm>
            <a:prstGeom prst="rect">
              <a:avLst/>
            </a:prstGeom>
            <a:solidFill>
              <a:srgbClr val="c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9" name="Oval 27"/>
            <p:cNvSpPr/>
            <p:nvPr/>
          </p:nvSpPr>
          <p:spPr>
            <a:xfrm>
              <a:off x="2143080" y="2901240"/>
              <a:ext cx="1516320" cy="684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0" name="Oval 28"/>
            <p:cNvSpPr/>
            <p:nvPr/>
          </p:nvSpPr>
          <p:spPr>
            <a:xfrm>
              <a:off x="2842920" y="3949200"/>
              <a:ext cx="853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1" name="Line 29"/>
            <p:cNvSpPr/>
            <p:nvPr/>
          </p:nvSpPr>
          <p:spPr>
            <a:xfrm flipV="1">
              <a:off x="2884680" y="3192480"/>
              <a:ext cx="0" cy="800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2" name="Line 30"/>
            <p:cNvSpPr/>
            <p:nvPr/>
          </p:nvSpPr>
          <p:spPr>
            <a:xfrm flipV="1">
              <a:off x="2884680" y="2000160"/>
              <a:ext cx="0" cy="125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1133" name="Object 31"/>
            <p:cNvGraphicFramePr/>
            <p:nvPr/>
          </p:nvGraphicFramePr>
          <p:xfrm>
            <a:off x="2323440" y="2622960"/>
            <a:ext cx="873720" cy="200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34" name="Object 31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323440" y="2622960"/>
                      <a:ext cx="873720" cy="200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35" name="Object 32"/>
            <p:cNvGraphicFramePr/>
            <p:nvPr/>
          </p:nvGraphicFramePr>
          <p:xfrm>
            <a:off x="2648520" y="4095360"/>
            <a:ext cx="247680" cy="137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36" name="Object 3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648520" y="4095360"/>
                      <a:ext cx="247680" cy="13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37" name="Line 33"/>
            <p:cNvSpPr/>
            <p:nvPr/>
          </p:nvSpPr>
          <p:spPr>
            <a:xfrm>
              <a:off x="2883240" y="3255120"/>
              <a:ext cx="758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8" name="Line 34"/>
            <p:cNvSpPr/>
            <p:nvPr/>
          </p:nvSpPr>
          <p:spPr>
            <a:xfrm>
              <a:off x="2865240" y="3987000"/>
              <a:ext cx="1778040" cy="44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1139" name="Object 35"/>
            <p:cNvGraphicFramePr/>
            <p:nvPr/>
          </p:nvGraphicFramePr>
          <p:xfrm>
            <a:off x="2648520" y="2374200"/>
            <a:ext cx="176760" cy="225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40" name="Object 3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48520" y="2374200"/>
                      <a:ext cx="176760" cy="225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1141" name="AutoShape 36"/>
            <p:cNvCxnSpPr/>
            <p:nvPr/>
          </p:nvCxnSpPr>
          <p:spPr>
            <a:xfrm flipV="1">
              <a:off x="3334320" y="2581200"/>
              <a:ext cx="1080" cy="388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2" name="AutoShape 37"/>
            <p:cNvCxnSpPr/>
            <p:nvPr/>
          </p:nvCxnSpPr>
          <p:spPr>
            <a:xfrm flipV="1">
              <a:off x="2883240" y="2770560"/>
              <a:ext cx="758880" cy="484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3" name="AutoShape 38"/>
            <p:cNvCxnSpPr/>
            <p:nvPr/>
          </p:nvCxnSpPr>
          <p:spPr>
            <a:xfrm flipV="1">
              <a:off x="3726360" y="2901240"/>
              <a:ext cx="1080" cy="353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4" name="AutoShape 39"/>
            <p:cNvCxnSpPr/>
            <p:nvPr/>
          </p:nvCxnSpPr>
          <p:spPr>
            <a:xfrm flipV="1">
              <a:off x="3726720" y="3081600"/>
              <a:ext cx="370800" cy="149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graphicFrame>
          <p:nvGraphicFramePr>
            <p:cNvPr id="1145" name="Object 40"/>
            <p:cNvGraphicFramePr/>
            <p:nvPr/>
          </p:nvGraphicFramePr>
          <p:xfrm>
            <a:off x="3618360" y="2594520"/>
            <a:ext cx="164520" cy="2257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146" name="Object 40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618360" y="2594520"/>
                      <a:ext cx="164520" cy="225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7" name="Object 41"/>
            <p:cNvGraphicFramePr/>
            <p:nvPr/>
          </p:nvGraphicFramePr>
          <p:xfrm>
            <a:off x="3282120" y="2355480"/>
            <a:ext cx="153360" cy="2257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148" name="Object 41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282120" y="2355480"/>
                      <a:ext cx="153360" cy="225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9" name="Object 42"/>
            <p:cNvGraphicFramePr/>
            <p:nvPr/>
          </p:nvGraphicFramePr>
          <p:xfrm>
            <a:off x="4087800" y="2916360"/>
            <a:ext cx="177480" cy="2257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50" name="Object 42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4087800" y="2916360"/>
                      <a:ext cx="177480" cy="225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51" name="Object 43"/>
            <p:cNvGraphicFramePr/>
            <p:nvPr/>
          </p:nvGraphicFramePr>
          <p:xfrm>
            <a:off x="3781080" y="2792160"/>
            <a:ext cx="153360" cy="2257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52" name="Object 43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3781080" y="2792160"/>
                      <a:ext cx="153360" cy="225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53" name="Arc 44"/>
            <p:cNvSpPr/>
            <p:nvPr/>
          </p:nvSpPr>
          <p:spPr>
            <a:xfrm>
              <a:off x="3112200" y="3108240"/>
              <a:ext cx="84600" cy="1465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1154" name="Object 45"/>
            <p:cNvGraphicFramePr/>
            <p:nvPr/>
          </p:nvGraphicFramePr>
          <p:xfrm>
            <a:off x="3275280" y="3074400"/>
            <a:ext cx="141840" cy="1627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5" name="Object 45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275280" y="3074400"/>
                      <a:ext cx="141840" cy="16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56" name="Arc 46"/>
            <p:cNvSpPr/>
            <p:nvPr/>
          </p:nvSpPr>
          <p:spPr>
            <a:xfrm rot="1800000">
              <a:off x="3962880" y="3143880"/>
              <a:ext cx="118800" cy="1742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1157" name="Object 47"/>
            <p:cNvGraphicFramePr/>
            <p:nvPr/>
          </p:nvGraphicFramePr>
          <p:xfrm>
            <a:off x="4096800" y="3089160"/>
            <a:ext cx="177120" cy="20052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158" name="Object 47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4096800" y="3089160"/>
                      <a:ext cx="177120" cy="200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59" name="TextBox 52"/>
          <p:cNvSpPr/>
          <p:nvPr/>
        </p:nvSpPr>
        <p:spPr>
          <a:xfrm>
            <a:off x="2071800" y="5035680"/>
            <a:ext cx="6429240" cy="146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alatino Linotype"/>
                <a:ea typeface="华文楷体"/>
              </a:rPr>
              <a:t>The period of the sailcraft is longer than the          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alatino Linotype"/>
                <a:ea typeface="华文楷体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Palatino Linotype"/>
                <a:ea typeface="华文楷体"/>
              </a:rPr>
              <a:t>period of the reference  displaced orbit</a:t>
            </a:r>
            <a:r>
              <a:rPr b="0" lang="en-US" sz="1800" spc="-1" strike="noStrike">
                <a:solidFill>
                  <a:srgbClr val="ff0000"/>
                </a:solidFill>
                <a:latin typeface="Palatino Linotype"/>
                <a:ea typeface="华文楷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灯片编号占位符 5"/>
          <p:cNvSpPr/>
          <p:nvPr/>
        </p:nvSpPr>
        <p:spPr>
          <a:xfrm>
            <a:off x="687708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61" name="Picture 4" descr="17"/>
          <p:cNvPicPr/>
          <p:nvPr/>
        </p:nvPicPr>
        <p:blipFill>
          <a:blip r:embed="rId1"/>
          <a:stretch/>
        </p:blipFill>
        <p:spPr>
          <a:xfrm>
            <a:off x="0" y="0"/>
            <a:ext cx="9144000" cy="1019160"/>
          </a:xfrm>
          <a:prstGeom prst="rect">
            <a:avLst/>
          </a:prstGeom>
          <a:ln w="0">
            <a:noFill/>
          </a:ln>
        </p:spPr>
      </p:pic>
      <p:sp>
        <p:nvSpPr>
          <p:cNvPr id="1162" name="Rectangle 18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3" name="Rectangle 20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4" name="Rectangle 22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5" name="Text Box 6"/>
          <p:cNvSpPr/>
          <p:nvPr/>
        </p:nvSpPr>
        <p:spPr>
          <a:xfrm>
            <a:off x="95400" y="2482920"/>
            <a:ext cx="154764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. DS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. PD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P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D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. S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. </a:t>
            </a:r>
            <a:r>
              <a:rPr b="0" lang="en-US" sz="1800" spc="-1" strike="noStrike">
                <a:solidFill>
                  <a:srgbClr val="cc0099"/>
                </a:solidFill>
                <a:latin typeface="Comic Sans MS"/>
              </a:rPr>
              <a:t>AP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6" name="矩形 23"/>
          <p:cNvSpPr/>
          <p:nvPr/>
        </p:nvSpPr>
        <p:spPr>
          <a:xfrm>
            <a:off x="1990440" y="1214280"/>
            <a:ext cx="591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nalysis for the Passive Stabil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7" name="矩形 19"/>
          <p:cNvSpPr/>
          <p:nvPr/>
        </p:nvSpPr>
        <p:spPr>
          <a:xfrm>
            <a:off x="5927760" y="4890960"/>
            <a:ext cx="214200" cy="2145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8" name="TextBox 25"/>
          <p:cNvSpPr/>
          <p:nvPr/>
        </p:nvSpPr>
        <p:spPr>
          <a:xfrm>
            <a:off x="1785960" y="1928880"/>
            <a:ext cx="6429240" cy="21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wo assumptions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ormal lies in the plane spanned by the     a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 angle between      and       is invariant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9" name="椭圆 11"/>
          <p:cNvSpPr/>
          <p:nvPr/>
        </p:nvSpPr>
        <p:spPr>
          <a:xfrm>
            <a:off x="3197160" y="5022720"/>
            <a:ext cx="3143160" cy="914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170" name="直接箭头连接符 13"/>
          <p:cNvCxnSpPr/>
          <p:nvPr/>
        </p:nvCxnSpPr>
        <p:spPr>
          <a:xfrm flipV="1">
            <a:off x="4753080" y="4379040"/>
            <a:ext cx="2160" cy="200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71" name="直接箭头连接符 18"/>
          <p:cNvCxnSpPr/>
          <p:nvPr/>
        </p:nvCxnSpPr>
        <p:spPr>
          <a:xfrm flipV="1">
            <a:off x="4753080" y="4522320"/>
            <a:ext cx="1715040" cy="1858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72" name="直接连接符 21"/>
          <p:cNvSpPr/>
          <p:nvPr/>
        </p:nvSpPr>
        <p:spPr>
          <a:xfrm>
            <a:off x="4753080" y="4451400"/>
            <a:ext cx="128088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173" name="直接箭头连接符 24"/>
          <p:cNvCxnSpPr/>
          <p:nvPr/>
        </p:nvCxnSpPr>
        <p:spPr>
          <a:xfrm flipV="1">
            <a:off x="6047280" y="4320360"/>
            <a:ext cx="219960" cy="656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graphicFrame>
        <p:nvGraphicFramePr>
          <p:cNvPr id="1174" name="Object 3"/>
          <p:cNvGraphicFramePr/>
          <p:nvPr/>
        </p:nvGraphicFramePr>
        <p:xfrm>
          <a:off x="4324320" y="4379760"/>
          <a:ext cx="309600" cy="32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75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24320" y="4379760"/>
                    <a:ext cx="309600" cy="3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6" name="Object 4"/>
          <p:cNvGraphicFramePr/>
          <p:nvPr/>
        </p:nvGraphicFramePr>
        <p:xfrm>
          <a:off x="6529320" y="4640400"/>
          <a:ext cx="185760" cy="182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7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529320" y="4640400"/>
                    <a:ext cx="185760" cy="18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8" name="Object 5"/>
          <p:cNvGraphicFramePr/>
          <p:nvPr/>
        </p:nvGraphicFramePr>
        <p:xfrm>
          <a:off x="5967360" y="4237200"/>
          <a:ext cx="206280" cy="201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79" name="Object 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967360" y="4237200"/>
                    <a:ext cx="206280" cy="2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0" name="Object 6"/>
          <p:cNvGraphicFramePr/>
          <p:nvPr/>
        </p:nvGraphicFramePr>
        <p:xfrm>
          <a:off x="4405320" y="6443640"/>
          <a:ext cx="453960" cy="2001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81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405320" y="6443640"/>
                    <a:ext cx="453960" cy="2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2" name="Object 7"/>
          <p:cNvGraphicFramePr/>
          <p:nvPr/>
        </p:nvGraphicFramePr>
        <p:xfrm>
          <a:off x="6224760" y="4952880"/>
          <a:ext cx="453960" cy="255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183" name="Object 7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224760" y="4952880"/>
                    <a:ext cx="453960" cy="2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4" name="Object 8"/>
          <p:cNvGraphicFramePr/>
          <p:nvPr/>
        </p:nvGraphicFramePr>
        <p:xfrm>
          <a:off x="2395440" y="5308560"/>
          <a:ext cx="1589040" cy="2923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185" name="Object 8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395440" y="5308560"/>
                    <a:ext cx="1589040" cy="2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6" name="Object 9"/>
          <p:cNvGraphicFramePr/>
          <p:nvPr/>
        </p:nvGraphicFramePr>
        <p:xfrm>
          <a:off x="6643800" y="2928960"/>
          <a:ext cx="185760" cy="1825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187" name="Object 9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6643800" y="2928960"/>
                    <a:ext cx="185760" cy="18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8" name="Object 10"/>
          <p:cNvGraphicFramePr/>
          <p:nvPr/>
        </p:nvGraphicFramePr>
        <p:xfrm>
          <a:off x="7358040" y="2841480"/>
          <a:ext cx="309600" cy="3286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189" name="Object 10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7358040" y="2841480"/>
                    <a:ext cx="309600" cy="3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0" name="Object 11"/>
          <p:cNvGraphicFramePr/>
          <p:nvPr/>
        </p:nvGraphicFramePr>
        <p:xfrm>
          <a:off x="4151160" y="3484440"/>
          <a:ext cx="206640" cy="20160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191" name="Object 11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4151160" y="3484440"/>
                    <a:ext cx="206640" cy="2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2" name="Object 12"/>
          <p:cNvGraphicFramePr/>
          <p:nvPr/>
        </p:nvGraphicFramePr>
        <p:xfrm>
          <a:off x="4957920" y="3500280"/>
          <a:ext cx="185760" cy="18288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193" name="Object 12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4957920" y="3500280"/>
                    <a:ext cx="185760" cy="1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4" name="Object 13"/>
          <p:cNvGraphicFramePr/>
          <p:nvPr/>
        </p:nvGraphicFramePr>
        <p:xfrm>
          <a:off x="6253200" y="4370400"/>
          <a:ext cx="247680" cy="20160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1195" name="Object 13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6253200" y="4370400"/>
                    <a:ext cx="247680" cy="2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灯片编号占位符 5"/>
          <p:cNvSpPr/>
          <p:nvPr/>
        </p:nvSpPr>
        <p:spPr>
          <a:xfrm>
            <a:off x="687708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7" name="Rectangle 5"/>
          <p:cNvSpPr/>
          <p:nvPr/>
        </p:nvSpPr>
        <p:spPr>
          <a:xfrm>
            <a:off x="0" y="30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8" name="Rectangle 7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99" name="Picture 10" descr="18"/>
          <p:cNvPicPr/>
          <p:nvPr/>
        </p:nvPicPr>
        <p:blipFill>
          <a:blip r:embed="rId1"/>
          <a:stretch/>
        </p:blipFill>
        <p:spPr>
          <a:xfrm>
            <a:off x="0" y="0"/>
            <a:ext cx="9144000" cy="1019160"/>
          </a:xfrm>
          <a:prstGeom prst="rect">
            <a:avLst/>
          </a:prstGeom>
          <a:ln w="0">
            <a:noFill/>
          </a:ln>
        </p:spPr>
      </p:pic>
      <p:sp>
        <p:nvSpPr>
          <p:cNvPr id="1200" name="矩形 15"/>
          <p:cNvSpPr/>
          <p:nvPr/>
        </p:nvSpPr>
        <p:spPr>
          <a:xfrm>
            <a:off x="1990440" y="1214280"/>
            <a:ext cx="591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nalysis for the Passive Stabil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1" name="Text Box 6"/>
          <p:cNvSpPr/>
          <p:nvPr/>
        </p:nvSpPr>
        <p:spPr>
          <a:xfrm>
            <a:off x="95400" y="2482920"/>
            <a:ext cx="154764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. DS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. PD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P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D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. S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.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AP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02" name="Object 3"/>
          <p:cNvGraphicFramePr/>
          <p:nvPr/>
        </p:nvGraphicFramePr>
        <p:xfrm>
          <a:off x="2000160" y="2124000"/>
          <a:ext cx="4391280" cy="173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03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00160" y="2124000"/>
                    <a:ext cx="4391280" cy="17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4" name="Object 31"/>
          <p:cNvGraphicFramePr/>
          <p:nvPr/>
        </p:nvGraphicFramePr>
        <p:xfrm>
          <a:off x="3411360" y="4000680"/>
          <a:ext cx="1803600" cy="714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05" name="Object 3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411360" y="4000680"/>
                    <a:ext cx="18036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6" name="下箭头 32"/>
          <p:cNvSpPr/>
          <p:nvPr/>
        </p:nvSpPr>
        <p:spPr>
          <a:xfrm>
            <a:off x="2846520" y="3929040"/>
            <a:ext cx="511200" cy="92880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ffe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07" name="Object 34"/>
          <p:cNvGraphicFramePr/>
          <p:nvPr/>
        </p:nvGraphicFramePr>
        <p:xfrm>
          <a:off x="2038320" y="4929120"/>
          <a:ext cx="3890880" cy="1428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08" name="Object 3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38320" y="4929120"/>
                    <a:ext cx="389088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09" name="Group 38"/>
          <p:cNvGrpSpPr/>
          <p:nvPr/>
        </p:nvGrpSpPr>
        <p:grpSpPr>
          <a:xfrm>
            <a:off x="5826240" y="2571840"/>
            <a:ext cx="3317760" cy="3499920"/>
            <a:chOff x="5826240" y="2571840"/>
            <a:chExt cx="3317760" cy="3499920"/>
          </a:xfrm>
        </p:grpSpPr>
        <p:sp>
          <p:nvSpPr>
            <p:cNvPr id="1210" name="Arc 39"/>
            <p:cNvSpPr/>
            <p:nvPr/>
          </p:nvSpPr>
          <p:spPr>
            <a:xfrm rot="16200000">
              <a:off x="5960880" y="3499920"/>
              <a:ext cx="88920" cy="108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1" name="Line 40"/>
            <p:cNvSpPr/>
            <p:nvPr/>
          </p:nvSpPr>
          <p:spPr>
            <a:xfrm>
              <a:off x="6981480" y="3602880"/>
              <a:ext cx="817920" cy="25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1212" name="Object 41"/>
            <p:cNvGraphicFramePr/>
            <p:nvPr/>
          </p:nvGraphicFramePr>
          <p:xfrm>
            <a:off x="7295040" y="3480120"/>
            <a:ext cx="272520" cy="2700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213" name="Object 41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7295040" y="3480120"/>
                      <a:ext cx="272520" cy="27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14" name="Oval 42"/>
            <p:cNvSpPr/>
            <p:nvPr/>
          </p:nvSpPr>
          <p:spPr>
            <a:xfrm>
              <a:off x="5826240" y="3258000"/>
              <a:ext cx="2289600" cy="702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1215" name="Object 43"/>
            <p:cNvGraphicFramePr/>
            <p:nvPr/>
          </p:nvGraphicFramePr>
          <p:xfrm>
            <a:off x="8037720" y="5874120"/>
            <a:ext cx="254520" cy="19764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216" name="Object 43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8037720" y="5874120"/>
                      <a:ext cx="254520" cy="19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17" name="Object 44"/>
            <p:cNvGraphicFramePr/>
            <p:nvPr/>
          </p:nvGraphicFramePr>
          <p:xfrm>
            <a:off x="7134840" y="2571840"/>
            <a:ext cx="213480" cy="19476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1218" name="Object 44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7134840" y="2571840"/>
                      <a:ext cx="213480" cy="19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19" name="Object 45"/>
            <p:cNvGraphicFramePr/>
            <p:nvPr/>
          </p:nvGraphicFramePr>
          <p:xfrm>
            <a:off x="8944920" y="3764880"/>
            <a:ext cx="199080" cy="19728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1220" name="Object 45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8944920" y="3764880"/>
                      <a:ext cx="199080" cy="197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21" name="Oval 46"/>
            <p:cNvSpPr/>
            <p:nvPr/>
          </p:nvSpPr>
          <p:spPr>
            <a:xfrm>
              <a:off x="6915960" y="4601520"/>
              <a:ext cx="123480" cy="101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2" name="Oval 47"/>
            <p:cNvSpPr/>
            <p:nvPr/>
          </p:nvSpPr>
          <p:spPr>
            <a:xfrm>
              <a:off x="7966080" y="3854880"/>
              <a:ext cx="71640" cy="59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3" name="Line 48"/>
            <p:cNvSpPr/>
            <p:nvPr/>
          </p:nvSpPr>
          <p:spPr>
            <a:xfrm flipV="1">
              <a:off x="6971400" y="2572200"/>
              <a:ext cx="0" cy="9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4" name="Line 49"/>
            <p:cNvSpPr/>
            <p:nvPr/>
          </p:nvSpPr>
          <p:spPr>
            <a:xfrm>
              <a:off x="6971400" y="3510000"/>
              <a:ext cx="0" cy="11700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1225" name="Object 50"/>
            <p:cNvGraphicFramePr/>
            <p:nvPr/>
          </p:nvGraphicFramePr>
          <p:xfrm>
            <a:off x="6587640" y="4682160"/>
            <a:ext cx="383400" cy="16776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1226" name="Object 50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6587640" y="4682160"/>
                      <a:ext cx="383400" cy="16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27" name="Object 51"/>
            <p:cNvGraphicFramePr/>
            <p:nvPr/>
          </p:nvGraphicFramePr>
          <p:xfrm>
            <a:off x="8122320" y="3684600"/>
            <a:ext cx="613440" cy="169920"/>
          </p:xfrm>
          <a:graphic>
            <a:graphicData uri="http://schemas.openxmlformats.org/presentationml/2006/ole">
              <p:oleObj r:id="rId18" spid="">
                <p:embed/>
                <p:pic>
                  <p:nvPicPr>
                    <p:cNvPr id="1228" name="Object 51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8122320" y="3684600"/>
                      <a:ext cx="613440" cy="16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29" name="Object 52"/>
            <p:cNvGraphicFramePr/>
            <p:nvPr/>
          </p:nvGraphicFramePr>
          <p:xfrm>
            <a:off x="7039440" y="2990880"/>
            <a:ext cx="1082520" cy="195480"/>
          </p:xfrm>
          <a:graphic>
            <a:graphicData uri="http://schemas.openxmlformats.org/presentationml/2006/ole">
              <p:oleObj r:id="rId20" spid="">
                <p:embed/>
                <p:pic>
                  <p:nvPicPr>
                    <p:cNvPr id="1230" name="Object 52" descr="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>
                      <a:off x="7039440" y="2990880"/>
                      <a:ext cx="1082520" cy="19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31" name="Object 53"/>
            <p:cNvGraphicFramePr/>
            <p:nvPr/>
          </p:nvGraphicFramePr>
          <p:xfrm>
            <a:off x="7456680" y="3534840"/>
            <a:ext cx="218880" cy="198720"/>
          </p:xfrm>
          <a:graphic>
            <a:graphicData uri="http://schemas.openxmlformats.org/presentationml/2006/ole">
              <p:oleObj r:id="rId22" spid="">
                <p:embed/>
                <p:pic>
                  <p:nvPicPr>
                    <p:cNvPr id="1232" name="Object 53" descr=""/>
                    <p:cNvPicPr/>
                    <p:nvPr/>
                  </p:nvPicPr>
                  <p:blipFill>
                    <a:blip r:embed="rId23"/>
                    <a:stretch/>
                  </p:blipFill>
                  <p:spPr>
                    <a:xfrm>
                      <a:off x="7456680" y="3534840"/>
                      <a:ext cx="218880" cy="19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1233" name="AutoShape 54"/>
            <p:cNvCxnSpPr/>
            <p:nvPr/>
          </p:nvCxnSpPr>
          <p:spPr>
            <a:xfrm flipV="1">
              <a:off x="7012440" y="3746520"/>
              <a:ext cx="1933200" cy="886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34" name="AutoShape 55"/>
            <p:cNvCxnSpPr/>
            <p:nvPr/>
          </p:nvCxnSpPr>
          <p:spPr>
            <a:xfrm>
              <a:off x="6996600" y="4677480"/>
              <a:ext cx="1471320" cy="1293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35" name="AutoShape 56"/>
            <p:cNvCxnSpPr/>
            <p:nvPr/>
          </p:nvCxnSpPr>
          <p:spPr>
            <a:xfrm>
              <a:off x="7996320" y="3925440"/>
              <a:ext cx="1080" cy="1044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graphicFrame>
          <p:nvGraphicFramePr>
            <p:cNvPr id="1236" name="Object 57"/>
            <p:cNvGraphicFramePr/>
            <p:nvPr/>
          </p:nvGraphicFramePr>
          <p:xfrm>
            <a:off x="8073000" y="4341240"/>
            <a:ext cx="182520" cy="152640"/>
          </p:xfrm>
          <a:graphic>
            <a:graphicData uri="http://schemas.openxmlformats.org/presentationml/2006/ole">
              <p:oleObj r:id="rId24" spid="">
                <p:embed/>
                <p:pic>
                  <p:nvPicPr>
                    <p:cNvPr id="1237" name="Object 57" descr=""/>
                    <p:cNvPicPr/>
                    <p:nvPr/>
                  </p:nvPicPr>
                  <p:blipFill>
                    <a:blip r:embed="rId25"/>
                    <a:stretch/>
                  </p:blipFill>
                  <p:spPr>
                    <a:xfrm>
                      <a:off x="8073000" y="4341240"/>
                      <a:ext cx="182520" cy="15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1238" name="AutoShape 58"/>
            <p:cNvCxnSpPr/>
            <p:nvPr/>
          </p:nvCxnSpPr>
          <p:spPr>
            <a:xfrm flipH="1" flipV="1">
              <a:off x="6982560" y="4668840"/>
              <a:ext cx="1000440" cy="300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39" name="AutoShape 59"/>
            <p:cNvCxnSpPr/>
            <p:nvPr/>
          </p:nvCxnSpPr>
          <p:spPr>
            <a:xfrm flipH="1" flipV="1">
              <a:off x="6982560" y="3577680"/>
              <a:ext cx="1000440" cy="300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1240" name="弧形 70"/>
          <p:cNvSpPr/>
          <p:nvPr/>
        </p:nvSpPr>
        <p:spPr>
          <a:xfrm rot="3000000">
            <a:off x="7121520" y="4711320"/>
            <a:ext cx="527040" cy="4953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41" name="Object 60"/>
          <p:cNvGraphicFramePr/>
          <p:nvPr/>
        </p:nvGraphicFramePr>
        <p:xfrm>
          <a:off x="7786800" y="5065560"/>
          <a:ext cx="126720" cy="17784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1242" name="Object 60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7786800" y="5065560"/>
                    <a:ext cx="12672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灯片编号占位符 5"/>
          <p:cNvSpPr/>
          <p:nvPr/>
        </p:nvSpPr>
        <p:spPr>
          <a:xfrm>
            <a:off x="687708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A30A2-E2F9-4D37-B2C2-FF56C195BE14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085840" y="1571400"/>
            <a:ext cx="5343840" cy="8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00060"/>
                </a:solidFill>
                <a:latin typeface="Times New Roman"/>
                <a:ea typeface="Times New Roman"/>
              </a:rPr>
              <a:t>Structure of the presentation</a:t>
            </a:r>
            <a:endParaRPr b="1" lang="en-US" sz="3200" spc="-1" strike="noStrike">
              <a:solidFill>
                <a:srgbClr val="600060"/>
              </a:solidFill>
              <a:latin typeface="华文行楷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1976400" y="2536920"/>
            <a:ext cx="5810400" cy="317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Palatino Linotype"/>
                <a:ea typeface="宋体"/>
              </a:rPr>
              <a:t>1. Displaced Solar Orbit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Palatino Linotype"/>
                <a:ea typeface="宋体"/>
              </a:rPr>
              <a:t>2. Process of the Design Method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 Linotype"/>
                <a:ea typeface="宋体"/>
              </a:rPr>
              <a:t>Idea of Passive Stability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 Linotype"/>
                <a:ea typeface="宋体"/>
              </a:rPr>
              <a:t>Details for the  Design Method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Palatino Linotype"/>
                <a:ea typeface="宋体"/>
              </a:rPr>
              <a:t>3. Simulation Result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Palatino Linotype"/>
                <a:ea typeface="宋体"/>
              </a:rPr>
              <a:t>4. Analysis for the Passive Stability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730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1019160"/>
          </a:xfrm>
          <a:prstGeom prst="rect">
            <a:avLst/>
          </a:prstGeom>
          <a:ln w="0">
            <a:noFill/>
          </a:ln>
        </p:spPr>
      </p:pic>
      <p:sp>
        <p:nvSpPr>
          <p:cNvPr id="731" name="Text Box 6"/>
          <p:cNvSpPr/>
          <p:nvPr/>
        </p:nvSpPr>
        <p:spPr>
          <a:xfrm>
            <a:off x="95400" y="2482920"/>
            <a:ext cx="154764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. DS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. PD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P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D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. S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. AP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灯片编号占位符 5"/>
          <p:cNvSpPr/>
          <p:nvPr/>
        </p:nvSpPr>
        <p:spPr>
          <a:xfrm>
            <a:off x="687708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44" name="Picture 8" descr="20"/>
          <p:cNvPicPr/>
          <p:nvPr/>
        </p:nvPicPr>
        <p:blipFill>
          <a:blip r:embed="rId1"/>
          <a:stretch/>
        </p:blipFill>
        <p:spPr>
          <a:xfrm>
            <a:off x="0" y="0"/>
            <a:ext cx="9144000" cy="1019160"/>
          </a:xfrm>
          <a:prstGeom prst="rect">
            <a:avLst/>
          </a:prstGeom>
          <a:ln w="0">
            <a:noFill/>
          </a:ln>
        </p:spPr>
      </p:pic>
      <p:sp>
        <p:nvSpPr>
          <p:cNvPr id="1245" name="Text Box 6"/>
          <p:cNvSpPr/>
          <p:nvPr/>
        </p:nvSpPr>
        <p:spPr>
          <a:xfrm>
            <a:off x="95400" y="2482920"/>
            <a:ext cx="154764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. DS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. PD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P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D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. S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.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AP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6" name="矩形 13"/>
          <p:cNvSpPr/>
          <p:nvPr/>
        </p:nvSpPr>
        <p:spPr>
          <a:xfrm>
            <a:off x="1990440" y="1214280"/>
            <a:ext cx="591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nalysis for the Passive Stabil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47" name="Object 6"/>
          <p:cNvGraphicFramePr/>
          <p:nvPr/>
        </p:nvGraphicFramePr>
        <p:xfrm>
          <a:off x="1857240" y="2286000"/>
          <a:ext cx="3657600" cy="1427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48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57240" y="2286000"/>
                    <a:ext cx="3657600" cy="14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49" name="燕尾形箭头 12" descr=""/>
          <p:cNvPicPr/>
          <p:nvPr/>
        </p:nvPicPr>
        <p:blipFill>
          <a:blip r:embed="rId4"/>
          <a:stretch/>
        </p:blipFill>
        <p:spPr>
          <a:xfrm>
            <a:off x="3292560" y="3449520"/>
            <a:ext cx="1773000" cy="138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50" name="Object 8"/>
          <p:cNvGraphicFramePr/>
          <p:nvPr/>
        </p:nvGraphicFramePr>
        <p:xfrm>
          <a:off x="5072040" y="3706920"/>
          <a:ext cx="1824120" cy="722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51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72040" y="3706920"/>
                    <a:ext cx="182412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2" name="Object 10"/>
          <p:cNvGraphicFramePr/>
          <p:nvPr/>
        </p:nvGraphicFramePr>
        <p:xfrm>
          <a:off x="3000240" y="4357800"/>
          <a:ext cx="852480" cy="450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53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00240" y="4357800"/>
                    <a:ext cx="85248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4" name="Object 14"/>
          <p:cNvGraphicFramePr/>
          <p:nvPr/>
        </p:nvGraphicFramePr>
        <p:xfrm>
          <a:off x="4786200" y="4786200"/>
          <a:ext cx="3429000" cy="1285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55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86200" y="4786200"/>
                    <a:ext cx="342900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灯片编号占位符 5"/>
          <p:cNvSpPr/>
          <p:nvPr/>
        </p:nvSpPr>
        <p:spPr>
          <a:xfrm>
            <a:off x="687708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CE7EE-28CD-498B-AADD-2AB11EAAAC98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57" name="Picture 3" descr="21"/>
          <p:cNvPicPr/>
          <p:nvPr/>
        </p:nvPicPr>
        <p:blipFill>
          <a:blip r:embed="rId1"/>
          <a:stretch/>
        </p:blipFill>
        <p:spPr>
          <a:xfrm>
            <a:off x="0" y="0"/>
            <a:ext cx="9144000" cy="1019160"/>
          </a:xfrm>
          <a:prstGeom prst="rect">
            <a:avLst/>
          </a:prstGeom>
          <a:ln w="0">
            <a:noFill/>
          </a:ln>
        </p:spPr>
      </p:pic>
      <p:sp>
        <p:nvSpPr>
          <p:cNvPr id="1258" name="Text Box 6"/>
          <p:cNvSpPr/>
          <p:nvPr/>
        </p:nvSpPr>
        <p:spPr>
          <a:xfrm>
            <a:off x="95400" y="2482920"/>
            <a:ext cx="154764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. DS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. PD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P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D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. S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.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AP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59" name="Object 1"/>
          <p:cNvGraphicFramePr/>
          <p:nvPr/>
        </p:nvGraphicFramePr>
        <p:xfrm>
          <a:off x="2500200" y="1974960"/>
          <a:ext cx="1322640" cy="581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0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0200" y="1974960"/>
                    <a:ext cx="132264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1" name="TextBox 11"/>
          <p:cNvSpPr/>
          <p:nvPr/>
        </p:nvSpPr>
        <p:spPr>
          <a:xfrm>
            <a:off x="1717560" y="204624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62" name="Object 3"/>
          <p:cNvGraphicFramePr/>
          <p:nvPr/>
        </p:nvGraphicFramePr>
        <p:xfrm>
          <a:off x="1800360" y="3832200"/>
          <a:ext cx="3228840" cy="500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63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800360" y="3832200"/>
                    <a:ext cx="3228840" cy="500040"/>
                  </a:xfrm>
                  <a:prstGeom prst="rect">
                    <a:avLst/>
                  </a:prstGeom>
                  <a:ln w="25560">
                    <a:solidFill>
                      <a:srgbClr val="cc00cc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264" name="Object 5"/>
          <p:cNvGraphicFramePr/>
          <p:nvPr/>
        </p:nvGraphicFramePr>
        <p:xfrm>
          <a:off x="1757520" y="4572000"/>
          <a:ext cx="3187440" cy="1000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65" name="Object 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757520" y="4572000"/>
                    <a:ext cx="318744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6" name="TextBox 14"/>
          <p:cNvSpPr/>
          <p:nvPr/>
        </p:nvSpPr>
        <p:spPr>
          <a:xfrm>
            <a:off x="1785960" y="2786040"/>
            <a:ext cx="707220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The reduced equations are linearized in the vicinity of the new equilibrium solu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7" name="TextBox 15"/>
          <p:cNvSpPr/>
          <p:nvPr/>
        </p:nvSpPr>
        <p:spPr>
          <a:xfrm>
            <a:off x="1827360" y="5742000"/>
            <a:ext cx="707364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The new generated displaced orbit  is always stable with passive control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8" name="矩形 18"/>
          <p:cNvSpPr/>
          <p:nvPr/>
        </p:nvSpPr>
        <p:spPr>
          <a:xfrm>
            <a:off x="1990440" y="1214280"/>
            <a:ext cx="591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nalysis for the Passive Stabil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69" name="Object 13"/>
          <p:cNvGraphicFramePr/>
          <p:nvPr/>
        </p:nvGraphicFramePr>
        <p:xfrm>
          <a:off x="5786280" y="4429080"/>
          <a:ext cx="2487600" cy="11397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70" name="Object 1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786280" y="4429080"/>
                    <a:ext cx="2487600" cy="1139760"/>
                  </a:xfrm>
                  <a:prstGeom prst="rect">
                    <a:avLst/>
                  </a:prstGeom>
                  <a:ln w="9360">
                    <a:solidFill>
                      <a:srgbClr val="cc00cc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灯片编号占位符 6"/>
          <p:cNvSpPr/>
          <p:nvPr/>
        </p:nvSpPr>
        <p:spPr>
          <a:xfrm>
            <a:off x="687708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98463-189F-41A3-8CA9-096EBE007905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72" name="Picture 7" descr="19"/>
          <p:cNvPicPr/>
          <p:nvPr/>
        </p:nvPicPr>
        <p:blipFill>
          <a:blip r:embed="rId1"/>
          <a:stretch/>
        </p:blipFill>
        <p:spPr>
          <a:xfrm>
            <a:off x="0" y="0"/>
            <a:ext cx="9144000" cy="1019160"/>
          </a:xfrm>
          <a:prstGeom prst="rect">
            <a:avLst/>
          </a:prstGeom>
          <a:ln w="0">
            <a:noFill/>
          </a:ln>
        </p:spPr>
      </p:pic>
      <p:sp>
        <p:nvSpPr>
          <p:cNvPr id="1273" name="矩形 12"/>
          <p:cNvSpPr/>
          <p:nvPr/>
        </p:nvSpPr>
        <p:spPr>
          <a:xfrm>
            <a:off x="1990440" y="1214280"/>
            <a:ext cx="591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nalysis for the Passive Stabil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4" name="Text Box 6"/>
          <p:cNvSpPr/>
          <p:nvPr/>
        </p:nvSpPr>
        <p:spPr>
          <a:xfrm>
            <a:off x="95400" y="2482920"/>
            <a:ext cx="154764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. DS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. PD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P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D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. S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.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AP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75" name="Object 1"/>
          <p:cNvGraphicFramePr/>
          <p:nvPr/>
        </p:nvGraphicFramePr>
        <p:xfrm>
          <a:off x="4143240" y="4643280"/>
          <a:ext cx="2143440" cy="1000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76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43240" y="4643280"/>
                    <a:ext cx="2143440" cy="10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7" name="Object 3"/>
          <p:cNvGraphicFramePr/>
          <p:nvPr/>
        </p:nvGraphicFramePr>
        <p:xfrm>
          <a:off x="1752480" y="2098800"/>
          <a:ext cx="6677280" cy="1473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8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52480" y="2098800"/>
                    <a:ext cx="6677280" cy="1473120"/>
                  </a:xfrm>
                  <a:prstGeom prst="rect">
                    <a:avLst/>
                  </a:prstGeom>
                  <a:ln w="25560">
                    <a:solidFill>
                      <a:srgbClr val="cc00cc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279" name="右箭头标注 17" descr=""/>
          <p:cNvPicPr/>
          <p:nvPr/>
        </p:nvPicPr>
        <p:blipFill>
          <a:blip r:embed="rId6"/>
          <a:stretch/>
        </p:blipFill>
        <p:spPr>
          <a:xfrm>
            <a:off x="4529160" y="3554280"/>
            <a:ext cx="938160" cy="1193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80" name="Object 14"/>
          <p:cNvGraphicFramePr/>
          <p:nvPr/>
        </p:nvGraphicFramePr>
        <p:xfrm>
          <a:off x="2946240" y="3906720"/>
          <a:ext cx="1339920" cy="428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81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46240" y="3906720"/>
                    <a:ext cx="133992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2" name="Object 16"/>
          <p:cNvGraphicFramePr/>
          <p:nvPr/>
        </p:nvGraphicFramePr>
        <p:xfrm>
          <a:off x="5911920" y="3906720"/>
          <a:ext cx="1303200" cy="428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83" name="Object 1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911920" y="3906720"/>
                    <a:ext cx="130320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4" name="TextBox 15"/>
          <p:cNvSpPr/>
          <p:nvPr/>
        </p:nvSpPr>
        <p:spPr>
          <a:xfrm>
            <a:off x="1571760" y="5670720"/>
            <a:ext cx="728640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The period of the new generated displaced orbit increases with  the initial angular momentu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灯片编号占位符 5"/>
          <p:cNvSpPr/>
          <p:nvPr/>
        </p:nvSpPr>
        <p:spPr>
          <a:xfrm>
            <a:off x="687708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86" name="Picture 4" descr="17"/>
          <p:cNvPicPr/>
          <p:nvPr/>
        </p:nvPicPr>
        <p:blipFill>
          <a:blip r:embed="rId1"/>
          <a:stretch/>
        </p:blipFill>
        <p:spPr>
          <a:xfrm>
            <a:off x="0" y="0"/>
            <a:ext cx="9144000" cy="1019160"/>
          </a:xfrm>
          <a:prstGeom prst="rect">
            <a:avLst/>
          </a:prstGeom>
          <a:ln w="0">
            <a:noFill/>
          </a:ln>
        </p:spPr>
      </p:pic>
      <p:sp>
        <p:nvSpPr>
          <p:cNvPr id="1287" name="矩形 12"/>
          <p:cNvSpPr/>
          <p:nvPr/>
        </p:nvSpPr>
        <p:spPr>
          <a:xfrm>
            <a:off x="1820160" y="1214280"/>
            <a:ext cx="229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8" name="TextBox 10"/>
          <p:cNvSpPr/>
          <p:nvPr/>
        </p:nvSpPr>
        <p:spPr>
          <a:xfrm>
            <a:off x="1928880" y="2500200"/>
            <a:ext cx="6786360" cy="2288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he sailcraft is marginally stable on th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isplaced solar orbi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he period of the sailcraft is determined by its initial angular momentu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9" name="Text Box 6"/>
          <p:cNvSpPr/>
          <p:nvPr/>
        </p:nvSpPr>
        <p:spPr>
          <a:xfrm>
            <a:off x="95400" y="2482920"/>
            <a:ext cx="154764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. DS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. PD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P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D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. S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.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AP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灯片编号占位符 5"/>
          <p:cNvSpPr/>
          <p:nvPr/>
        </p:nvSpPr>
        <p:spPr>
          <a:xfrm>
            <a:off x="687708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1" name="Rectangle 5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92" name="Picture 6" descr="8"/>
          <p:cNvPicPr/>
          <p:nvPr/>
        </p:nvPicPr>
        <p:blipFill>
          <a:blip r:embed="rId1"/>
          <a:stretch/>
        </p:blipFill>
        <p:spPr>
          <a:xfrm>
            <a:off x="0" y="0"/>
            <a:ext cx="9144000" cy="1019160"/>
          </a:xfrm>
          <a:prstGeom prst="rect">
            <a:avLst/>
          </a:prstGeom>
          <a:ln w="0">
            <a:noFill/>
          </a:ln>
        </p:spPr>
      </p:pic>
      <p:sp>
        <p:nvSpPr>
          <p:cNvPr id="1293" name="Rectangle 8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4" name="Rectangle 10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5" name="Rectangle 12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6" name="Rectangle 14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7" name="TextBox 11"/>
          <p:cNvSpPr/>
          <p:nvPr/>
        </p:nvSpPr>
        <p:spPr>
          <a:xfrm>
            <a:off x="2500200" y="3357720"/>
            <a:ext cx="5357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Comic Sans MS"/>
              </a:rPr>
              <a:t>Thank you very much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灯片编号占位符 5"/>
          <p:cNvSpPr/>
          <p:nvPr/>
        </p:nvSpPr>
        <p:spPr>
          <a:xfrm>
            <a:off x="687708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6ABF1-1E43-4279-99AF-346AA4AC689E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99" name="Group 24"/>
          <p:cNvGrpSpPr/>
          <p:nvPr/>
        </p:nvGrpSpPr>
        <p:grpSpPr>
          <a:xfrm>
            <a:off x="1785960" y="1571760"/>
            <a:ext cx="2500200" cy="2428920"/>
            <a:chOff x="1785960" y="1571760"/>
            <a:chExt cx="2500200" cy="2428920"/>
          </a:xfrm>
        </p:grpSpPr>
        <p:sp>
          <p:nvSpPr>
            <p:cNvPr id="1300" name="Rectangle 25"/>
            <p:cNvSpPr/>
            <p:nvPr/>
          </p:nvSpPr>
          <p:spPr>
            <a:xfrm>
              <a:off x="3315960" y="2763720"/>
              <a:ext cx="115920" cy="12204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1" name="Rectangle 26"/>
            <p:cNvSpPr/>
            <p:nvPr/>
          </p:nvSpPr>
          <p:spPr>
            <a:xfrm>
              <a:off x="2526120" y="2826720"/>
              <a:ext cx="1312920" cy="366480"/>
            </a:xfrm>
            <a:prstGeom prst="rect">
              <a:avLst/>
            </a:prstGeom>
            <a:solidFill>
              <a:srgbClr val="c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2" name="Oval 27"/>
            <p:cNvSpPr/>
            <p:nvPr/>
          </p:nvSpPr>
          <p:spPr>
            <a:xfrm>
              <a:off x="1785960" y="2472840"/>
              <a:ext cx="1516320" cy="684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3" name="Oval 28"/>
            <p:cNvSpPr/>
            <p:nvPr/>
          </p:nvSpPr>
          <p:spPr>
            <a:xfrm>
              <a:off x="2485800" y="3520800"/>
              <a:ext cx="853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4" name="Line 29"/>
            <p:cNvSpPr/>
            <p:nvPr/>
          </p:nvSpPr>
          <p:spPr>
            <a:xfrm flipV="1">
              <a:off x="2527560" y="2764080"/>
              <a:ext cx="0" cy="800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5" name="Line 30"/>
            <p:cNvSpPr/>
            <p:nvPr/>
          </p:nvSpPr>
          <p:spPr>
            <a:xfrm flipV="1">
              <a:off x="2527560" y="1571760"/>
              <a:ext cx="0" cy="125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1306" name="Object 31"/>
            <p:cNvGraphicFramePr/>
            <p:nvPr/>
          </p:nvGraphicFramePr>
          <p:xfrm>
            <a:off x="1966320" y="2194560"/>
            <a:ext cx="873720" cy="200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07" name="Object 31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66320" y="2194560"/>
                      <a:ext cx="873720" cy="200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08" name="Object 32"/>
            <p:cNvGraphicFramePr/>
            <p:nvPr/>
          </p:nvGraphicFramePr>
          <p:xfrm>
            <a:off x="2291400" y="3666960"/>
            <a:ext cx="247680" cy="137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09" name="Object 3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91400" y="3666960"/>
                      <a:ext cx="247680" cy="13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10" name="Line 33"/>
            <p:cNvSpPr/>
            <p:nvPr/>
          </p:nvSpPr>
          <p:spPr>
            <a:xfrm>
              <a:off x="2526120" y="2826720"/>
              <a:ext cx="758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1" name="Line 34"/>
            <p:cNvSpPr/>
            <p:nvPr/>
          </p:nvSpPr>
          <p:spPr>
            <a:xfrm>
              <a:off x="2508120" y="3558600"/>
              <a:ext cx="1778040" cy="44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1312" name="Object 35"/>
            <p:cNvGraphicFramePr/>
            <p:nvPr/>
          </p:nvGraphicFramePr>
          <p:xfrm>
            <a:off x="2291400" y="1945800"/>
            <a:ext cx="176760" cy="225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313" name="Object 3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91400" y="1945800"/>
                      <a:ext cx="176760" cy="225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1314" name="AutoShape 36"/>
            <p:cNvCxnSpPr/>
            <p:nvPr/>
          </p:nvCxnSpPr>
          <p:spPr>
            <a:xfrm flipV="1">
              <a:off x="2977200" y="2152800"/>
              <a:ext cx="1080" cy="388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5" name="AutoShape 37"/>
            <p:cNvCxnSpPr/>
            <p:nvPr/>
          </p:nvCxnSpPr>
          <p:spPr>
            <a:xfrm flipV="1">
              <a:off x="2526120" y="2342160"/>
              <a:ext cx="758880" cy="484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6" name="AutoShape 38"/>
            <p:cNvCxnSpPr/>
            <p:nvPr/>
          </p:nvCxnSpPr>
          <p:spPr>
            <a:xfrm flipV="1">
              <a:off x="3369240" y="2472840"/>
              <a:ext cx="1080" cy="353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7" name="AutoShape 39"/>
            <p:cNvCxnSpPr/>
            <p:nvPr/>
          </p:nvCxnSpPr>
          <p:spPr>
            <a:xfrm flipV="1">
              <a:off x="3369600" y="2653200"/>
              <a:ext cx="370800" cy="149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graphicFrame>
          <p:nvGraphicFramePr>
            <p:cNvPr id="1318" name="Object 40"/>
            <p:cNvGraphicFramePr/>
            <p:nvPr/>
          </p:nvGraphicFramePr>
          <p:xfrm>
            <a:off x="3261240" y="2166120"/>
            <a:ext cx="164520" cy="225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319" name="Object 40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261240" y="2166120"/>
                      <a:ext cx="164520" cy="225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20" name="Object 41"/>
            <p:cNvGraphicFramePr/>
            <p:nvPr/>
          </p:nvGraphicFramePr>
          <p:xfrm>
            <a:off x="2925000" y="1927080"/>
            <a:ext cx="153360" cy="2257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321" name="Object 41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925000" y="1927080"/>
                      <a:ext cx="153360" cy="225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22" name="Object 42"/>
            <p:cNvGraphicFramePr/>
            <p:nvPr/>
          </p:nvGraphicFramePr>
          <p:xfrm>
            <a:off x="3730680" y="2487960"/>
            <a:ext cx="177480" cy="2257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323" name="Object 42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730680" y="2487960"/>
                      <a:ext cx="177480" cy="225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24" name="Object 43"/>
            <p:cNvGraphicFramePr/>
            <p:nvPr/>
          </p:nvGraphicFramePr>
          <p:xfrm>
            <a:off x="3423960" y="2363760"/>
            <a:ext cx="153360" cy="2257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325" name="Object 43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423960" y="2363760"/>
                      <a:ext cx="153360" cy="225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26" name="Arc 44"/>
            <p:cNvSpPr/>
            <p:nvPr/>
          </p:nvSpPr>
          <p:spPr>
            <a:xfrm>
              <a:off x="2755080" y="2679840"/>
              <a:ext cx="84600" cy="1465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1327" name="Object 45"/>
            <p:cNvGraphicFramePr/>
            <p:nvPr/>
          </p:nvGraphicFramePr>
          <p:xfrm>
            <a:off x="2918160" y="2646000"/>
            <a:ext cx="141840" cy="1627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328" name="Object 45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918160" y="2646000"/>
                      <a:ext cx="141840" cy="16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29" name="Arc 46"/>
            <p:cNvSpPr/>
            <p:nvPr/>
          </p:nvSpPr>
          <p:spPr>
            <a:xfrm rot="1800000">
              <a:off x="3605760" y="2715480"/>
              <a:ext cx="118800" cy="1742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1330" name="Object 47"/>
            <p:cNvGraphicFramePr/>
            <p:nvPr/>
          </p:nvGraphicFramePr>
          <p:xfrm>
            <a:off x="3739680" y="2660760"/>
            <a:ext cx="177120" cy="2005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331" name="Object 47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739680" y="2660760"/>
                      <a:ext cx="177120" cy="200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332" name="Picture 21" descr=""/>
          <p:cNvPicPr/>
          <p:nvPr/>
        </p:nvPicPr>
        <p:blipFill>
          <a:blip r:embed="rId19"/>
          <a:stretch/>
        </p:blipFill>
        <p:spPr>
          <a:xfrm>
            <a:off x="4629240" y="1214280"/>
            <a:ext cx="3871800" cy="3102120"/>
          </a:xfrm>
          <a:prstGeom prst="rect">
            <a:avLst/>
          </a:prstGeom>
          <a:ln w="0">
            <a:noFill/>
          </a:ln>
        </p:spPr>
      </p:pic>
      <p:pic>
        <p:nvPicPr>
          <p:cNvPr id="1333" name="Picture 7" descr="19"/>
          <p:cNvPicPr/>
          <p:nvPr/>
        </p:nvPicPr>
        <p:blipFill>
          <a:blip r:embed="rId20"/>
          <a:stretch/>
        </p:blipFill>
        <p:spPr>
          <a:xfrm>
            <a:off x="0" y="0"/>
            <a:ext cx="9144000" cy="1019160"/>
          </a:xfrm>
          <a:prstGeom prst="rect">
            <a:avLst/>
          </a:prstGeom>
          <a:ln w="0">
            <a:noFill/>
          </a:ln>
        </p:spPr>
      </p:pic>
      <p:sp>
        <p:nvSpPr>
          <p:cNvPr id="1334" name="TextBox 32"/>
          <p:cNvSpPr/>
          <p:nvPr/>
        </p:nvSpPr>
        <p:spPr>
          <a:xfrm>
            <a:off x="2000160" y="4429080"/>
            <a:ext cx="65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sailcraft is equivalent to a plane sail when the sailcraft is in equilibrium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5" name="TextBox 33"/>
          <p:cNvSpPr/>
          <p:nvPr/>
        </p:nvSpPr>
        <p:spPr>
          <a:xfrm>
            <a:off x="2000160" y="5143680"/>
            <a:ext cx="64296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wo assumptions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ormal lies in the plane spanned by the     a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 angle between      and       is invariant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336" name="Object 9"/>
          <p:cNvGraphicFramePr/>
          <p:nvPr/>
        </p:nvGraphicFramePr>
        <p:xfrm>
          <a:off x="6877080" y="5703840"/>
          <a:ext cx="185760" cy="1825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337" name="Object 9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877080" y="5703840"/>
                    <a:ext cx="185760" cy="18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8" name="Object 10"/>
          <p:cNvGraphicFramePr/>
          <p:nvPr/>
        </p:nvGraphicFramePr>
        <p:xfrm>
          <a:off x="7577280" y="5614920"/>
          <a:ext cx="309600" cy="3286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339" name="Object 10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7577280" y="5614920"/>
                    <a:ext cx="309600" cy="3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0" name="Object 11"/>
          <p:cNvGraphicFramePr/>
          <p:nvPr/>
        </p:nvGraphicFramePr>
        <p:xfrm>
          <a:off x="4413240" y="6018120"/>
          <a:ext cx="206280" cy="2016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341" name="Object 11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413240" y="6018120"/>
                    <a:ext cx="206280" cy="2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2" name="Object 12"/>
          <p:cNvGraphicFramePr/>
          <p:nvPr/>
        </p:nvGraphicFramePr>
        <p:xfrm>
          <a:off x="5191200" y="6019920"/>
          <a:ext cx="185760" cy="1825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343" name="Object 12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191200" y="6019920"/>
                    <a:ext cx="185760" cy="18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灯片编号占位符 5"/>
          <p:cNvSpPr/>
          <p:nvPr/>
        </p:nvSpPr>
        <p:spPr>
          <a:xfrm>
            <a:off x="687708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13B6F-ED40-441D-831F-F67689FBFA38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45" name="Picture 2" descr=""/>
          <p:cNvPicPr/>
          <p:nvPr/>
        </p:nvPicPr>
        <p:blipFill>
          <a:blip r:embed="rId1"/>
          <a:stretch/>
        </p:blipFill>
        <p:spPr>
          <a:xfrm>
            <a:off x="1643040" y="1428840"/>
            <a:ext cx="7286760" cy="4709880"/>
          </a:xfrm>
          <a:prstGeom prst="rect">
            <a:avLst/>
          </a:prstGeom>
          <a:ln w="0">
            <a:noFill/>
          </a:ln>
        </p:spPr>
      </p:pic>
      <p:pic>
        <p:nvPicPr>
          <p:cNvPr id="1346" name="Picture 10" descr="18"/>
          <p:cNvPicPr/>
          <p:nvPr/>
        </p:nvPicPr>
        <p:blipFill>
          <a:blip r:embed="rId2"/>
          <a:stretch/>
        </p:blipFill>
        <p:spPr>
          <a:xfrm>
            <a:off x="0" y="0"/>
            <a:ext cx="914400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灯片编号占位符 5"/>
          <p:cNvSpPr/>
          <p:nvPr/>
        </p:nvSpPr>
        <p:spPr>
          <a:xfrm>
            <a:off x="687708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173EA-AC94-41E7-B742-DD798E7B265C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48" name="Picture 2" descr=""/>
          <p:cNvPicPr/>
          <p:nvPr/>
        </p:nvPicPr>
        <p:blipFill>
          <a:blip r:embed="rId1"/>
          <a:stretch/>
        </p:blipFill>
        <p:spPr>
          <a:xfrm>
            <a:off x="1500120" y="1428840"/>
            <a:ext cx="7429680" cy="4643280"/>
          </a:xfrm>
          <a:prstGeom prst="rect">
            <a:avLst/>
          </a:prstGeom>
          <a:ln w="0">
            <a:noFill/>
          </a:ln>
        </p:spPr>
      </p:pic>
      <p:pic>
        <p:nvPicPr>
          <p:cNvPr id="1349" name="Picture 16" descr="10"/>
          <p:cNvPicPr/>
          <p:nvPr/>
        </p:nvPicPr>
        <p:blipFill>
          <a:blip r:embed="rId2"/>
          <a:stretch/>
        </p:blipFill>
        <p:spPr>
          <a:xfrm>
            <a:off x="0" y="0"/>
            <a:ext cx="914400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灯片编号占位符 5"/>
          <p:cNvSpPr/>
          <p:nvPr/>
        </p:nvSpPr>
        <p:spPr>
          <a:xfrm>
            <a:off x="687708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6E38A-2F07-4F7F-B615-9CA3A6951094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33" name="Picture 6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1019160"/>
          </a:xfrm>
          <a:prstGeom prst="rect">
            <a:avLst/>
          </a:prstGeom>
          <a:ln w="0">
            <a:noFill/>
          </a:ln>
        </p:spPr>
      </p:pic>
      <p:sp>
        <p:nvSpPr>
          <p:cNvPr id="734" name="Text Box 6"/>
          <p:cNvSpPr/>
          <p:nvPr/>
        </p:nvSpPr>
        <p:spPr>
          <a:xfrm>
            <a:off x="95400" y="2482920"/>
            <a:ext cx="154764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. DS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. PD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P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D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. S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. AP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35" name="Picture 5" descr=""/>
          <p:cNvPicPr/>
          <p:nvPr/>
        </p:nvPicPr>
        <p:blipFill>
          <a:blip r:embed="rId2"/>
          <a:stretch/>
        </p:blipFill>
        <p:spPr>
          <a:xfrm>
            <a:off x="1571760" y="2057400"/>
            <a:ext cx="3643200" cy="280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36" name="Object 10"/>
          <p:cNvGraphicFramePr/>
          <p:nvPr/>
        </p:nvGraphicFramePr>
        <p:xfrm>
          <a:off x="5572080" y="2581200"/>
          <a:ext cx="351000" cy="46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72080" y="2581200"/>
                    <a:ext cx="351000" cy="4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8" name="Text Box 14"/>
          <p:cNvSpPr/>
          <p:nvPr/>
        </p:nvSpPr>
        <p:spPr>
          <a:xfrm>
            <a:off x="5859360" y="254304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lightness numb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39" name="Object 11"/>
          <p:cNvGraphicFramePr/>
          <p:nvPr/>
        </p:nvGraphicFramePr>
        <p:xfrm>
          <a:off x="5610240" y="3235320"/>
          <a:ext cx="376200" cy="351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40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10240" y="3235320"/>
                    <a:ext cx="376200" cy="3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1" name="Text Box 19"/>
          <p:cNvSpPr/>
          <p:nvPr/>
        </p:nvSpPr>
        <p:spPr>
          <a:xfrm>
            <a:off x="5870520" y="31338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pitch ang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42" name="Object 12"/>
          <p:cNvGraphicFramePr/>
          <p:nvPr/>
        </p:nvGraphicFramePr>
        <p:xfrm>
          <a:off x="1847880" y="4900680"/>
          <a:ext cx="2666880" cy="1363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43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47880" y="4900680"/>
                    <a:ext cx="266688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4" name="Object 13"/>
          <p:cNvGraphicFramePr/>
          <p:nvPr/>
        </p:nvGraphicFramePr>
        <p:xfrm>
          <a:off x="4743360" y="4826160"/>
          <a:ext cx="4114800" cy="1531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45" name="Object 1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43360" y="4826160"/>
                    <a:ext cx="4114800" cy="15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6" name="Rectangle 2"/>
          <p:cNvSpPr/>
          <p:nvPr/>
        </p:nvSpPr>
        <p:spPr>
          <a:xfrm>
            <a:off x="1785960" y="1000080"/>
            <a:ext cx="571500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华文行楷"/>
              </a:rPr>
              <a:t>Displaced Solar Orbi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灯片编号占位符 5"/>
          <p:cNvSpPr/>
          <p:nvPr/>
        </p:nvSpPr>
        <p:spPr>
          <a:xfrm>
            <a:off x="687708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6C198-DB23-4DD8-AF8A-486B452969B2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48" name="Picture 25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1019160"/>
          </a:xfrm>
          <a:prstGeom prst="rect">
            <a:avLst/>
          </a:prstGeom>
          <a:ln w="0">
            <a:noFill/>
          </a:ln>
        </p:spPr>
      </p:pic>
      <p:sp>
        <p:nvSpPr>
          <p:cNvPr id="749" name="Text Box 6"/>
          <p:cNvSpPr/>
          <p:nvPr/>
        </p:nvSpPr>
        <p:spPr>
          <a:xfrm>
            <a:off x="95400" y="2482920"/>
            <a:ext cx="154764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. DS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PD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IP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D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. S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. AP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50" name="图片 18" descr="u=1092080282,4087648919&amp;gp=24.jpg"/>
          <p:cNvPicPr/>
          <p:nvPr/>
        </p:nvPicPr>
        <p:blipFill>
          <a:blip r:embed="rId2"/>
          <a:stretch/>
        </p:blipFill>
        <p:spPr>
          <a:xfrm>
            <a:off x="2360520" y="2784600"/>
            <a:ext cx="2192400" cy="2225520"/>
          </a:xfrm>
          <a:prstGeom prst="rect">
            <a:avLst/>
          </a:prstGeom>
          <a:ln w="0">
            <a:noFill/>
          </a:ln>
        </p:spPr>
      </p:pic>
      <p:sp>
        <p:nvSpPr>
          <p:cNvPr id="751" name="AutoShape 6"/>
          <p:cNvSpPr/>
          <p:nvPr/>
        </p:nvSpPr>
        <p:spPr>
          <a:xfrm>
            <a:off x="5181480" y="2724120"/>
            <a:ext cx="2362320" cy="2362320"/>
          </a:xfrm>
          <a:prstGeom prst="diamond">
            <a:avLst/>
          </a:prstGeom>
          <a:solidFill>
            <a:srgbClr val="ffe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2" name="Text Box 8"/>
          <p:cNvSpPr/>
          <p:nvPr/>
        </p:nvSpPr>
        <p:spPr>
          <a:xfrm>
            <a:off x="2743200" y="542124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tab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3" name="Text Box 9"/>
          <p:cNvSpPr/>
          <p:nvPr/>
        </p:nvSpPr>
        <p:spPr>
          <a:xfrm>
            <a:off x="5562720" y="542124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Unstab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4" name="Rectangle 2"/>
          <p:cNvSpPr/>
          <p:nvPr/>
        </p:nvSpPr>
        <p:spPr>
          <a:xfrm>
            <a:off x="1785960" y="1000080"/>
            <a:ext cx="571500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dea of Passive Stabil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灯片编号占位符 6"/>
          <p:cNvSpPr/>
          <p:nvPr/>
        </p:nvSpPr>
        <p:spPr>
          <a:xfrm>
            <a:off x="687708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4ECC3-52FE-49BE-807D-A47477CD4BEC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6" name="Rectangle 50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57" name="Picture 51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1019160"/>
          </a:xfrm>
          <a:prstGeom prst="rect">
            <a:avLst/>
          </a:prstGeom>
          <a:ln w="0">
            <a:noFill/>
          </a:ln>
        </p:spPr>
      </p:pic>
      <p:sp>
        <p:nvSpPr>
          <p:cNvPr id="758" name="Text Box 6"/>
          <p:cNvSpPr/>
          <p:nvPr/>
        </p:nvSpPr>
        <p:spPr>
          <a:xfrm>
            <a:off x="95400" y="2482920"/>
            <a:ext cx="154764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. DS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PD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IP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D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. S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. AP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59" name="Group 34"/>
          <p:cNvGrpSpPr/>
          <p:nvPr/>
        </p:nvGrpSpPr>
        <p:grpSpPr>
          <a:xfrm>
            <a:off x="2428920" y="1855800"/>
            <a:ext cx="4446720" cy="3072960"/>
            <a:chOff x="2428920" y="1855800"/>
            <a:chExt cx="4446720" cy="3072960"/>
          </a:xfrm>
        </p:grpSpPr>
        <p:sp>
          <p:nvSpPr>
            <p:cNvPr id="760" name="Oval 35"/>
            <p:cNvSpPr/>
            <p:nvPr/>
          </p:nvSpPr>
          <p:spPr>
            <a:xfrm>
              <a:off x="2428920" y="3010320"/>
              <a:ext cx="2132280" cy="860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1" name="Line 36"/>
            <p:cNvSpPr/>
            <p:nvPr/>
          </p:nvSpPr>
          <p:spPr>
            <a:xfrm>
              <a:off x="4574160" y="3454560"/>
              <a:ext cx="2132280" cy="73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2" name="Line 37"/>
            <p:cNvSpPr/>
            <p:nvPr/>
          </p:nvSpPr>
          <p:spPr>
            <a:xfrm>
              <a:off x="4574160" y="3454560"/>
              <a:ext cx="12182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3" name="Line 38"/>
            <p:cNvSpPr/>
            <p:nvPr/>
          </p:nvSpPr>
          <p:spPr>
            <a:xfrm>
              <a:off x="5792400" y="3454560"/>
              <a:ext cx="913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4" name="Line 39"/>
            <p:cNvSpPr/>
            <p:nvPr/>
          </p:nvSpPr>
          <p:spPr>
            <a:xfrm flipH="1" flipV="1">
              <a:off x="4348800" y="2477880"/>
              <a:ext cx="220680" cy="96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5" name="Line 40"/>
            <p:cNvSpPr/>
            <p:nvPr/>
          </p:nvSpPr>
          <p:spPr>
            <a:xfrm flipH="1" flipV="1">
              <a:off x="4498200" y="2595960"/>
              <a:ext cx="74880" cy="8564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6" name="Line 41"/>
            <p:cNvSpPr/>
            <p:nvPr/>
          </p:nvSpPr>
          <p:spPr>
            <a:xfrm flipH="1" flipV="1">
              <a:off x="4417920" y="1859400"/>
              <a:ext cx="77040" cy="732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7" name="Line 42"/>
            <p:cNvSpPr/>
            <p:nvPr/>
          </p:nvSpPr>
          <p:spPr>
            <a:xfrm>
              <a:off x="4421520" y="1857240"/>
              <a:ext cx="2284560" cy="159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8" name="Line 43"/>
            <p:cNvSpPr/>
            <p:nvPr/>
          </p:nvSpPr>
          <p:spPr>
            <a:xfrm>
              <a:off x="6706440" y="3454560"/>
              <a:ext cx="0" cy="73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9" name="Line 44"/>
            <p:cNvSpPr/>
            <p:nvPr/>
          </p:nvSpPr>
          <p:spPr>
            <a:xfrm flipH="1">
              <a:off x="4346640" y="1855800"/>
              <a:ext cx="64800" cy="62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0" name="Line 45"/>
            <p:cNvSpPr/>
            <p:nvPr/>
          </p:nvSpPr>
          <p:spPr>
            <a:xfrm>
              <a:off x="4357800" y="2497320"/>
              <a:ext cx="2347200" cy="168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1" name="AutoShape 46"/>
            <p:cNvSpPr/>
            <p:nvPr/>
          </p:nvSpPr>
          <p:spPr>
            <a:xfrm>
              <a:off x="6480360" y="2154960"/>
              <a:ext cx="163080" cy="151920"/>
            </a:xfrm>
            <a:prstGeom prst="cube">
              <a:avLst>
                <a:gd name="adj" fmla="val 25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2" name="Line 47"/>
            <p:cNvSpPr/>
            <p:nvPr/>
          </p:nvSpPr>
          <p:spPr>
            <a:xfrm flipV="1">
              <a:off x="4574160" y="3085920"/>
              <a:ext cx="609120" cy="368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3" name="Line 48"/>
            <p:cNvSpPr/>
            <p:nvPr/>
          </p:nvSpPr>
          <p:spPr>
            <a:xfrm flipV="1">
              <a:off x="5183280" y="2225520"/>
              <a:ext cx="1370520" cy="86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4" name="AutoShape 49"/>
            <p:cNvSpPr/>
            <p:nvPr/>
          </p:nvSpPr>
          <p:spPr>
            <a:xfrm>
              <a:off x="4457160" y="3383640"/>
              <a:ext cx="225000" cy="141480"/>
            </a:xfrm>
            <a:prstGeom prst="can">
              <a:avLst>
                <a:gd name="adj" fmla="val 250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5" name="Oval 50"/>
            <p:cNvSpPr/>
            <p:nvPr/>
          </p:nvSpPr>
          <p:spPr>
            <a:xfrm>
              <a:off x="3413160" y="4326480"/>
              <a:ext cx="119880" cy="111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776" name="Object 51"/>
            <p:cNvGraphicFramePr/>
            <p:nvPr/>
          </p:nvGraphicFramePr>
          <p:xfrm>
            <a:off x="4053600" y="2310840"/>
            <a:ext cx="215640" cy="283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77" name="Object 51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053600" y="2310840"/>
                      <a:ext cx="215640" cy="28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78" name="Object 52"/>
            <p:cNvGraphicFramePr/>
            <p:nvPr/>
          </p:nvGraphicFramePr>
          <p:xfrm>
            <a:off x="6338160" y="3539520"/>
            <a:ext cx="231480" cy="2833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779" name="Object 52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338160" y="3539520"/>
                      <a:ext cx="231480" cy="28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0" name="Object 53"/>
            <p:cNvGraphicFramePr/>
            <p:nvPr/>
          </p:nvGraphicFramePr>
          <p:xfrm>
            <a:off x="4815000" y="3700440"/>
            <a:ext cx="231840" cy="2833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781" name="Object 53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4815000" y="3700440"/>
                      <a:ext cx="231840" cy="28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2" name="Object 54"/>
            <p:cNvGraphicFramePr/>
            <p:nvPr/>
          </p:nvGraphicFramePr>
          <p:xfrm>
            <a:off x="5119920" y="2556720"/>
            <a:ext cx="231480" cy="2833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783" name="Object 54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119920" y="2556720"/>
                      <a:ext cx="231480" cy="28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84" name="Line 55"/>
            <p:cNvSpPr/>
            <p:nvPr/>
          </p:nvSpPr>
          <p:spPr>
            <a:xfrm flipV="1">
              <a:off x="3472200" y="3376440"/>
              <a:ext cx="0" cy="1005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5" name="Line 56"/>
            <p:cNvSpPr/>
            <p:nvPr/>
          </p:nvSpPr>
          <p:spPr>
            <a:xfrm flipV="1">
              <a:off x="3472200" y="1878480"/>
              <a:ext cx="0" cy="157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786" name="Object 57"/>
            <p:cNvGraphicFramePr/>
            <p:nvPr/>
          </p:nvGraphicFramePr>
          <p:xfrm>
            <a:off x="2682720" y="2660400"/>
            <a:ext cx="1228680" cy="2520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787" name="Object 57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2682720" y="2660400"/>
                      <a:ext cx="1228680" cy="25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8" name="Object 58"/>
            <p:cNvGraphicFramePr/>
            <p:nvPr/>
          </p:nvGraphicFramePr>
          <p:xfrm>
            <a:off x="3139560" y="4510080"/>
            <a:ext cx="348480" cy="17316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789" name="Object 58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3139560" y="4510080"/>
                      <a:ext cx="348480" cy="17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0" name="Line 59"/>
            <p:cNvSpPr/>
            <p:nvPr/>
          </p:nvSpPr>
          <p:spPr>
            <a:xfrm>
              <a:off x="3469680" y="3454560"/>
              <a:ext cx="106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791" name="Object 60"/>
            <p:cNvGraphicFramePr/>
            <p:nvPr/>
          </p:nvGraphicFramePr>
          <p:xfrm>
            <a:off x="4281840" y="4031280"/>
            <a:ext cx="215640" cy="28332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792" name="Object 60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4281840" y="4031280"/>
                      <a:ext cx="215640" cy="28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93" name="Object 61"/>
            <p:cNvGraphicFramePr/>
            <p:nvPr/>
          </p:nvGraphicFramePr>
          <p:xfrm>
            <a:off x="3812400" y="3428280"/>
            <a:ext cx="248400" cy="28332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794" name="Object 61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3812400" y="3428280"/>
                      <a:ext cx="248400" cy="28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95" name="Object 62"/>
            <p:cNvGraphicFramePr/>
            <p:nvPr/>
          </p:nvGraphicFramePr>
          <p:xfrm>
            <a:off x="6163200" y="1868040"/>
            <a:ext cx="712440" cy="252000"/>
          </p:xfrm>
          <a:graphic>
            <a:graphicData uri="http://schemas.openxmlformats.org/presentationml/2006/ole">
              <p:oleObj r:id="rId18" spid="">
                <p:embed/>
                <p:pic>
                  <p:nvPicPr>
                    <p:cNvPr id="796" name="Object 62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6163200" y="1868040"/>
                      <a:ext cx="712440" cy="25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7" name="Line 63"/>
            <p:cNvSpPr/>
            <p:nvPr/>
          </p:nvSpPr>
          <p:spPr>
            <a:xfrm>
              <a:off x="5640120" y="3823200"/>
              <a:ext cx="304200" cy="49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798" name="Object 64"/>
            <p:cNvGraphicFramePr/>
            <p:nvPr/>
          </p:nvGraphicFramePr>
          <p:xfrm>
            <a:off x="5805360" y="4329000"/>
            <a:ext cx="398520" cy="204480"/>
          </p:xfrm>
          <a:graphic>
            <a:graphicData uri="http://schemas.openxmlformats.org/presentationml/2006/ole">
              <p:oleObj r:id="rId20" spid="">
                <p:embed/>
                <p:pic>
                  <p:nvPicPr>
                    <p:cNvPr id="799" name="Object 64" descr="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>
                      <a:off x="5805360" y="4329000"/>
                      <a:ext cx="398520" cy="20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0" name="Object 65"/>
            <p:cNvGraphicFramePr/>
            <p:nvPr/>
          </p:nvGraphicFramePr>
          <p:xfrm>
            <a:off x="4180320" y="3194640"/>
            <a:ext cx="348480" cy="219600"/>
          </p:xfrm>
          <a:graphic>
            <a:graphicData uri="http://schemas.openxmlformats.org/presentationml/2006/ole">
              <p:oleObj r:id="rId22" spid="">
                <p:embed/>
                <p:pic>
                  <p:nvPicPr>
                    <p:cNvPr id="801" name="Object 65" descr=""/>
                    <p:cNvPicPr/>
                    <p:nvPr/>
                  </p:nvPicPr>
                  <p:blipFill>
                    <a:blip r:embed="rId23"/>
                    <a:stretch/>
                  </p:blipFill>
                  <p:spPr>
                    <a:xfrm>
                      <a:off x="4180320" y="3194640"/>
                      <a:ext cx="348480" cy="219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02" name="Line 66"/>
            <p:cNvSpPr/>
            <p:nvPr/>
          </p:nvSpPr>
          <p:spPr>
            <a:xfrm>
              <a:off x="3444120" y="4373640"/>
              <a:ext cx="2500200" cy="55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3" name="Line 67"/>
            <p:cNvSpPr/>
            <p:nvPr/>
          </p:nvSpPr>
          <p:spPr>
            <a:xfrm>
              <a:off x="4548600" y="3454560"/>
              <a:ext cx="0" cy="117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804" name="Object 68"/>
            <p:cNvGraphicFramePr/>
            <p:nvPr/>
          </p:nvGraphicFramePr>
          <p:xfrm>
            <a:off x="3202920" y="2348640"/>
            <a:ext cx="248400" cy="283320"/>
          </p:xfrm>
          <a:graphic>
            <a:graphicData uri="http://schemas.openxmlformats.org/presentationml/2006/ole">
              <p:oleObj r:id="rId24" spid="">
                <p:embed/>
                <p:pic>
                  <p:nvPicPr>
                    <p:cNvPr id="805" name="Object 68" descr=""/>
                    <p:cNvPicPr/>
                    <p:nvPr/>
                  </p:nvPicPr>
                  <p:blipFill>
                    <a:blip r:embed="rId25"/>
                    <a:stretch/>
                  </p:blipFill>
                  <p:spPr>
                    <a:xfrm>
                      <a:off x="3202920" y="2348640"/>
                      <a:ext cx="248400" cy="28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6" name="Object 69"/>
            <p:cNvGraphicFramePr/>
            <p:nvPr/>
          </p:nvGraphicFramePr>
          <p:xfrm>
            <a:off x="4395240" y="3540600"/>
            <a:ext cx="198720" cy="219600"/>
          </p:xfrm>
          <a:graphic>
            <a:graphicData uri="http://schemas.openxmlformats.org/presentationml/2006/ole">
              <p:oleObj r:id="rId26" spid="">
                <p:embed/>
                <p:pic>
                  <p:nvPicPr>
                    <p:cNvPr id="807" name="Object 69" descr=""/>
                    <p:cNvPicPr/>
                    <p:nvPr/>
                  </p:nvPicPr>
                  <p:blipFill>
                    <a:blip r:embed="rId27"/>
                    <a:stretch/>
                  </p:blipFill>
                  <p:spPr>
                    <a:xfrm>
                      <a:off x="4395240" y="3540600"/>
                      <a:ext cx="198720" cy="219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08" name="Rectangle 2"/>
          <p:cNvSpPr/>
          <p:nvPr/>
        </p:nvSpPr>
        <p:spPr>
          <a:xfrm>
            <a:off x="1785960" y="1000080"/>
            <a:ext cx="571500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dea of Passive Stabil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9" name="矩形 43"/>
          <p:cNvSpPr/>
          <p:nvPr/>
        </p:nvSpPr>
        <p:spPr>
          <a:xfrm>
            <a:off x="1571760" y="5500800"/>
            <a:ext cx="1643040" cy="714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Is the orbit stable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0" name="矩形 44"/>
          <p:cNvSpPr/>
          <p:nvPr/>
        </p:nvSpPr>
        <p:spPr>
          <a:xfrm>
            <a:off x="4000680" y="5072040"/>
            <a:ext cx="2857320" cy="78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Is the orbit always stable with this shape?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1" name="矩形 45"/>
          <p:cNvSpPr/>
          <p:nvPr/>
        </p:nvSpPr>
        <p:spPr>
          <a:xfrm>
            <a:off x="4000680" y="5929200"/>
            <a:ext cx="2857320" cy="78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When is the orbit stable with this shape?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2" name="矩形 46"/>
          <p:cNvSpPr/>
          <p:nvPr/>
        </p:nvSpPr>
        <p:spPr>
          <a:xfrm>
            <a:off x="7143840" y="5357880"/>
            <a:ext cx="150012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What are the criteria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3" name="TextBox 47"/>
          <p:cNvSpPr/>
          <p:nvPr/>
        </p:nvSpPr>
        <p:spPr>
          <a:xfrm>
            <a:off x="3286080" y="528624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4" name="TextBox 48"/>
          <p:cNvSpPr/>
          <p:nvPr/>
        </p:nvSpPr>
        <p:spPr>
          <a:xfrm>
            <a:off x="3357720" y="607212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灯片编号占位符 5"/>
          <p:cNvSpPr/>
          <p:nvPr/>
        </p:nvSpPr>
        <p:spPr>
          <a:xfrm>
            <a:off x="687708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2E8FA-3748-449C-902B-78F690F5CDF7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16" name="Picture 4" descr="5"/>
          <p:cNvPicPr/>
          <p:nvPr/>
        </p:nvPicPr>
        <p:blipFill>
          <a:blip r:embed="rId1"/>
          <a:stretch/>
        </p:blipFill>
        <p:spPr>
          <a:xfrm>
            <a:off x="0" y="0"/>
            <a:ext cx="9144000" cy="1019160"/>
          </a:xfrm>
          <a:prstGeom prst="rect">
            <a:avLst/>
          </a:prstGeom>
          <a:ln w="0">
            <a:noFill/>
          </a:ln>
        </p:spPr>
      </p:pic>
      <p:sp>
        <p:nvSpPr>
          <p:cNvPr id="817" name="Text Box 6"/>
          <p:cNvSpPr/>
          <p:nvPr/>
        </p:nvSpPr>
        <p:spPr>
          <a:xfrm>
            <a:off x="95400" y="2482920"/>
            <a:ext cx="154764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. DS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PD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IP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D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. S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. AP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8" name="Oval 33"/>
          <p:cNvSpPr/>
          <p:nvPr/>
        </p:nvSpPr>
        <p:spPr>
          <a:xfrm>
            <a:off x="6357960" y="3571920"/>
            <a:ext cx="2571840" cy="2990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Monotype Corsiva"/>
                <a:ea typeface="华文楷体"/>
              </a:rPr>
              <a:t>Restoring torque and force should be generated when the sail deviates from the equilibrium posi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9" name="Oval 30"/>
          <p:cNvSpPr/>
          <p:nvPr/>
        </p:nvSpPr>
        <p:spPr>
          <a:xfrm>
            <a:off x="4071960" y="3581280"/>
            <a:ext cx="2071800" cy="2919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Monotype Corsiva"/>
                <a:ea typeface="华文楷体"/>
              </a:rPr>
              <a:t>The resultant torque is equal to zero when the sail is in equilibriu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0" name="Oval 21"/>
          <p:cNvSpPr/>
          <p:nvPr/>
        </p:nvSpPr>
        <p:spPr>
          <a:xfrm>
            <a:off x="1542960" y="3557520"/>
            <a:ext cx="2086200" cy="3014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Monotype Corsiva"/>
                <a:ea typeface="MingLiU-ExtB"/>
              </a:rPr>
              <a:t>The resultant force is equal to zero when the sail is in equilibriu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1" name="Rectangle 12"/>
          <p:cNvSpPr/>
          <p:nvPr/>
        </p:nvSpPr>
        <p:spPr>
          <a:xfrm>
            <a:off x="3181680" y="2071440"/>
            <a:ext cx="3978000" cy="4546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b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宋体"/>
              </a:rPr>
              <a:t>Criteria for Passive Stability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华文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2" name="Line 15"/>
          <p:cNvSpPr/>
          <p:nvPr/>
        </p:nvSpPr>
        <p:spPr>
          <a:xfrm>
            <a:off x="2674800" y="3295800"/>
            <a:ext cx="5040360" cy="0"/>
          </a:xfrm>
          <a:prstGeom prst="line">
            <a:avLst/>
          </a:prstGeom>
          <a:ln w="1260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-44280" bIns="-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3" name="Text Box 20"/>
          <p:cNvSpPr/>
          <p:nvPr/>
        </p:nvSpPr>
        <p:spPr>
          <a:xfrm>
            <a:off x="1795320" y="3733920"/>
            <a:ext cx="479520" cy="18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4" name="Line 31"/>
          <p:cNvSpPr/>
          <p:nvPr/>
        </p:nvSpPr>
        <p:spPr>
          <a:xfrm>
            <a:off x="5100480" y="3295800"/>
            <a:ext cx="0" cy="215640"/>
          </a:xfrm>
          <a:prstGeom prst="line">
            <a:avLst/>
          </a:prstGeom>
          <a:ln w="1260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5" name="Rectangle 39"/>
          <p:cNvSpPr/>
          <p:nvPr/>
        </p:nvSpPr>
        <p:spPr>
          <a:xfrm>
            <a:off x="2457360" y="3295800"/>
            <a:ext cx="257400" cy="25704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6" name="Rectangle 40"/>
          <p:cNvSpPr/>
          <p:nvPr/>
        </p:nvSpPr>
        <p:spPr>
          <a:xfrm>
            <a:off x="4987800" y="3295800"/>
            <a:ext cx="257400" cy="25704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7" name="Rectangle 41"/>
          <p:cNvSpPr/>
          <p:nvPr/>
        </p:nvSpPr>
        <p:spPr>
          <a:xfrm>
            <a:off x="7500960" y="3286080"/>
            <a:ext cx="257040" cy="2574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8" name="AutoShape 25"/>
          <p:cNvSpPr/>
          <p:nvPr/>
        </p:nvSpPr>
        <p:spPr>
          <a:xfrm>
            <a:off x="4862520" y="2509920"/>
            <a:ext cx="485640" cy="761760"/>
          </a:xfrm>
          <a:prstGeom prst="downArrow">
            <a:avLst>
              <a:gd name="adj1" fmla="val 50000"/>
              <a:gd name="adj2" fmla="val 39214"/>
            </a:avLst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9" name="Rectangle 2"/>
          <p:cNvSpPr/>
          <p:nvPr/>
        </p:nvSpPr>
        <p:spPr>
          <a:xfrm>
            <a:off x="1785960" y="1000080"/>
            <a:ext cx="571500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dea of Passive Stabil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0" name="Picture 20" descr="7"/>
          <p:cNvPicPr/>
          <p:nvPr/>
        </p:nvPicPr>
        <p:blipFill>
          <a:blip r:embed="rId1"/>
          <a:stretch/>
        </p:blipFill>
        <p:spPr>
          <a:xfrm>
            <a:off x="0" y="0"/>
            <a:ext cx="9144000" cy="1019160"/>
          </a:xfrm>
          <a:prstGeom prst="rect">
            <a:avLst/>
          </a:prstGeom>
          <a:ln w="0">
            <a:noFill/>
          </a:ln>
        </p:spPr>
      </p:pic>
      <p:sp>
        <p:nvSpPr>
          <p:cNvPr id="831" name="Text Box 6"/>
          <p:cNvSpPr/>
          <p:nvPr/>
        </p:nvSpPr>
        <p:spPr>
          <a:xfrm>
            <a:off x="95400" y="2482920"/>
            <a:ext cx="154764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. DS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PD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IP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D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. S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. AP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2" name="Rectangle 2"/>
          <p:cNvSpPr/>
          <p:nvPr/>
        </p:nvSpPr>
        <p:spPr>
          <a:xfrm>
            <a:off x="1619280" y="1071720"/>
            <a:ext cx="452448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dea of Passive Stabil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Rectangle 65"/>
          <p:cNvSpPr/>
          <p:nvPr/>
        </p:nvSpPr>
        <p:spPr>
          <a:xfrm>
            <a:off x="1623960" y="2071800"/>
            <a:ext cx="6781680" cy="1981080"/>
          </a:xfrm>
          <a:prstGeom prst="rect">
            <a:avLst/>
          </a:prstGeom>
          <a:solidFill>
            <a:srgbClr val="ffffff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4" name="Oval 20"/>
          <p:cNvSpPr/>
          <p:nvPr/>
        </p:nvSpPr>
        <p:spPr>
          <a:xfrm>
            <a:off x="1471680" y="4662360"/>
            <a:ext cx="7101000" cy="19814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5" name="Oval 8"/>
          <p:cNvSpPr/>
          <p:nvPr/>
        </p:nvSpPr>
        <p:spPr>
          <a:xfrm>
            <a:off x="2071800" y="2678040"/>
            <a:ext cx="1728720" cy="935280"/>
          </a:xfrm>
          <a:prstGeom prst="ellipse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Parameters for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the sai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6" name="AutoShape 9"/>
          <p:cNvSpPr/>
          <p:nvPr/>
        </p:nvSpPr>
        <p:spPr>
          <a:xfrm>
            <a:off x="4071960" y="2630520"/>
            <a:ext cx="1928880" cy="1003680"/>
          </a:xfrm>
          <a:prstGeom prst="rightArrowCallout">
            <a:avLst>
              <a:gd name="adj1" fmla="val 25002"/>
              <a:gd name="adj2" fmla="val 25000"/>
              <a:gd name="adj3" fmla="val 34690"/>
              <a:gd name="adj4" fmla="val 66667"/>
            </a:avLst>
          </a:prstGeom>
          <a:solidFill>
            <a:srgbClr val="ffffff"/>
          </a:solidFill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华文琥珀"/>
              </a:rPr>
              <a:t>Criteria of passive stabil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Oval 10"/>
          <p:cNvSpPr/>
          <p:nvPr/>
        </p:nvSpPr>
        <p:spPr>
          <a:xfrm>
            <a:off x="6032520" y="2389320"/>
            <a:ext cx="1600200" cy="1253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Times New Roman"/>
                <a:ea typeface="华文细黑"/>
              </a:rPr>
              <a:t>Object</a:t>
            </a:r>
            <a:r>
              <a:rPr b="0" lang="zh-CN" sz="2000" spc="-1" strike="noStrike">
                <a:solidFill>
                  <a:srgbClr val="ff00ff"/>
                </a:solidFill>
                <a:latin typeface="Times New Roman"/>
                <a:ea typeface="华文细黑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Times New Roman"/>
                <a:ea typeface="华文细黑"/>
              </a:rPr>
              <a:t>The sail i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Times New Roman"/>
                <a:ea typeface="华文细黑"/>
              </a:rPr>
              <a:t>passively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Times New Roman"/>
                <a:ea typeface="华文细黑"/>
              </a:rPr>
              <a:t>stab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8" name="Text Box 12"/>
          <p:cNvSpPr/>
          <p:nvPr/>
        </p:nvSpPr>
        <p:spPr>
          <a:xfrm>
            <a:off x="3605040" y="2033640"/>
            <a:ext cx="2109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Physical Mod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Oval 16"/>
          <p:cNvSpPr/>
          <p:nvPr/>
        </p:nvSpPr>
        <p:spPr>
          <a:xfrm>
            <a:off x="2131920" y="5197320"/>
            <a:ext cx="1728720" cy="935280"/>
          </a:xfrm>
          <a:prstGeom prst="ellipse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Optimiz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paramet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0" name="AutoShape 17"/>
          <p:cNvSpPr/>
          <p:nvPr/>
        </p:nvSpPr>
        <p:spPr>
          <a:xfrm>
            <a:off x="4059360" y="5272200"/>
            <a:ext cx="2084400" cy="787320"/>
          </a:xfrm>
          <a:prstGeom prst="rightArrowCallout">
            <a:avLst>
              <a:gd name="adj1" fmla="val 25002"/>
              <a:gd name="adj2" fmla="val 25000"/>
              <a:gd name="adj3" fmla="val 44222"/>
              <a:gd name="adj4" fmla="val 66667"/>
            </a:avLst>
          </a:prstGeom>
          <a:solidFill>
            <a:srgbClr val="ffffff"/>
          </a:solidFill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华文琥珀"/>
              </a:rPr>
              <a:t>Constrai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Oval 18"/>
          <p:cNvSpPr/>
          <p:nvPr/>
        </p:nvSpPr>
        <p:spPr>
          <a:xfrm>
            <a:off x="6176880" y="5072040"/>
            <a:ext cx="1600200" cy="1141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  <a:ea typeface="华文细黑"/>
              </a:rPr>
              <a:t>Objectiv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  <a:ea typeface="华文细黑"/>
              </a:rPr>
              <a:t>func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2" name="Text Box 19"/>
          <p:cNvSpPr/>
          <p:nvPr/>
        </p:nvSpPr>
        <p:spPr>
          <a:xfrm>
            <a:off x="3586320" y="6148440"/>
            <a:ext cx="3124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Mathematical Mod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AutoShape 21"/>
          <p:cNvSpPr/>
          <p:nvPr/>
        </p:nvSpPr>
        <p:spPr>
          <a:xfrm>
            <a:off x="2697120" y="3824280"/>
            <a:ext cx="595440" cy="1219320"/>
          </a:xfrm>
          <a:prstGeom prst="downArrow">
            <a:avLst>
              <a:gd name="adj1" fmla="val 50000"/>
              <a:gd name="adj2" fmla="val 85323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4" name="灯片编号占位符 5"/>
          <p:cNvSpPr/>
          <p:nvPr/>
        </p:nvSpPr>
        <p:spPr>
          <a:xfrm>
            <a:off x="6786720" y="621504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6CFAA-5F0B-48FE-BF7E-EE05F44F0EFE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AutoShape 21"/>
          <p:cNvSpPr/>
          <p:nvPr/>
        </p:nvSpPr>
        <p:spPr>
          <a:xfrm>
            <a:off x="4500720" y="3828960"/>
            <a:ext cx="595080" cy="1219320"/>
          </a:xfrm>
          <a:prstGeom prst="downArrow">
            <a:avLst>
              <a:gd name="adj1" fmla="val 50000"/>
              <a:gd name="adj2" fmla="val 85375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6" name="AutoShape 21"/>
          <p:cNvSpPr/>
          <p:nvPr/>
        </p:nvSpPr>
        <p:spPr>
          <a:xfrm>
            <a:off x="6620040" y="3852720"/>
            <a:ext cx="595080" cy="1219320"/>
          </a:xfrm>
          <a:prstGeom prst="downArrow">
            <a:avLst>
              <a:gd name="adj1" fmla="val 50000"/>
              <a:gd name="adj2" fmla="val 85375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灯片编号占位符 5"/>
          <p:cNvSpPr/>
          <p:nvPr/>
        </p:nvSpPr>
        <p:spPr>
          <a:xfrm>
            <a:off x="6786720" y="6329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4A925-B5FE-4FBF-BD56-A09E61B28F4D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8" name="Rectangle 16"/>
          <p:cNvSpPr/>
          <p:nvPr/>
        </p:nvSpPr>
        <p:spPr>
          <a:xfrm>
            <a:off x="0" y="3233880"/>
            <a:ext cx="32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49" name="Picture 21" descr="22"/>
          <p:cNvPicPr/>
          <p:nvPr/>
        </p:nvPicPr>
        <p:blipFill>
          <a:blip r:embed="rId1"/>
          <a:stretch/>
        </p:blipFill>
        <p:spPr>
          <a:xfrm>
            <a:off x="0" y="0"/>
            <a:ext cx="9144000" cy="1019160"/>
          </a:xfrm>
          <a:prstGeom prst="rect">
            <a:avLst/>
          </a:prstGeom>
          <a:ln w="0">
            <a:noFill/>
          </a:ln>
        </p:spPr>
      </p:pic>
      <p:sp>
        <p:nvSpPr>
          <p:cNvPr id="850" name="Text Box 6"/>
          <p:cNvSpPr/>
          <p:nvPr/>
        </p:nvSpPr>
        <p:spPr>
          <a:xfrm>
            <a:off x="95400" y="2482920"/>
            <a:ext cx="154764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. DS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PD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IP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D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. S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. AP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1" name="Rectangle 2"/>
          <p:cNvSpPr/>
          <p:nvPr/>
        </p:nvSpPr>
        <p:spPr>
          <a:xfrm>
            <a:off x="1785960" y="1000080"/>
            <a:ext cx="571500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dea of Passive Stabil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2" name="Rectangle 11"/>
          <p:cNvSpPr/>
          <p:nvPr/>
        </p:nvSpPr>
        <p:spPr>
          <a:xfrm>
            <a:off x="1500120" y="3192480"/>
            <a:ext cx="241164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Select parameters satisfying constrain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3" name="Rectangle 12"/>
          <p:cNvSpPr/>
          <p:nvPr/>
        </p:nvSpPr>
        <p:spPr>
          <a:xfrm>
            <a:off x="1500120" y="4365720"/>
            <a:ext cx="241164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Attitude dynamical equ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4" name="Rectangle 13"/>
          <p:cNvSpPr/>
          <p:nvPr/>
        </p:nvSpPr>
        <p:spPr>
          <a:xfrm>
            <a:off x="1500120" y="5280120"/>
            <a:ext cx="241164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Orbital dynamical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equ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5" name="AutoShape 15"/>
          <p:cNvSpPr/>
          <p:nvPr/>
        </p:nvSpPr>
        <p:spPr>
          <a:xfrm>
            <a:off x="2214720" y="3952800"/>
            <a:ext cx="636480" cy="411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6" name="AutoShape 17"/>
          <p:cNvSpPr/>
          <p:nvPr/>
        </p:nvSpPr>
        <p:spPr>
          <a:xfrm>
            <a:off x="3957480" y="4933800"/>
            <a:ext cx="685800" cy="727200"/>
          </a:xfrm>
          <a:prstGeom prst="rightArrowCallout">
            <a:avLst>
              <a:gd name="adj1" fmla="val 26511"/>
              <a:gd name="adj2" fmla="val 26509"/>
              <a:gd name="adj3" fmla="val 16667"/>
              <a:gd name="adj4" fmla="val 6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7" name="Rectangle 18"/>
          <p:cNvSpPr/>
          <p:nvPr/>
        </p:nvSpPr>
        <p:spPr>
          <a:xfrm>
            <a:off x="4643280" y="4878360"/>
            <a:ext cx="2249640" cy="720720"/>
          </a:xfrm>
          <a:prstGeom prst="rect">
            <a:avLst/>
          </a:prstGeom>
          <a:noFill/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oupled dynamic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equations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  <a:ea typeface="华文楷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8" name="Rectangle 22"/>
          <p:cNvSpPr/>
          <p:nvPr/>
        </p:nvSpPr>
        <p:spPr>
          <a:xfrm>
            <a:off x="5661000" y="3817800"/>
            <a:ext cx="2484720" cy="69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Linear coupl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dynamical equ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9" name="Rectangle 23"/>
          <p:cNvSpPr/>
          <p:nvPr/>
        </p:nvSpPr>
        <p:spPr>
          <a:xfrm>
            <a:off x="5600880" y="2984400"/>
            <a:ext cx="2519280" cy="393840"/>
          </a:xfrm>
          <a:prstGeom prst="rect">
            <a:avLst/>
          </a:prstGeom>
          <a:solidFill>
            <a:srgbClr val="ffffff"/>
          </a:solidFill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Stability analys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0" name="AutoShape 24"/>
          <p:cNvSpPr/>
          <p:nvPr/>
        </p:nvSpPr>
        <p:spPr>
          <a:xfrm>
            <a:off x="6443640" y="3378240"/>
            <a:ext cx="771480" cy="4158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1" name="Rectangle 26"/>
          <p:cNvSpPr/>
          <p:nvPr/>
        </p:nvSpPr>
        <p:spPr>
          <a:xfrm>
            <a:off x="7641720" y="2000160"/>
            <a:ext cx="855360" cy="69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Stab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OK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2" name="Rectangle 27"/>
          <p:cNvSpPr/>
          <p:nvPr/>
        </p:nvSpPr>
        <p:spPr>
          <a:xfrm>
            <a:off x="4014720" y="2163600"/>
            <a:ext cx="1343160" cy="571680"/>
          </a:xfrm>
          <a:prstGeom prst="rect">
            <a:avLst/>
          </a:prstGeom>
          <a:noFill/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Unstab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3" name="Rectangle 30"/>
          <p:cNvSpPr/>
          <p:nvPr/>
        </p:nvSpPr>
        <p:spPr>
          <a:xfrm>
            <a:off x="3648960" y="2735280"/>
            <a:ext cx="2123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djust the parameter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4" name="AutoShape 27"/>
          <p:cNvSpPr/>
          <p:nvPr/>
        </p:nvSpPr>
        <p:spPr>
          <a:xfrm rot="16200000">
            <a:off x="5688720" y="2136960"/>
            <a:ext cx="785880" cy="838440"/>
          </a:xfrm>
          <a:prstGeom prst="pi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5" name="AutoShape 28"/>
          <p:cNvSpPr/>
          <p:nvPr/>
        </p:nvSpPr>
        <p:spPr>
          <a:xfrm rot="10800000">
            <a:off x="2428560" y="2306160"/>
            <a:ext cx="1428840" cy="885960"/>
          </a:xfrm>
          <a:prstGeom prst="pi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6" name="AutoShape 27"/>
          <p:cNvSpPr/>
          <p:nvPr/>
        </p:nvSpPr>
        <p:spPr>
          <a:xfrm>
            <a:off x="6975360" y="4567320"/>
            <a:ext cx="785880" cy="838080"/>
          </a:xfrm>
          <a:prstGeom prst="pi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7" name="圆角右箭头 26"/>
          <p:cNvSpPr/>
          <p:nvPr/>
        </p:nvSpPr>
        <p:spPr>
          <a:xfrm>
            <a:off x="6786720" y="2163600"/>
            <a:ext cx="814320" cy="785880"/>
          </a:xfrm>
          <a:prstGeom prst="pi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灯片编号占位符 5"/>
          <p:cNvSpPr/>
          <p:nvPr/>
        </p:nvSpPr>
        <p:spPr>
          <a:xfrm>
            <a:off x="687708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1DE9E-45FA-4EED-887C-92F841249D66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9" name="Rectangle 7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0" name="Rectangle 9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71" name="Picture 10" descr="23"/>
          <p:cNvPicPr/>
          <p:nvPr/>
        </p:nvPicPr>
        <p:blipFill>
          <a:blip r:embed="rId1"/>
          <a:stretch/>
        </p:blipFill>
        <p:spPr>
          <a:xfrm>
            <a:off x="0" y="0"/>
            <a:ext cx="9144000" cy="1019160"/>
          </a:xfrm>
          <a:prstGeom prst="rect">
            <a:avLst/>
          </a:prstGeom>
          <a:ln w="0">
            <a:noFill/>
          </a:ln>
        </p:spPr>
      </p:pic>
      <p:sp>
        <p:nvSpPr>
          <p:cNvPr id="872" name="Text Box 6"/>
          <p:cNvSpPr/>
          <p:nvPr/>
        </p:nvSpPr>
        <p:spPr>
          <a:xfrm>
            <a:off x="95400" y="2482920"/>
            <a:ext cx="154764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. DS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PD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P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cc0099"/>
                </a:solidFill>
                <a:latin typeface="Comic Sans MS"/>
              </a:rPr>
              <a:t>DD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. S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. AP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3" name="Rectangle 2"/>
          <p:cNvSpPr/>
          <p:nvPr/>
        </p:nvSpPr>
        <p:spPr>
          <a:xfrm>
            <a:off x="1643040" y="1071720"/>
            <a:ext cx="664380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Details for the Design Metho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74" name="Group 34"/>
          <p:cNvGrpSpPr/>
          <p:nvPr/>
        </p:nvGrpSpPr>
        <p:grpSpPr>
          <a:xfrm>
            <a:off x="2143080" y="2070000"/>
            <a:ext cx="4375080" cy="2858760"/>
            <a:chOff x="2143080" y="2070000"/>
            <a:chExt cx="4375080" cy="2858760"/>
          </a:xfrm>
        </p:grpSpPr>
        <p:sp>
          <p:nvSpPr>
            <p:cNvPr id="875" name="Oval 35"/>
            <p:cNvSpPr/>
            <p:nvPr/>
          </p:nvSpPr>
          <p:spPr>
            <a:xfrm>
              <a:off x="2143080" y="3144240"/>
              <a:ext cx="2097720" cy="799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6" name="Line 36"/>
            <p:cNvSpPr/>
            <p:nvPr/>
          </p:nvSpPr>
          <p:spPr>
            <a:xfrm>
              <a:off x="4253040" y="3557520"/>
              <a:ext cx="209736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7" name="Line 37"/>
            <p:cNvSpPr/>
            <p:nvPr/>
          </p:nvSpPr>
          <p:spPr>
            <a:xfrm>
              <a:off x="4253040" y="3557520"/>
              <a:ext cx="11984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8" name="Line 38"/>
            <p:cNvSpPr/>
            <p:nvPr/>
          </p:nvSpPr>
          <p:spPr>
            <a:xfrm>
              <a:off x="5451840" y="3557520"/>
              <a:ext cx="898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9" name="Line 39"/>
            <p:cNvSpPr/>
            <p:nvPr/>
          </p:nvSpPr>
          <p:spPr>
            <a:xfrm flipH="1" flipV="1">
              <a:off x="4034160" y="2649240"/>
              <a:ext cx="213120" cy="90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0" name="Line 40"/>
            <p:cNvSpPr/>
            <p:nvPr/>
          </p:nvSpPr>
          <p:spPr>
            <a:xfrm flipH="1" flipV="1">
              <a:off x="4180680" y="2759040"/>
              <a:ext cx="69840" cy="7970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1" name="Line 41"/>
            <p:cNvSpPr/>
            <p:nvPr/>
          </p:nvSpPr>
          <p:spPr>
            <a:xfrm flipH="1" flipV="1">
              <a:off x="4101480" y="2073240"/>
              <a:ext cx="72000" cy="682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2" name="Line 42"/>
            <p:cNvSpPr/>
            <p:nvPr/>
          </p:nvSpPr>
          <p:spPr>
            <a:xfrm>
              <a:off x="4103280" y="2071800"/>
              <a:ext cx="2247120" cy="148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3" name="Line 43"/>
            <p:cNvSpPr/>
            <p:nvPr/>
          </p:nvSpPr>
          <p:spPr>
            <a:xfrm>
              <a:off x="6350760" y="35575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4" name="Line 44"/>
            <p:cNvSpPr/>
            <p:nvPr/>
          </p:nvSpPr>
          <p:spPr>
            <a:xfrm flipH="1">
              <a:off x="4026960" y="2070000"/>
              <a:ext cx="68400" cy="58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5" name="Line 45"/>
            <p:cNvSpPr/>
            <p:nvPr/>
          </p:nvSpPr>
          <p:spPr>
            <a:xfrm>
              <a:off x="4045680" y="2673360"/>
              <a:ext cx="2298240" cy="155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6" name="AutoShape 46"/>
            <p:cNvSpPr/>
            <p:nvPr/>
          </p:nvSpPr>
          <p:spPr>
            <a:xfrm>
              <a:off x="6128640" y="2348640"/>
              <a:ext cx="160560" cy="141120"/>
            </a:xfrm>
            <a:prstGeom prst="cube">
              <a:avLst>
                <a:gd name="adj" fmla="val 25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7" name="Line 47"/>
            <p:cNvSpPr/>
            <p:nvPr/>
          </p:nvSpPr>
          <p:spPr>
            <a:xfrm flipV="1">
              <a:off x="4253040" y="3214440"/>
              <a:ext cx="599040" cy="342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8" name="Line 48"/>
            <p:cNvSpPr/>
            <p:nvPr/>
          </p:nvSpPr>
          <p:spPr>
            <a:xfrm flipV="1">
              <a:off x="4852440" y="2414520"/>
              <a:ext cx="134820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9" name="AutoShape 49"/>
            <p:cNvSpPr/>
            <p:nvPr/>
          </p:nvSpPr>
          <p:spPr>
            <a:xfrm>
              <a:off x="4138200" y="3491640"/>
              <a:ext cx="221400" cy="131760"/>
            </a:xfrm>
            <a:prstGeom prst="can">
              <a:avLst>
                <a:gd name="adj" fmla="val 250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0" name="Oval 50"/>
            <p:cNvSpPr/>
            <p:nvPr/>
          </p:nvSpPr>
          <p:spPr>
            <a:xfrm>
              <a:off x="3111120" y="4368600"/>
              <a:ext cx="118080" cy="103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891" name="Object 3"/>
            <p:cNvGraphicFramePr/>
            <p:nvPr/>
          </p:nvGraphicFramePr>
          <p:xfrm>
            <a:off x="3741120" y="2493720"/>
            <a:ext cx="212040" cy="2635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92" name="Object 3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741120" y="2493720"/>
                      <a:ext cx="212040" cy="26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93" name="Object 4"/>
            <p:cNvGraphicFramePr/>
            <p:nvPr/>
          </p:nvGraphicFramePr>
          <p:xfrm>
            <a:off x="5988600" y="3636720"/>
            <a:ext cx="227880" cy="2635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894" name="Object 4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988600" y="3636720"/>
                      <a:ext cx="227880" cy="26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95" name="Object 5"/>
            <p:cNvGraphicFramePr/>
            <p:nvPr/>
          </p:nvGraphicFramePr>
          <p:xfrm>
            <a:off x="4490280" y="3786120"/>
            <a:ext cx="227880" cy="2635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896" name="Object 5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4490280" y="3786120"/>
                      <a:ext cx="227880" cy="26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97" name="Object 6"/>
            <p:cNvGraphicFramePr/>
            <p:nvPr/>
          </p:nvGraphicFramePr>
          <p:xfrm>
            <a:off x="4790160" y="2722320"/>
            <a:ext cx="227880" cy="2635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898" name="Object 6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4790160" y="2722320"/>
                      <a:ext cx="227880" cy="26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99" name="Line 55"/>
            <p:cNvSpPr/>
            <p:nvPr/>
          </p:nvSpPr>
          <p:spPr>
            <a:xfrm flipV="1">
              <a:off x="3169080" y="3484440"/>
              <a:ext cx="0" cy="934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0" name="Line 56"/>
            <p:cNvSpPr/>
            <p:nvPr/>
          </p:nvSpPr>
          <p:spPr>
            <a:xfrm flipV="1">
              <a:off x="3169080" y="2091240"/>
              <a:ext cx="0" cy="146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901" name="Object 7"/>
            <p:cNvGraphicFramePr/>
            <p:nvPr/>
          </p:nvGraphicFramePr>
          <p:xfrm>
            <a:off x="2392560" y="2819160"/>
            <a:ext cx="1208520" cy="2343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902" name="Object 7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2392560" y="2819160"/>
                      <a:ext cx="1208520" cy="23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03" name="Object 8"/>
            <p:cNvGraphicFramePr/>
            <p:nvPr/>
          </p:nvGraphicFramePr>
          <p:xfrm>
            <a:off x="2842200" y="4539240"/>
            <a:ext cx="342720" cy="16092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904" name="Object 8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2842200" y="4539240"/>
                      <a:ext cx="342720" cy="16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05" name="Line 59"/>
            <p:cNvSpPr/>
            <p:nvPr/>
          </p:nvSpPr>
          <p:spPr>
            <a:xfrm>
              <a:off x="3166920" y="3557520"/>
              <a:ext cx="104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906" name="Object 9"/>
            <p:cNvGraphicFramePr/>
            <p:nvPr/>
          </p:nvGraphicFramePr>
          <p:xfrm>
            <a:off x="3965760" y="4093920"/>
            <a:ext cx="212040" cy="26352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907" name="Object 9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3965760" y="4093920"/>
                      <a:ext cx="212040" cy="26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08" name="Object 10"/>
            <p:cNvGraphicFramePr/>
            <p:nvPr/>
          </p:nvGraphicFramePr>
          <p:xfrm>
            <a:off x="3503880" y="3533400"/>
            <a:ext cx="244440" cy="26352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909" name="Object 10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3503880" y="3533400"/>
                      <a:ext cx="244440" cy="26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10" name="Object 11"/>
            <p:cNvGraphicFramePr/>
            <p:nvPr/>
          </p:nvGraphicFramePr>
          <p:xfrm>
            <a:off x="5814720" y="2082600"/>
            <a:ext cx="703440" cy="235080"/>
          </p:xfrm>
          <a:graphic>
            <a:graphicData uri="http://schemas.openxmlformats.org/presentationml/2006/ole">
              <p:oleObj r:id="rId18" spid="">
                <p:embed/>
                <p:pic>
                  <p:nvPicPr>
                    <p:cNvPr id="911" name="Object 11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5814720" y="2082600"/>
                      <a:ext cx="703440" cy="23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12" name="Line 63"/>
            <p:cNvSpPr/>
            <p:nvPr/>
          </p:nvSpPr>
          <p:spPr>
            <a:xfrm>
              <a:off x="5302080" y="3900600"/>
              <a:ext cx="29952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913" name="Object 12"/>
            <p:cNvGraphicFramePr/>
            <p:nvPr/>
          </p:nvGraphicFramePr>
          <p:xfrm>
            <a:off x="5464440" y="4370760"/>
            <a:ext cx="392040" cy="190080"/>
          </p:xfrm>
          <a:graphic>
            <a:graphicData uri="http://schemas.openxmlformats.org/presentationml/2006/ole">
              <p:oleObj r:id="rId20" spid="">
                <p:embed/>
                <p:pic>
                  <p:nvPicPr>
                    <p:cNvPr id="914" name="Object 12" descr="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>
                      <a:off x="5464440" y="4370760"/>
                      <a:ext cx="392040" cy="190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15" name="Object 13"/>
            <p:cNvGraphicFramePr/>
            <p:nvPr/>
          </p:nvGraphicFramePr>
          <p:xfrm>
            <a:off x="3866040" y="3315960"/>
            <a:ext cx="342720" cy="204120"/>
          </p:xfrm>
          <a:graphic>
            <a:graphicData uri="http://schemas.openxmlformats.org/presentationml/2006/ole">
              <p:oleObj r:id="rId22" spid="">
                <p:embed/>
                <p:pic>
                  <p:nvPicPr>
                    <p:cNvPr id="916" name="Object 13" descr=""/>
                    <p:cNvPicPr/>
                    <p:nvPr/>
                  </p:nvPicPr>
                  <p:blipFill>
                    <a:blip r:embed="rId23"/>
                    <a:stretch/>
                  </p:blipFill>
                  <p:spPr>
                    <a:xfrm>
                      <a:off x="3866040" y="3315960"/>
                      <a:ext cx="342720" cy="20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17" name="Line 66"/>
            <p:cNvSpPr/>
            <p:nvPr/>
          </p:nvSpPr>
          <p:spPr>
            <a:xfrm>
              <a:off x="3141720" y="4412520"/>
              <a:ext cx="2459520" cy="51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8" name="Line 67"/>
            <p:cNvSpPr/>
            <p:nvPr/>
          </p:nvSpPr>
          <p:spPr>
            <a:xfrm>
              <a:off x="4228200" y="3557520"/>
              <a:ext cx="0" cy="109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919" name="Object 14"/>
            <p:cNvGraphicFramePr/>
            <p:nvPr/>
          </p:nvGraphicFramePr>
          <p:xfrm>
            <a:off x="2904480" y="2529000"/>
            <a:ext cx="244440" cy="263520"/>
          </p:xfrm>
          <a:graphic>
            <a:graphicData uri="http://schemas.openxmlformats.org/presentationml/2006/ole">
              <p:oleObj r:id="rId24" spid="">
                <p:embed/>
                <p:pic>
                  <p:nvPicPr>
                    <p:cNvPr id="920" name="Object 14" descr=""/>
                    <p:cNvPicPr/>
                    <p:nvPr/>
                  </p:nvPicPr>
                  <p:blipFill>
                    <a:blip r:embed="rId25"/>
                    <a:stretch/>
                  </p:blipFill>
                  <p:spPr>
                    <a:xfrm>
                      <a:off x="2904480" y="2529000"/>
                      <a:ext cx="244440" cy="26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21" name="Object 15"/>
            <p:cNvGraphicFramePr/>
            <p:nvPr/>
          </p:nvGraphicFramePr>
          <p:xfrm>
            <a:off x="4077360" y="3637440"/>
            <a:ext cx="195480" cy="204120"/>
          </p:xfrm>
          <a:graphic>
            <a:graphicData uri="http://schemas.openxmlformats.org/presentationml/2006/ole">
              <p:oleObj r:id="rId26" spid="">
                <p:embed/>
                <p:pic>
                  <p:nvPicPr>
                    <p:cNvPr id="922" name="Object 15" descr=""/>
                    <p:cNvPicPr/>
                    <p:nvPr/>
                  </p:nvPicPr>
                  <p:blipFill>
                    <a:blip r:embed="rId27"/>
                    <a:stretch/>
                  </p:blipFill>
                  <p:spPr>
                    <a:xfrm>
                      <a:off x="4077360" y="3637440"/>
                      <a:ext cx="195480" cy="20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923" name="Picture 17" descr=""/>
          <p:cNvPicPr/>
          <p:nvPr/>
        </p:nvPicPr>
        <p:blipFill>
          <a:blip r:embed="rId28"/>
          <a:stretch/>
        </p:blipFill>
        <p:spPr>
          <a:xfrm>
            <a:off x="1500120" y="5072040"/>
            <a:ext cx="4505400" cy="123840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6" descr=""/>
          <p:cNvPicPr/>
          <p:nvPr/>
        </p:nvPicPr>
        <p:blipFill>
          <a:blip r:embed="rId29"/>
          <a:stretch/>
        </p:blipFill>
        <p:spPr>
          <a:xfrm>
            <a:off x="6072120" y="5286240"/>
            <a:ext cx="2786040" cy="754200"/>
          </a:xfrm>
          <a:prstGeom prst="rect">
            <a:avLst/>
          </a:prstGeom>
          <a:ln w="0">
            <a:noFill/>
          </a:ln>
        </p:spPr>
      </p:pic>
      <p:sp>
        <p:nvSpPr>
          <p:cNvPr id="925" name="Rectangle 11"/>
          <p:cNvSpPr/>
          <p:nvPr/>
        </p:nvSpPr>
        <p:spPr>
          <a:xfrm>
            <a:off x="7215120" y="2286000"/>
            <a:ext cx="180036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Select parameters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satisfying constraint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6" name="Rectangle 12"/>
          <p:cNvSpPr/>
          <p:nvPr/>
        </p:nvSpPr>
        <p:spPr>
          <a:xfrm>
            <a:off x="7215120" y="3000240"/>
            <a:ext cx="180036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Derivation of the coupled equation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7" name="Rectangle 22"/>
          <p:cNvSpPr/>
          <p:nvPr/>
        </p:nvSpPr>
        <p:spPr>
          <a:xfrm>
            <a:off x="7299000" y="3671640"/>
            <a:ext cx="1632600" cy="515160"/>
          </a:xfrm>
          <a:prstGeom prst="rect">
            <a:avLst/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Linearization of the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oupled equation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8" name="Rectangle 23"/>
          <p:cNvSpPr/>
          <p:nvPr/>
        </p:nvSpPr>
        <p:spPr>
          <a:xfrm>
            <a:off x="7215120" y="4477320"/>
            <a:ext cx="1800360" cy="332280"/>
          </a:xfrm>
          <a:prstGeom prst="rect">
            <a:avLst/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Stability analysi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9" name="下箭头 50"/>
          <p:cNvSpPr/>
          <p:nvPr/>
        </p:nvSpPr>
        <p:spPr>
          <a:xfrm>
            <a:off x="7929720" y="2714760"/>
            <a:ext cx="285480" cy="285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0" name="下箭头 51"/>
          <p:cNvSpPr/>
          <p:nvPr/>
        </p:nvSpPr>
        <p:spPr>
          <a:xfrm>
            <a:off x="7929720" y="3429000"/>
            <a:ext cx="285480" cy="285840"/>
          </a:xfrm>
          <a:prstGeom prst="downArrow">
            <a:avLst>
              <a:gd name="adj1" fmla="val 50000"/>
              <a:gd name="adj2" fmla="val 50063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1" name="下箭头 52"/>
          <p:cNvSpPr/>
          <p:nvPr/>
        </p:nvSpPr>
        <p:spPr>
          <a:xfrm>
            <a:off x="7929720" y="4143240"/>
            <a:ext cx="285480" cy="285840"/>
          </a:xfrm>
          <a:prstGeom prst="downArrow">
            <a:avLst>
              <a:gd name="adj1" fmla="val 50000"/>
              <a:gd name="adj2" fmla="val 50063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6T17:07:20Z</dcterms:created>
  <dc:creator>Li Linglai</dc:creator>
  <dc:description/>
  <dc:language>en-US</dc:language>
  <cp:lastModifiedBy>lluozzi</cp:lastModifiedBy>
  <dcterms:modified xsi:type="dcterms:W3CDTF">2007-06-22T08:00:15Z</dcterms:modified>
  <cp:revision>590</cp:revision>
  <dc:subject/>
  <dc:title>Robust Fault Diagnosis of A Class of Nonlinear Stochastic Systems</dc:title>
</cp:coreProperties>
</file>