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57B-4DDF-4082-AA28-92B80AC4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424-21FF-4E52-B0A8-6455C755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103-03BF-4BD0-9268-CC434CBF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617-79B2-4976-8E0A-E77E9ED3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AEF1-C89C-4898-819C-B063F7DE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8C79-6F4D-4848-AF48-0AA8FBEC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782A-7612-45CD-B468-A121B521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4A75-69C8-455C-9F2D-45895D51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60C7-EABF-4320-A1DF-F9A8FA9D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460A-41EF-4B3A-B582-A0CD0131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0B7F-0737-4B39-AE17-E6BEEC1E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204-26E4-4742-B681-92A50E04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EE82-863A-4DE5-A19B-5169D541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95B9-B734-4C15-A594-815C8A8D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BF04-9ACF-491C-B43F-4D882797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61CD-EA2A-4BE2-B0CD-94EF15DC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FC1A-75D4-4471-ADF8-8EFA68F9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0DB8-1D58-49C2-B682-E6D8EC26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0036E-CE5C-4AA4-A57F-E6455EA5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63DB-3D6D-4497-8ED1-CB642166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CEC5-D8B3-4125-BDE8-F7726E8A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3F119-8DC5-489A-9071-79923128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E05-15C2-4D4A-AA5A-C464C8F7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FE1E5-F8B3-47D7-808B-61F6D5AF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C8BC5-EB85-46EB-A23C-3FDDF086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96D5-E832-482E-AF21-60550BC4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0C745-0F5E-4B14-9301-D1EA2721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C73AE-467D-4AF5-B080-DB04C9C1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7AE8D-8810-459A-A14D-D7CDFE37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7F43-E481-4A2A-9061-7F67C5B3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3A8-4F9F-4510-B10B-5F220621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B5D-EC7D-464E-85B4-AA10CBBB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F4A-9FC6-4268-B1EB-B08EF3F0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572-5710-46F1-984E-EB218B24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845-9C5F-427B-803B-D9F07A8E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D21-5349-4BE6-B7B1-12D62FC7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96E1-7349-46EF-9C4A-43C2A64F47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6861-B62D-4DCB-BF67-D36A81FE848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BD56-FC79-42BC-B4D2-C92346AB95C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61136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Sun Synchronous orbits </a:t>
            </a:r>
            <a:br>
              <a:rPr sz="4400"/>
            </a:b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by means of Solar S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50560" y="4508280"/>
            <a:ext cx="8713800" cy="2205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ndrea Bolle and Christian Cir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University of Rome, “Sapienz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School of Aerospac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</a:rPr>
              <a:t>1st International Symposium on Solar Sai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</a:rPr>
              <a:t>27-29 June 2007 Herrsching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The Cosmos-1 Sailcra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The Cosmos-1 Sailcraf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ilcraft is composed by eight triangular-shaped petals, each one rotating about its symmetry axi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otation of petals allows to produce large control torqu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teering law allows to receive the maximum solar thrust when the satellite is above the Equatorial Plane, and to make it null during the rest of the orb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Arial"/>
              </a:rPr>
              <a:t>The Cosmos-1 Sailc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329440" cy="430524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34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The Cosmos-1 Sailcraf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joining petals rotates of the same quantity but in opposite ver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posite petals rotate of the same quantity and in the same ver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3280" y="2924280"/>
            <a:ext cx="4608360" cy="703440"/>
          </a:xfrm>
          <a:prstGeom prst="rect">
            <a:avLst/>
          </a:prstGeom>
          <a:solidFill>
            <a:srgbClr val="ffff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199"/>
                </a:solidFill>
                <a:latin typeface="Arial"/>
              </a:rPr>
              <a:t>No roll tor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0000" y="5229360"/>
            <a:ext cx="5329080" cy="1068840"/>
          </a:xfrm>
          <a:prstGeom prst="rect">
            <a:avLst/>
          </a:prstGeom>
          <a:solidFill>
            <a:srgbClr val="ffff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199"/>
                </a:solidFill>
                <a:latin typeface="Arial"/>
              </a:rPr>
              <a:t>The angular momentum is held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2997360"/>
            <a:ext cx="1150920" cy="576000"/>
          </a:xfrm>
          <a:prstGeom prst="rightArrow">
            <a:avLst>
              <a:gd name="adj1" fmla="val 44352"/>
              <a:gd name="adj2" fmla="val 65041"/>
            </a:avLst>
          </a:prstGeom>
          <a:gradFill rotWithShape="0">
            <a:gsLst>
              <a:gs pos="0">
                <a:srgbClr val="ffffff"/>
              </a:gs>
              <a:gs pos="100000">
                <a:srgbClr val="010199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5445000"/>
            <a:ext cx="1150920" cy="576360"/>
          </a:xfrm>
          <a:prstGeom prst="rightArrow">
            <a:avLst>
              <a:gd name="adj1" fmla="val 44352"/>
              <a:gd name="adj2" fmla="val 65000"/>
            </a:avLst>
          </a:prstGeom>
          <a:gradFill rotWithShape="0">
            <a:gsLst>
              <a:gs pos="0">
                <a:srgbClr val="ffffff"/>
              </a:gs>
              <a:gs pos="100000">
                <a:srgbClr val="010199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Numeric Simul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1676520"/>
            <a:ext cx="6400800" cy="368280"/>
          </a:xfrm>
          <a:prstGeom prst="rect">
            <a:avLst/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al solar sail with an overall coefficient  equal to 1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514600"/>
            <a:ext cx="6400800" cy="785520"/>
          </a:xfrm>
          <a:prstGeom prst="rect">
            <a:avLst/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ce model for the Earth cas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eplerian term, J2 term, sola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4173480"/>
            <a:ext cx="6400800" cy="785520"/>
          </a:xfrm>
          <a:prstGeom prst="rect">
            <a:avLst/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ce model for the Lunar cas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eplerian term, sola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Numeric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535960" cy="462888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Numeric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535960" cy="462888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Numeric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535960" cy="462888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Numeric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535960" cy="462888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Comparison with chemical propuls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35960" cy="462924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Sun Synchronous orbit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4248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n Synchronous orbits are characterized by a variation in time of the RAAN synchronous to the fictitious motion of the Su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ch precession is obtained taking advantage from the gravitational perturbation represented by the J2 coefficient of the gravity potential series expa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1557360"/>
            <a:ext cx="4248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thematic relation between the perturbation due to the J2 term and the RAAN variation over an orbit period in tim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ing “R” the Earth mean radius, “n” the mean motion, “p” and “i” the orbit parameter and inclin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148360" y="3645000"/>
                <a:ext cx="295272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⊕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Comparison with chemical propuls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600720"/>
          </a:xfrm>
          <a:prstGeom prst="rect">
            <a:avLst/>
          </a:prstGeom>
          <a:solidFill>
            <a:srgbClr val="ffff00"/>
          </a:solidFill>
          <a:ln w="3168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10199"/>
                </a:solidFill>
                <a:latin typeface="Arial"/>
              </a:rPr>
              <a:t>In an ideal case, assuming that the satellite structure has no mass, with a specific impulse of 300 secs and a payload mass of 70 kgs, more than 1,000 kgs of propellant mass are needed to raise the altitude up to 300 km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700280"/>
          <a:ext cx="9144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Arial"/>
              </a:rPr>
              <a:t>Sun Synchronous Lunar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843280" y="1700280"/>
          <a:ext cx="1993680" cy="17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1700280"/>
                    <a:ext cx="1993680" cy="17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c0c0"/>
                </a:solidFill>
                <a:latin typeface="Arial"/>
              </a:rPr>
              <a:t>Sun Synchronous Lunar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figure1" descr=""/>
          <p:cNvPicPr/>
          <p:nvPr/>
        </p:nvPicPr>
        <p:blipFill>
          <a:blip r:embed="rId1"/>
          <a:stretch/>
        </p:blipFill>
        <p:spPr>
          <a:xfrm>
            <a:off x="1219320" y="1441440"/>
            <a:ext cx="6324480" cy="4229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Sun Synchronous Lunar orbi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wn-desk” orbits can be considered for Sun Synchronous Lunar miss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ing the Moon mass 81 times smaller than the Earth one, the thrust due to the solar radiation pressure is sufficient by itself to achieve Sun synchronis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smos-1”-like sailcrafts may be employe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control steering law is the same as for Earth mis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Preliminary Stud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35960" cy="462924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2b2b2"/>
                </a:solidFill>
                <a:latin typeface="Arial"/>
              </a:rPr>
              <a:t>Comparison with chemical propuls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solidFill>
            <a:srgbClr val="ffff00"/>
          </a:solidFill>
          <a:ln w="3168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10199"/>
                </a:solidFill>
                <a:latin typeface="Arial"/>
              </a:rPr>
              <a:t>In an ideal case, assuming that the satellite structure has no mass, with a specific impulse of 300 secs and a payload mass of 70 kgs, more than 1,500 kgs of propellant mass are needed to raise the altitude up to 500 km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Future developm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finement of the dynamic model (adding further terms to the harmonic series expansion for both terrestrial and lunar cases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ding the effect of the aerodynamic drag for the terrestrial Sun synchronous orbit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st-effectiveness analysis of sailcrafts in comparison with electric propuls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centric Sun synchronous Lunar orbit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55640" y="1989000"/>
            <a:ext cx="7561440" cy="41054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3429000"/>
            <a:ext cx="1152720" cy="1152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2852640"/>
          <a:ext cx="183528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52640"/>
                    <a:ext cx="183528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564000" y="1125360"/>
          <a:ext cx="1834920" cy="152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125360"/>
                    <a:ext cx="1834920" cy="15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308720" y="2852640"/>
          <a:ext cx="1835280" cy="15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2852640"/>
                    <a:ext cx="183528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564000" y="5330880"/>
          <a:ext cx="1834920" cy="15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5330880"/>
                    <a:ext cx="183492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780000" y="549360"/>
            <a:ext cx="1582560" cy="23050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5516640"/>
            <a:ext cx="1582560" cy="8650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158600">
            <a:off x="7885080" y="2420640"/>
            <a:ext cx="898560" cy="23050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0673000">
            <a:off x="468000" y="2420640"/>
            <a:ext cx="898560" cy="23050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9"/>
          <a:srcRect l="0" t="0" r="46027" b="0"/>
          <a:stretch/>
        </p:blipFill>
        <p:spPr>
          <a:xfrm>
            <a:off x="7308720" y="2852640"/>
            <a:ext cx="990720" cy="1527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rcRect l="54003" t="0" r="0" b="0"/>
          <a:stretch/>
        </p:blipFill>
        <p:spPr>
          <a:xfrm>
            <a:off x="971640" y="2852640"/>
            <a:ext cx="844560" cy="152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rcRect l="0" t="44081" r="0" b="0"/>
          <a:stretch/>
        </p:blipFill>
        <p:spPr>
          <a:xfrm>
            <a:off x="3564000" y="6004080"/>
            <a:ext cx="1833480" cy="853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Sun Synchronous orbit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each value of the orbital inclination, there is a correspondent value of the orbit semi axis which allows to achieve sun synchronis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urther more, by imposing a periodic satellite passage over given geographical areas, there will be a finite number of possible orbi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Sun Synchronous orbit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529480" cy="46227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Sun Synchronous orbit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 large number of sun synchronous orbits have already been occupied by several satellit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equested orbits for new mission may be un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4508640"/>
            <a:ext cx="1944720" cy="936360"/>
          </a:xfrm>
          <a:prstGeom prst="rightArrow">
            <a:avLst>
              <a:gd name="adj1" fmla="val 50000"/>
              <a:gd name="adj2" fmla="val 5192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3645000"/>
            <a:ext cx="5256000" cy="2653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ew Sun synchronous</a:t>
            </a:r>
            <a:r>
              <a:rPr b="1" lang="en-GB" sz="2800" spc="-1" strike="noStrike">
                <a:solidFill>
                  <a:srgbClr val="010199"/>
                </a:solidFill>
                <a:latin typeface="Arial"/>
              </a:rPr>
              <a:t> orbits, different from the traditional ones, may be obtained by taking advantage from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rust due to the solar radiation pressure</a:t>
            </a:r>
            <a:r>
              <a:rPr b="1" lang="en-GB" sz="2800" spc="-1" strike="noStrike">
                <a:solidFill>
                  <a:srgbClr val="0101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2b2b2"/>
                </a:solidFill>
                <a:latin typeface="Arial"/>
              </a:rPr>
              <a:t>New available Sun synchronous orbits </a:t>
            </a:r>
            <a:br>
              <a:rPr sz="3600"/>
            </a:br>
            <a:r>
              <a:rPr b="0" lang="en-GB" sz="3600" spc="-1" strike="noStrike">
                <a:solidFill>
                  <a:srgbClr val="b2b2b2"/>
                </a:solidFill>
                <a:latin typeface="Arial"/>
              </a:rPr>
              <a:t>through the solar radiation pressure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olar radiation pressure can produce an acceleration sensibly smaller than that due to the “J2 effect”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Yet such small acceleration may be employed to raise the altitude of a Sun synchronous orb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19640" y="2565360"/>
          <a:ext cx="3673440" cy="30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565360"/>
                    <a:ext cx="36734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 rot="1158600">
            <a:off x="6508440" y="2383920"/>
            <a:ext cx="1584360" cy="367200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158600">
            <a:off x="6366960" y="1987200"/>
            <a:ext cx="1803600" cy="43210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9640" y="2565360"/>
          <a:ext cx="1981440" cy="302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2565360"/>
                    <a:ext cx="198144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4211640" y="3716280"/>
            <a:ext cx="720720" cy="720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2b2b2"/>
                </a:solidFill>
                <a:latin typeface="Arial"/>
              </a:rPr>
              <a:t>New available Sun synchronous orbits </a:t>
            </a:r>
            <a:br>
              <a:rPr sz="3600"/>
            </a:br>
            <a:r>
              <a:rPr b="0" lang="en-GB" sz="3600" spc="-1" strike="noStrike">
                <a:solidFill>
                  <a:srgbClr val="b2b2b2"/>
                </a:solidFill>
                <a:latin typeface="Arial"/>
              </a:rPr>
              <a:t>through the solar radiation pressure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10199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looking at the Lagrange’s planetary equations, the only way to change the RAAN without modifying the other parameters is to consider circular orbits and to generate a thrust orthogonal to the orbital plane. This means that the sail plane must be coincident with the orbital plan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16000" y="1699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10199"/>
              </a:buClr>
              <a:buSzPct val="75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aximum thrust value produced by the solar radiation pressure can be obtained considering the so called “down-desk” orbi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10199"/>
              </a:buClr>
              <a:buSzPct val="75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RAAN rate is positive when the satellite is above the Equatorial Plane (sin u &gt; 0), and negative during the rest of the orbit. This implies that the sailcraft must receive the solar thrust only when sin u &gt; 0 to produce a RAAN rate synchronous with the Sun apparent mo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2b2b2"/>
                </a:solidFill>
                <a:latin typeface="Arial"/>
              </a:rPr>
              <a:t>New available Sun synchronous orbits </a:t>
            </a:r>
            <a:br>
              <a:rPr sz="3600"/>
            </a:br>
            <a:r>
              <a:rPr b="0" lang="en-GB" sz="3600" spc="-1" strike="noStrike">
                <a:solidFill>
                  <a:srgbClr val="b2b2b2"/>
                </a:solidFill>
                <a:latin typeface="Arial"/>
              </a:rPr>
              <a:t>through the solar radiation pressure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00720" y="2708280"/>
          <a:ext cx="367344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708280"/>
                    <a:ext cx="36734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 rot="1198800">
            <a:off x="5579640" y="2205000"/>
            <a:ext cx="1943280" cy="38894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3933720"/>
            <a:ext cx="936360" cy="936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00720" y="2708280"/>
          <a:ext cx="1981080" cy="302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708280"/>
                    <a:ext cx="198108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 rot="1501800">
            <a:off x="7308720" y="4149360"/>
            <a:ext cx="360360" cy="3589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510200">
            <a:off x="7724880" y="4144680"/>
            <a:ext cx="160200" cy="13500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7691600">
            <a:off x="7308720" y="3933000"/>
            <a:ext cx="142920" cy="14292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6860400">
            <a:off x="7527960" y="4564440"/>
            <a:ext cx="141480" cy="14292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2266400">
            <a:off x="7092360" y="4365360"/>
            <a:ext cx="144360" cy="14436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501800">
            <a:off x="7451640" y="3141360"/>
            <a:ext cx="360360" cy="358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468200">
            <a:off x="7884720" y="3141720"/>
            <a:ext cx="144360" cy="14292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7691600">
            <a:off x="7451640" y="2923560"/>
            <a:ext cx="142920" cy="14292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6860400">
            <a:off x="7666200" y="3573720"/>
            <a:ext cx="144720" cy="14292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2266400">
            <a:off x="7235280" y="3357360"/>
            <a:ext cx="144360" cy="14436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501800">
            <a:off x="7093080" y="2133360"/>
            <a:ext cx="360360" cy="358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468200">
            <a:off x="7524360" y="2133720"/>
            <a:ext cx="144360" cy="14292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7691600">
            <a:off x="7093080" y="1915920"/>
            <a:ext cx="142560" cy="14292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6860400">
            <a:off x="7307640" y="2565720"/>
            <a:ext cx="144360" cy="14292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2266400">
            <a:off x="6876720" y="2349360"/>
            <a:ext cx="144360" cy="14472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501800">
            <a:off x="6084720" y="2491920"/>
            <a:ext cx="360360" cy="3589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468200">
            <a:off x="6516360" y="2492280"/>
            <a:ext cx="144360" cy="14292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7691600">
            <a:off x="6084720" y="2276280"/>
            <a:ext cx="142560" cy="14292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6860400">
            <a:off x="6299640" y="2924640"/>
            <a:ext cx="144360" cy="14292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2266400">
            <a:off x="5866920" y="2707560"/>
            <a:ext cx="144720" cy="14436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547600">
            <a:off x="5076720" y="5013360"/>
            <a:ext cx="576360" cy="288720"/>
          </a:xfrm>
          <a:prstGeom prst="parallelogram">
            <a:avLst>
              <a:gd name="adj" fmla="val 107058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547600">
            <a:off x="5364000" y="5661000"/>
            <a:ext cx="576360" cy="289080"/>
          </a:xfrm>
          <a:prstGeom prst="parallelogram">
            <a:avLst>
              <a:gd name="adj" fmla="val 106925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547600">
            <a:off x="6227640" y="5661000"/>
            <a:ext cx="576360" cy="289080"/>
          </a:xfrm>
          <a:prstGeom prst="parallelogram">
            <a:avLst>
              <a:gd name="adj" fmla="val 106925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547600">
            <a:off x="6877080" y="5013360"/>
            <a:ext cx="576360" cy="288720"/>
          </a:xfrm>
          <a:prstGeom prst="parallelogram">
            <a:avLst>
              <a:gd name="adj" fmla="val 107058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2276640"/>
            <a:ext cx="4752720" cy="947160"/>
          </a:xfrm>
          <a:prstGeom prst="rect">
            <a:avLst/>
          </a:prstGeom>
          <a:solidFill>
            <a:srgbClr val="ffff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199"/>
                </a:solidFill>
                <a:latin typeface="Arial"/>
              </a:rPr>
              <a:t>The sailcraft has to rotate quick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p. Meccanica e Aeronautica</cp:lastModifiedBy>
  <dcterms:modified xsi:type="dcterms:W3CDTF">2007-06-26T13:58:20Z</dcterms:modified>
  <cp:revision>20</cp:revision>
  <dc:subject/>
  <dc:title>PowerPoint Presentation</dc:title>
</cp:coreProperties>
</file>