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467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540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5400" y="393804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44000" y="182880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9040" y="182880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44000" y="393804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9040" y="393804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5F7-77BA-4E79-ACA7-30A57764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FCD-F7DB-4100-917D-91DDF666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ECC-7BA1-4ADA-A5F9-F1BAE5B8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643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1828800"/>
            <a:ext cx="3643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4F7-6D35-49B0-9EB3-C21FCE04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632-37FC-448F-BA83-E4B59455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53F-60E9-4BB5-8AD5-042FDF8C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1828800"/>
            <a:ext cx="3643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014-B660-4386-8EF2-3A9797F6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643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5400" y="393804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0D7-E327-4300-87B9-E0C41777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540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467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9BA-F5A8-42BB-B532-FFD4CB86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467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C34-881D-4385-AECB-16F12FD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540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5400" y="393804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474-6F9A-4630-A266-98570632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44000" y="182880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9040" y="182880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44000" y="393804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9040" y="3938040"/>
            <a:ext cx="2404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E76-B479-4E9E-84CC-29C4B91F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643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5400" y="1828800"/>
            <a:ext cx="3643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1828800"/>
            <a:ext cx="3643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643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5400" y="393804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5400" y="1828800"/>
            <a:ext cx="364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467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4873680"/>
            <a:ext cx="1204920" cy="1755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8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40068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1c3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64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78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87c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1447920"/>
            <a:ext cx="75438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03280" y="6172200"/>
            <a:ext cx="774072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aettenschweiler"/>
              </a:rPr>
              <a:t>D</a:t>
            </a:r>
            <a:r>
              <a:rPr b="0" lang="en-US" sz="1800" spc="-1" strike="noStrike">
                <a:solidFill>
                  <a:srgbClr val="000066"/>
                </a:solidFill>
                <a:latin typeface="Haettenschweiler"/>
              </a:rPr>
              <a:t>epartment  of  </a:t>
            </a:r>
            <a:r>
              <a:rPr b="0" lang="en-US" sz="2400" spc="-1" strike="noStrike">
                <a:solidFill>
                  <a:srgbClr val="ff9900"/>
                </a:solidFill>
                <a:latin typeface="Haettenschweiler"/>
              </a:rPr>
              <a:t>A</a:t>
            </a:r>
            <a:r>
              <a:rPr b="0" lang="en-US" sz="1800" spc="-1" strike="noStrike">
                <a:solidFill>
                  <a:srgbClr val="ff9900"/>
                </a:solidFill>
                <a:latin typeface="Haettenschweiler"/>
              </a:rPr>
              <a:t>uto</a:t>
            </a:r>
            <a:r>
              <a:rPr b="0" lang="en-US" sz="1800" spc="-1" strike="noStrike">
                <a:solidFill>
                  <a:srgbClr val="000066"/>
                </a:solidFill>
                <a:latin typeface="Haettenschweiler"/>
              </a:rPr>
              <a:t>mation,</a:t>
            </a:r>
            <a:r>
              <a:rPr b="0" lang="en-US" sz="2400" spc="-1" strike="noStrike">
                <a:solidFill>
                  <a:srgbClr val="ff9900"/>
                </a:solidFill>
                <a:latin typeface="Haettenschweiler"/>
              </a:rPr>
              <a:t>  U</a:t>
            </a:r>
            <a:r>
              <a:rPr b="0" lang="en-US" sz="1800" spc="-1" strike="noStrike">
                <a:solidFill>
                  <a:srgbClr val="000066"/>
                </a:solidFill>
                <a:latin typeface="Haettenschweiler"/>
              </a:rPr>
              <a:t>niversity  of  </a:t>
            </a:r>
            <a:r>
              <a:rPr b="0" lang="en-US" sz="2400" spc="-1" strike="noStrike">
                <a:solidFill>
                  <a:srgbClr val="ff9900"/>
                </a:solidFill>
                <a:latin typeface="Haettenschweiler"/>
              </a:rPr>
              <a:t>S</a:t>
            </a:r>
            <a:r>
              <a:rPr b="0" lang="en-US" sz="1800" spc="-1" strike="noStrike">
                <a:solidFill>
                  <a:srgbClr val="000066"/>
                </a:solidFill>
                <a:latin typeface="Haettenschweiler"/>
              </a:rPr>
              <a:t>cience  and  </a:t>
            </a:r>
            <a:r>
              <a:rPr b="0" lang="en-US" sz="2400" spc="-1" strike="noStrike">
                <a:solidFill>
                  <a:srgbClr val="ff9900"/>
                </a:solidFill>
                <a:latin typeface="Haettenschweiler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Haettenschweiler"/>
              </a:rPr>
              <a:t>echnology  of  </a:t>
            </a:r>
            <a:r>
              <a:rPr b="0" lang="en-US" sz="2400" spc="-1" strike="noStrike">
                <a:solidFill>
                  <a:srgbClr val="ff9900"/>
                </a:solidFill>
                <a:latin typeface="Haettenschweiler"/>
              </a:rPr>
              <a:t>C</a:t>
            </a:r>
            <a:r>
              <a:rPr b="0" lang="en-US" sz="1800" spc="-1" strike="noStrike">
                <a:solidFill>
                  <a:srgbClr val="000066"/>
                </a:solidFill>
                <a:latin typeface="Haettenschweiler"/>
              </a:rPr>
              <a:t>hina</a:t>
            </a:r>
            <a:endParaRPr b="0" lang="en-US" sz="1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840" y="0"/>
            <a:ext cx="9128160" cy="32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e7f6ff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40068"/>
                </a:solidFill>
                <a:latin typeface="Arial"/>
              </a:rPr>
              <a:t>Attitude Control of Solar Sail Spacecraft Based On Rigid Structure Coupled with Flexible Modes</a:t>
            </a:r>
            <a:endParaRPr b="0" lang="en-US" sz="15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49560" y="626904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0314-7726-472B-BF9D-0821B4305B46}" type="slidenum">
              <a:rPr b="0" lang="zh-CN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8292960" y="6172200"/>
            <a:ext cx="47016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563868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63868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887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006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838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b2b8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2b8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32763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b2b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2b8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6705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b2b8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BBDE-F3BA-4403-8AB1-2DC83DA35714}" type="slidenum">
              <a:rPr b="0" lang="zh-CN" sz="1400" spc="-1" strike="noStrike">
                <a:solidFill>
                  <a:srgbClr val="2b2b8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3840" y="2743200"/>
            <a:ext cx="70866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5791320"/>
            <a:ext cx="4876920" cy="75960"/>
          </a:xfrm>
          <a:prstGeom prst="rect">
            <a:avLst/>
          </a:prstGeom>
          <a:solidFill>
            <a:srgbClr val="e7f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Haettenschweiler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Haettenschweiler"/>
              </a:rPr>
              <a:t>niversity    of    </a:t>
            </a:r>
            <a:r>
              <a:rPr b="0" lang="en-US" sz="2800" spc="-1" strike="noStrike">
                <a:solidFill>
                  <a:srgbClr val="ff9900"/>
                </a:solidFill>
                <a:latin typeface="Haettenschweiler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Haettenschweiler"/>
              </a:rPr>
              <a:t>cience    and    </a:t>
            </a:r>
            <a:r>
              <a:rPr b="0" lang="en-US" sz="2800" spc="-1" strike="noStrike">
                <a:solidFill>
                  <a:srgbClr val="ff9900"/>
                </a:solidFill>
                <a:latin typeface="Haettenschweiler"/>
              </a:rPr>
              <a:t>T</a:t>
            </a:r>
            <a:r>
              <a:rPr b="0" lang="en-US" sz="2000" spc="-1" strike="noStrike">
                <a:solidFill>
                  <a:srgbClr val="000066"/>
                </a:solidFill>
                <a:latin typeface="Haettenschweiler"/>
              </a:rPr>
              <a:t>echnology    of    </a:t>
            </a:r>
            <a:r>
              <a:rPr b="0" lang="en-US" sz="2800" spc="-1" strike="noStrike">
                <a:solidFill>
                  <a:srgbClr val="ff9900"/>
                </a:solidFill>
                <a:latin typeface="Haettenschweiler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Haettenschweiler"/>
              </a:rPr>
              <a:t>hina</a:t>
            </a:r>
            <a:endParaRPr b="0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d57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1d1d57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4c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d1d57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78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7c3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ttitude Control of Solar Sail Spacecraft Based On Rigid Structure Coupled with Flexible Modes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Wang Yong, 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Zhang Yang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,  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Zhang Guo-qing, Liang Qing</a:t>
            </a: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Department of Automation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University of Science and Technology of China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June 29,2007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1517760"/>
            <a:ext cx="4464000" cy="4287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Pitch-axis Control Model of Solar Sail</a:t>
            </a:r>
            <a:r>
              <a:rPr b="0" lang="en-US" sz="4000" spc="-1" strike="noStrike">
                <a:solidFill>
                  <a:srgbClr val="34006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9360" y="4653000"/>
            <a:ext cx="3713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Arial"/>
              </a:rPr>
              <a:t>Simplified model from configuration of Solar Sail proposed by DLR.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Flexible modes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Results derived from Dr. Michele Basso and Dr. Max Rotunno with a Finite Element analysis method </a:t>
            </a:r>
            <a:r>
              <a:rPr b="0" lang="zh-CN" sz="2400" spc="-1" strike="noStrike" baseline="30000">
                <a:solidFill>
                  <a:srgbClr val="1d1d57"/>
                </a:solidFill>
                <a:latin typeface="Times New Roman"/>
              </a:rPr>
              <a:t>[3]</a:t>
            </a: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03280" y="2924280"/>
          <a:ext cx="7169400" cy="1996920"/>
        </p:xfrm>
        <a:graphic>
          <a:graphicData uri="http://schemas.openxmlformats.org/drawingml/2006/table">
            <a:tbl>
              <a:tblPr/>
              <a:tblGrid>
                <a:gridCol w="1368360"/>
                <a:gridCol w="1839960"/>
                <a:gridCol w="1728720"/>
                <a:gridCol w="2232360"/>
              </a:tblGrid>
              <a:tr h="95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d57"/>
                          </a:solidFill>
                          <a:latin typeface="Times New Roman"/>
                        </a:rPr>
                        <a:t>Mode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d57"/>
                          </a:solidFill>
                          <a:latin typeface="Times New Roman"/>
                        </a:rPr>
                        <a:t>Coupling coefficients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d57"/>
                          </a:solidFill>
                          <a:latin typeface="Times New Roman"/>
                        </a:rPr>
                        <a:t>Modal damping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d57"/>
                          </a:solidFill>
                          <a:latin typeface="Times New Roman"/>
                        </a:rPr>
                        <a:t>Modal frequency 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d57"/>
                          </a:solidFill>
                          <a:latin typeface="Times New Roman"/>
                        </a:rPr>
                        <a:t>( rad /s)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d57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4.4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d57"/>
                          </a:solidFill>
                          <a:latin typeface="Times New Roman"/>
                        </a:rPr>
                        <a:t>5.5×10</a:t>
                      </a:r>
                      <a:r>
                        <a:rPr b="0" lang="en-US" sz="1800" spc="-1" strike="noStrike" baseline="30000">
                          <a:solidFill>
                            <a:srgbClr val="1d1d57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d57"/>
                          </a:solidFill>
                          <a:latin typeface="Times New Roman"/>
                        </a:rPr>
                        <a:t>0.41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d57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d57"/>
                          </a:solidFill>
                          <a:latin typeface="Times New Roman"/>
                        </a:rPr>
                        <a:t>6.2×10</a:t>
                      </a:r>
                      <a:r>
                        <a:rPr b="0" lang="en-US" sz="1800" spc="-1" strike="noStrike" baseline="30000">
                          <a:solidFill>
                            <a:srgbClr val="1d1d57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d57"/>
                          </a:solidFill>
                          <a:latin typeface="Times New Roman"/>
                        </a:rPr>
                        <a:t>0.51</a:t>
                      </a:r>
                      <a:endParaRPr b="0" lang="en-US" sz="1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del of Rigid-body coupled with flexible modes</a:t>
            </a:r>
            <a:endParaRPr b="0" lang="en-US" sz="28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Linear state space model for attitude control with state variables    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95280" y="2805120"/>
                <a:ext cx="7467840" cy="31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6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7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98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6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3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49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5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5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1</m:t>
                                      </m:r>
                                    </m:e>
                                    <m:e>
                                      <m:r>
                                        <m:t xml:space="preserve">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3</m:t>
                                          </m:r>
                                        </m:sup>
                                      </m:sSup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4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5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6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5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9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6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4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9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4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5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7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6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7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4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4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3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6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3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8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49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6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6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5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4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3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  <m:r>
                                        <m:t xml:space="preserve">×</m:t>
                                      </m:r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3</m:t>
                                          </m:r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6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62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b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</m:sub>
                        </m:sSub>
                        <m:m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>
                              <m:r>
                                <m:t xml:space="preserve">B</m:t>
                              </m:r>
                              <m:r>
                                <m:t xml:space="preserve">=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9</m:t>
                                        </m:r>
                                        <m:r>
                                          <m:t xml:space="preserve">×</m:t>
                                        </m:r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39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27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</m:m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843280" y="2254320"/>
                <a:ext cx="27367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</m:acc>
                                </m:e>
                                <m:e>
                                  <m:r>
                                    <m:t xml:space="preserve">α</m:t>
                                  </m:r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e>
                                  <m:r>
                                    <m:t xml:space="preserve">δ</m:t>
                                  </m:r>
                                </m:e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×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×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obust Control Strategy for Attitude Control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Unneglectable effects of flexible modes on rigid body require robust control strategy to maintain the optimal attitude angle of Solar Sail.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Controller design technique: Robust H</a:t>
            </a:r>
            <a:r>
              <a:rPr b="0" lang="en-US" sz="3200" spc="-1" strike="noStrike" baseline="-10000">
                <a:solidFill>
                  <a:srgbClr val="1d1d57"/>
                </a:solidFill>
                <a:latin typeface="Times New Roman"/>
              </a:rPr>
              <a:t>∞ </a:t>
            </a: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control.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General description:</a:t>
            </a:r>
            <a:r>
              <a:rPr b="0" lang="en-US" sz="3200" spc="-1" strike="noStrike">
                <a:solidFill>
                  <a:srgbClr val="1d1d5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Minimize the cost: ||T</a:t>
            </a:r>
            <a:r>
              <a:rPr b="0" lang="en-US" sz="2400" spc="-1" strike="noStrike" baseline="-25000">
                <a:solidFill>
                  <a:srgbClr val="1d1d57"/>
                </a:solidFill>
                <a:latin typeface="Times New Roman"/>
              </a:rPr>
              <a:t>wz</a:t>
            </a: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||</a:t>
            </a:r>
            <a:r>
              <a:rPr b="0" lang="en-US" sz="2400" spc="-1" strike="noStrike" baseline="-20000">
                <a:solidFill>
                  <a:srgbClr val="1d1d57"/>
                </a:solidFill>
                <a:latin typeface="Times New Roman"/>
              </a:rPr>
              <a:t>∞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991040" y="3514680"/>
            <a:ext cx="2806920" cy="2133720"/>
            <a:chOff x="4991040" y="3514680"/>
            <a:chExt cx="2806920" cy="2133720"/>
          </a:xfrm>
        </p:grpSpPr>
        <p:sp>
          <p:nvSpPr>
            <p:cNvPr id="133" name=""/>
            <p:cNvSpPr/>
            <p:nvPr/>
          </p:nvSpPr>
          <p:spPr>
            <a:xfrm>
              <a:off x="6934320" y="3990960"/>
              <a:ext cx="8636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991040" y="3514680"/>
              <a:ext cx="2611440" cy="2133720"/>
              <a:chOff x="4991040" y="3514680"/>
              <a:chExt cx="2611440" cy="2133720"/>
            </a:xfrm>
          </p:grpSpPr>
          <p:sp>
            <p:nvSpPr>
              <p:cNvPr id="135" name=""/>
              <p:cNvSpPr/>
              <p:nvPr/>
            </p:nvSpPr>
            <p:spPr>
              <a:xfrm>
                <a:off x="5854680" y="3774960"/>
                <a:ext cx="1079640" cy="720720"/>
              </a:xfrm>
              <a:prstGeom prst="rect">
                <a:avLst/>
              </a:prstGeom>
              <a:noFill/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66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26320" y="5070600"/>
                <a:ext cx="936360" cy="577800"/>
              </a:xfrm>
              <a:prstGeom prst="rect">
                <a:avLst/>
              </a:prstGeom>
              <a:noFill/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66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91040" y="4014720"/>
                <a:ext cx="86364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cxnSp>
            <p:nvCxnSpPr>
              <p:cNvPr id="138" name=""/>
              <p:cNvCxnSpPr>
                <a:stCxn id="135" idx="3"/>
                <a:endCxn id="136" idx="3"/>
              </p:cNvCxnSpPr>
              <p:nvPr/>
            </p:nvCxnSpPr>
            <p:spPr>
              <a:xfrm flipH="1">
                <a:off x="6872040" y="4135320"/>
                <a:ext cx="72000" cy="1224720"/>
              </a:xfrm>
              <a:prstGeom prst="bentConnector3">
                <a:avLst>
                  <a:gd name="adj1" fmla="val -446231"/>
                </a:avLst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9" name=""/>
              <p:cNvCxnSpPr>
                <a:stCxn id="136" idx="1"/>
                <a:endCxn id="135" idx="1"/>
              </p:cNvCxnSpPr>
              <p:nvPr/>
            </p:nvCxnSpPr>
            <p:spPr>
              <a:xfrm rot="10800000">
                <a:off x="5844600" y="4134600"/>
                <a:ext cx="72000" cy="1224720"/>
              </a:xfrm>
              <a:prstGeom prst="bentConnector3">
                <a:avLst>
                  <a:gd name="adj1" fmla="val 575376"/>
                </a:avLst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140" name=""/>
              <p:cNvSpPr/>
              <p:nvPr/>
            </p:nvSpPr>
            <p:spPr>
              <a:xfrm>
                <a:off x="5070960" y="35146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66"/>
                    </a:solidFill>
                    <a:latin typeface="Times New Roman"/>
                  </a:rPr>
                  <a:t>w</a:t>
                </a:r>
                <a:endParaRPr b="0" lang="en-US" sz="2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64800" y="35146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66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49800" y="4495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7264440" y="449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Overall control system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8960" y="4896000"/>
            <a:ext cx="746748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Aft>
                <a:spcPts val="550"/>
              </a:spcAft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d1d57"/>
                </a:solidFill>
                <a:latin typeface="Times New Roman"/>
              </a:rPr>
              <a:t>We and Wu are weighting functions in order to penalize the error signal, and control signal respectively.</a:t>
            </a:r>
            <a:endParaRPr b="0" lang="en-US" sz="22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d1d57"/>
                </a:solidFill>
                <a:latin typeface="Times New Roman"/>
              </a:rPr>
              <a:t>We</a:t>
            </a:r>
            <a:r>
              <a:rPr b="0" lang="zh-CN" sz="2200" spc="-1" strike="noStrike" baseline="-25000">
                <a:solidFill>
                  <a:srgbClr val="1d1d57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1d1d57"/>
                </a:solidFill>
                <a:latin typeface="Times New Roman"/>
              </a:rPr>
              <a:t>=50</a:t>
            </a:r>
            <a:r>
              <a:rPr b="0" lang="en-US" sz="2200" spc="-1" strike="noStrike">
                <a:solidFill>
                  <a:srgbClr val="1d1d57"/>
                </a:solidFill>
                <a:latin typeface="Arial"/>
              </a:rPr>
              <a:t>×</a:t>
            </a:r>
            <a:r>
              <a:rPr b="0" lang="zh-CN" sz="2200" spc="-1" strike="noStrike">
                <a:solidFill>
                  <a:srgbClr val="1d1d57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1d1d57"/>
                </a:solidFill>
                <a:latin typeface="Times New Roman"/>
              </a:rPr>
              <a:t>(s+5)/(s+0.01), We</a:t>
            </a:r>
            <a:r>
              <a:rPr b="0" lang="zh-CN" sz="2200" spc="-1" strike="noStrike" baseline="-25000">
                <a:solidFill>
                  <a:srgbClr val="1d1d57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1d1d57"/>
                </a:solidFill>
                <a:latin typeface="Times New Roman"/>
              </a:rPr>
              <a:t>=15, We</a:t>
            </a:r>
            <a:r>
              <a:rPr b="0" lang="zh-CN" sz="2200" spc="-1" strike="noStrike" baseline="-25000">
                <a:solidFill>
                  <a:srgbClr val="1d1d57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1d1d57"/>
                </a:solidFill>
                <a:latin typeface="Times New Roman"/>
              </a:rPr>
              <a:t>=10 and Wu=0.01.</a:t>
            </a:r>
            <a:endParaRPr b="0" lang="en-US" sz="2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0080" y="1413000"/>
            <a:ext cx="583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76520" y="1541520"/>
            <a:ext cx="6873840" cy="3402360"/>
            <a:chOff x="1676520" y="1541520"/>
            <a:chExt cx="6873840" cy="3402360"/>
          </a:xfrm>
        </p:grpSpPr>
        <p:sp>
          <p:nvSpPr>
            <p:cNvPr id="148" name=""/>
            <p:cNvSpPr/>
            <p:nvPr/>
          </p:nvSpPr>
          <p:spPr>
            <a:xfrm>
              <a:off x="1787040" y="4514760"/>
              <a:ext cx="6180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1d1d57"/>
                  </a:solidFill>
                  <a:latin typeface="Times New Roman"/>
                </a:rPr>
                <a:t>Control system designed by H∞ Control technique</a:t>
              </a:r>
              <a:endParaRPr b="0" lang="en-US" sz="22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676520" y="1541520"/>
              <a:ext cx="6873840" cy="3039840"/>
              <a:chOff x="1676520" y="1541520"/>
              <a:chExt cx="6873840" cy="303984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9360" y="3860640"/>
                <a:ext cx="584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e</a:t>
                </a:r>
                <a:r>
                  <a:rPr b="0" lang="en-US" sz="1800" spc="-1" strike="noStrike" baseline="-25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59360" y="3611520"/>
                <a:ext cx="584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e</a:t>
                </a:r>
                <a:r>
                  <a:rPr b="0" lang="en-US" sz="1800" spc="-1" strike="noStrike" baseline="-25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676520" y="2532240"/>
                <a:ext cx="5331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09680" y="2452680"/>
                <a:ext cx="193680" cy="193680"/>
              </a:xfrm>
              <a:prstGeom prst="flowChartSummingJunction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403360" y="2532240"/>
                <a:ext cx="1177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581280" y="2565360"/>
                <a:ext cx="0" cy="1114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81280" y="3679920"/>
                <a:ext cx="27194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300720" y="3679920"/>
                <a:ext cx="0" cy="2984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5943600" y="3963960"/>
                <a:ext cx="3571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76920" y="3789360"/>
                <a:ext cx="1066680" cy="792000"/>
              </a:xfrm>
              <a:prstGeom prst="rect">
                <a:avLst/>
              </a:prstGeom>
              <a:noFill/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Controller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1752120" y="4137120"/>
                <a:ext cx="31244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752480" y="3065040"/>
                <a:ext cx="0" cy="1071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52480" y="3060720"/>
                <a:ext cx="23623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4114800" y="2531880"/>
                <a:ext cx="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114800" y="2595600"/>
                <a:ext cx="6732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788000" y="2367000"/>
                <a:ext cx="1231920" cy="976320"/>
              </a:xfrm>
              <a:prstGeom prst="flowChartProcess">
                <a:avLst/>
              </a:prstGeom>
              <a:noFill/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Plant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3581280" y="1769760"/>
                <a:ext cx="0" cy="7621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581280" y="1770120"/>
                <a:ext cx="19051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114800" y="2150640"/>
                <a:ext cx="0" cy="3812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14800" y="2151000"/>
                <a:ext cx="13716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248520" y="3222720"/>
                <a:ext cx="0" cy="2062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285640" y="3429000"/>
                <a:ext cx="3962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298600" y="2633400"/>
                <a:ext cx="0" cy="795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9920" y="3222720"/>
                <a:ext cx="2286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35280" y="2151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876920" y="184644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u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93160" y="1731960"/>
                <a:ext cx="152280" cy="119376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30960 h 1193760"/>
                  <a:gd name="textAreaBottom" fmla="*/ 1162800 h 119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45440" y="2136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z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770520" y="2327400"/>
                <a:ext cx="609840" cy="380880"/>
              </a:xfrm>
              <a:prstGeom prst="flowChartProcess">
                <a:avLst/>
              </a:prstGeom>
              <a:noFill/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We</a:t>
                </a:r>
                <a:r>
                  <a:rPr b="0" lang="en-US" sz="1800" spc="-1" strike="noStrike" baseline="-25000">
                    <a:solidFill>
                      <a:srgbClr val="3333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486400" y="1955880"/>
                <a:ext cx="609480" cy="380880"/>
              </a:xfrm>
              <a:prstGeom prst="flowChartProcess">
                <a:avLst/>
              </a:prstGeom>
              <a:noFill/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Wu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95880" y="1755720"/>
                <a:ext cx="18478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05600" y="2165400"/>
                <a:ext cx="18381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19920" y="2532240"/>
                <a:ext cx="7506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19920" y="2925720"/>
                <a:ext cx="423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43640" y="2925720"/>
                <a:ext cx="0" cy="12952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88000" y="2517840"/>
                <a:ext cx="0" cy="1990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943240" y="4221000"/>
                <a:ext cx="5000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5940000" y="4508640"/>
                <a:ext cx="647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0360" y="2494080"/>
                <a:ext cx="5634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80360" y="2925720"/>
                <a:ext cx="5634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0520" y="2760840"/>
                <a:ext cx="609840" cy="380880"/>
              </a:xfrm>
              <a:prstGeom prst="flowChartProcess">
                <a:avLst/>
              </a:prstGeom>
              <a:noFill/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We</a:t>
                </a:r>
                <a:r>
                  <a:rPr b="0" lang="en-US" sz="1800" spc="-1" strike="noStrike" baseline="-25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443640" y="2925720"/>
                <a:ext cx="3268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95760" y="1541520"/>
                <a:ext cx="609840" cy="380880"/>
              </a:xfrm>
              <a:prstGeom prst="flowChartProcess">
                <a:avLst/>
              </a:prstGeom>
              <a:noFill/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We</a:t>
                </a:r>
                <a:r>
                  <a:rPr b="0" lang="en-US" sz="1800" spc="-1" strike="noStrike" baseline="-25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38480" y="246852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67280" y="4141800"/>
                <a:ext cx="584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ff"/>
                    </a:solidFill>
                    <a:latin typeface="Times New Roman"/>
                  </a:rPr>
                  <a:t>e</a:t>
                </a:r>
                <a:r>
                  <a:rPr b="0" lang="en-US" sz="1800" spc="-1" strike="noStrike" baseline="-25000">
                    <a:solidFill>
                      <a:srgbClr val="3333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40240" y="2492280"/>
                <a:ext cx="82440" cy="8280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02240" y="2873520"/>
                <a:ext cx="82800" cy="824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46960" y="2482920"/>
                <a:ext cx="82440" cy="824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67280" y="2554200"/>
                <a:ext cx="82440" cy="8280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43280" y="3290760"/>
            <a:ext cx="3816360" cy="2955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Controller Design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391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Controller designed by Robust H</a:t>
            </a:r>
            <a:r>
              <a:rPr b="0" lang="en-US" sz="2400" spc="-1" strike="noStrike" baseline="-10000">
                <a:solidFill>
                  <a:srgbClr val="1d1d57"/>
                </a:solidFill>
                <a:latin typeface="Times New Roman"/>
              </a:rPr>
              <a:t>∞ </a:t>
            </a: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control</a:t>
            </a:r>
            <a:r>
              <a:rPr b="0" lang="en-US" sz="2400" spc="-1" strike="noStrike" baseline="-10000">
                <a:solidFill>
                  <a:srgbClr val="1d1d57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technique as follows: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2360" y="1916280"/>
                <a:ext cx="87123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7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48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+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+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+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+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+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+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+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+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+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4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4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4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00"/>
                            </p:stCondLst>
                            <p:childTnLst>
                              <p:par>
                                <p:cTn id="2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4427640" y="2492280"/>
            <a:ext cx="3671640" cy="3567600"/>
            <a:chOff x="4427640" y="2492280"/>
            <a:chExt cx="3671640" cy="356760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4427640" y="2492280"/>
              <a:ext cx="3671640" cy="30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815800" y="566100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Figure 2</a:t>
              </a:r>
              <a:endParaRPr b="0" lang="en-US" sz="20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40068"/>
                </a:solidFill>
                <a:latin typeface="Times New Roman"/>
              </a:rPr>
              <a:t>Simulation results</a:t>
            </a:r>
            <a:r>
              <a:rPr b="0" lang="zh-CN" sz="3200" spc="-1" strike="noStrike">
                <a:solidFill>
                  <a:srgbClr val="340068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340068"/>
                </a:solidFill>
                <a:latin typeface="Times New Roman"/>
              </a:rPr>
              <a:t>Optimal Pitch Angle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Control Object: Robustly and Asymptotically Tracking Optimal Pitch Angel 35°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174680" y="2827440"/>
            <a:ext cx="3110040" cy="3232440"/>
            <a:chOff x="1174680" y="2827440"/>
            <a:chExt cx="3110040" cy="323244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1174680" y="2827440"/>
              <a:ext cx="311004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365920" y="566100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Figure 1</a:t>
              </a:r>
              <a:endParaRPr b="0" lang="en-US" sz="20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19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40068"/>
                </a:solidFill>
                <a:latin typeface="Times New Roman"/>
              </a:rPr>
              <a:t>Simulation results</a:t>
            </a:r>
            <a:r>
              <a:rPr b="0" lang="zh-CN" sz="2800" spc="-1" strike="noStrike">
                <a:solidFill>
                  <a:srgbClr val="340068"/>
                </a:solidFill>
                <a:latin typeface="Times New Roman"/>
              </a:rPr>
              <a:t>－ </a:t>
            </a:r>
            <a:r>
              <a:rPr b="0" lang="zh-CN" sz="2800" spc="-1" strike="noStrike">
                <a:solidFill>
                  <a:srgbClr val="340068"/>
                </a:solidFill>
                <a:latin typeface="Times New Roman"/>
              </a:rPr>
              <a:t>Responses of Flexible modes</a:t>
            </a:r>
            <a:endParaRPr b="0" lang="en-US" sz="28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31640" y="4869000"/>
            <a:ext cx="76834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1d57"/>
                </a:solidFill>
                <a:latin typeface="Times New Roman"/>
              </a:rPr>
              <a:t>With robust control strategy, responses of flexible modes are stable ultimately with steady values approach zero.</a:t>
            </a:r>
            <a:endParaRPr b="0" lang="en-US" sz="2200" spc="-1" strike="noStrike">
              <a:solidFill>
                <a:srgbClr val="1d1d57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1608120"/>
            <a:ext cx="3975120" cy="3116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643280" y="1521000"/>
            <a:ext cx="4104000" cy="320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40068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Impacts of vibrations of flexible modes on solar sail are lasting and severe.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It’s essential to suppress the vibrations due to flexible modes.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Effectiveness and practicality of a robust control law are demonstrated.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Piezoelectricity film sensors are selected to accomplish the measurements of flexible vibrations, as a result of their low consumption of electric power and their compatibility with the sail.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40068"/>
                </a:solidFill>
                <a:latin typeface="Times New Roman"/>
              </a:rPr>
              <a:t>Next work</a:t>
            </a: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1d57"/>
                </a:solidFill>
                <a:latin typeface="Times New Roman"/>
              </a:rPr>
              <a:t>On account of more flexible modes, combination of various control techniques is to be considered to maintain the attitude angle accurate and to suppress vibrations.</a:t>
            </a:r>
            <a:r>
              <a:rPr b="0" lang="en-US" sz="2200" spc="-1" strike="noStrike">
                <a:solidFill>
                  <a:srgbClr val="1d1d5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1d57"/>
                </a:solidFill>
                <a:latin typeface="Times New Roman"/>
              </a:rPr>
              <a:t>More research work on attitude control of solar sail can be done in the presence of disturbances such as solar pressure torque and gravity-gradient torque effects. </a:t>
            </a:r>
            <a:endParaRPr b="0" lang="en-US" sz="22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1d57"/>
                </a:solidFill>
                <a:latin typeface="Times New Roman"/>
              </a:rPr>
              <a:t>A complete three-axis simulation validation of a robust control strategy needs to be performed.</a:t>
            </a:r>
            <a:endParaRPr b="0" lang="en-US" sz="2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700280"/>
            <a:ext cx="7467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ef introduction on our research group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roduction on dynamic models for attitude control of Solar Sail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neral rigid model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essential characteristic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r work on modeling and attitude control of Solar Sail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igid body coupled with flexible modes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obust Control Strategy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clusions and Next work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4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4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4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2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2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20"/>
                            </p:stCondLst>
                            <p:childTnLst>
                              <p:par>
                                <p:cTn id="2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220"/>
                            </p:stCondLst>
                            <p:childTnLst>
                              <p:par>
                                <p:cTn id="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22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72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40068"/>
                </a:solidFill>
                <a:latin typeface="Times New Roman"/>
              </a:rPr>
              <a:t>Reference </a:t>
            </a: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8960" y="1628280"/>
            <a:ext cx="7467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d1d57"/>
                </a:solidFill>
                <a:latin typeface="Times New Roman"/>
              </a:rPr>
              <a:t>[1]</a:t>
            </a:r>
            <a:r>
              <a:rPr b="0" i="1" lang="zh-CN" sz="1700" spc="-1" strike="noStrike">
                <a:solidFill>
                  <a:srgbClr val="1d1d57"/>
                </a:solidFill>
                <a:latin typeface="Times New Roman"/>
              </a:rPr>
              <a:t> Bong Wie, Solar Sail Attitude Control and Dynamics, Part II. Journal of Guidance, Control, and Dynamics. Vol. 27, No.4, 2004: 536—544.</a:t>
            </a:r>
            <a:endParaRPr b="0" lang="en-US" sz="17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d1d57"/>
                </a:solidFill>
                <a:latin typeface="Times New Roman"/>
              </a:rPr>
              <a:t>[2]</a:t>
            </a:r>
            <a:r>
              <a:rPr b="0" i="1" lang="zh-CN" sz="1700" spc="-1" strike="noStrike">
                <a:solidFill>
                  <a:srgbClr val="1d1d57"/>
                </a:solidFill>
                <a:latin typeface="Times New Roman"/>
              </a:rPr>
              <a:t> Bong Wie, Solar Sail Attitude Control and Dynamics, Part I. Journal of Guidance, Control, and Dynamics. Vol. 27, No.4, 2004: 526—535.</a:t>
            </a:r>
            <a:endParaRPr b="0" lang="en-US" sz="17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d1d57"/>
                </a:solidFill>
                <a:latin typeface="Times New Roman"/>
              </a:rPr>
              <a:t>[3]</a:t>
            </a:r>
            <a:r>
              <a:rPr b="0" i="1" lang="zh-CN" sz="1700" spc="-1" strike="noStrike">
                <a:solidFill>
                  <a:srgbClr val="1d1d57"/>
                </a:solidFill>
                <a:latin typeface="Times New Roman"/>
              </a:rPr>
              <a:t> Michele Basso and Max Rotunno, Robust Attitude Orbit Control for Large Flimsy Appendages, proceedings of the 43rd IEEE Conference on Decision and Control, Bahamas, 2004: 278—283.</a:t>
            </a:r>
            <a:endParaRPr b="0" lang="en-US" sz="17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d1d57"/>
                </a:solidFill>
                <a:latin typeface="Times New Roman"/>
              </a:rPr>
              <a:t>[4]</a:t>
            </a:r>
            <a:r>
              <a:rPr b="0" i="1" lang="zh-CN" sz="1700" spc="-1" strike="noStrike">
                <a:solidFill>
                  <a:srgbClr val="1d1d57"/>
                </a:solidFill>
                <a:latin typeface="Times New Roman"/>
              </a:rPr>
              <a:t> Ping Guan, Xiang-Jie Liu, Ji-Zhen Liu, Adaptive fuzzy sliding mode control for flexible satellite, Engineering Applications of Artificial Intelligence 18 (2005) 451–459.</a:t>
            </a:r>
            <a:endParaRPr b="0" lang="en-US" sz="17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d1d57"/>
                </a:solidFill>
                <a:latin typeface="Times New Roman"/>
              </a:rPr>
              <a:t>[5]</a:t>
            </a:r>
            <a:r>
              <a:rPr b="0" i="1" lang="zh-CN" sz="1700" spc="-1" strike="noStrike">
                <a:solidFill>
                  <a:srgbClr val="1d1d57"/>
                </a:solidFill>
                <a:latin typeface="Times New Roman"/>
              </a:rPr>
              <a:t> Ren-Wei Zhang, Attitude dynamics and control of satellite orbiting, Beijing University of Aeronautics and Astronautics Publishing Company, 1998, Chapter 9(in Chinese).   </a:t>
            </a:r>
            <a:endParaRPr b="0" lang="en-US" sz="17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24000" y="1916280"/>
            <a:ext cx="53276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6600cc"/>
                  </a:solidFill>
                  <a:miter/>
                </a:ln>
                <a:solidFill>
                  <a:srgbClr val="3333ff">
                    <a:alpha val="50000"/>
                  </a:srgbClr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Thanks!</a:t>
            </a:r>
            <a:endParaRPr b="1" i="1" lang="en-US" sz="2400" spc="1" strike="noStrike">
              <a:ln w="12600">
                <a:solidFill>
                  <a:srgbClr val="6600cc"/>
                </a:solidFill>
                <a:miter/>
              </a:ln>
              <a:solidFill>
                <a:srgbClr val="3333ff">
                  <a:alpha val="50000"/>
                </a:srgbClr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6600cc"/>
                  </a:solidFill>
                  <a:miter/>
                </a:ln>
                <a:solidFill>
                  <a:srgbClr val="3333ff">
                    <a:alpha val="50000"/>
                  </a:srgbClr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elcome your questions</a:t>
            </a:r>
            <a:endParaRPr b="1" i="1" lang="en-US" sz="2400" spc="1" strike="noStrike">
              <a:ln w="12600">
                <a:solidFill>
                  <a:srgbClr val="6600cc"/>
                </a:solidFill>
                <a:miter/>
              </a:ln>
              <a:solidFill>
                <a:srgbClr val="3333ff">
                  <a:alpha val="50000"/>
                </a:srgbClr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40068"/>
                </a:solidFill>
                <a:latin typeface="Times New Roman"/>
              </a:rPr>
              <a:t>Introduction of Our Research Group</a:t>
            </a:r>
            <a:br>
              <a:rPr sz="3200"/>
            </a:br>
            <a:r>
              <a:rPr b="0" lang="zh-CN" sz="3200" spc="-1" strike="noStrike">
                <a:solidFill>
                  <a:srgbClr val="340068"/>
                </a:solidFill>
                <a:latin typeface="Times New Roman"/>
              </a:rPr>
              <a:t>    </a:t>
            </a:r>
            <a:r>
              <a:rPr b="0" lang="zh-CN" sz="3200" spc="-1" strike="noStrike" baseline="-5000">
                <a:solidFill>
                  <a:srgbClr val="340068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340068"/>
                </a:solidFill>
                <a:latin typeface="Times New Roman"/>
              </a:rPr>
              <a:t>Laboratory of Vibration Control and Vehicle Control</a:t>
            </a:r>
            <a:r>
              <a:rPr b="0" lang="zh-CN" sz="3600" spc="-1" strike="noStrike">
                <a:solidFill>
                  <a:srgbClr val="34006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d57"/>
                </a:solidFill>
                <a:latin typeface="Times New Roman"/>
              </a:rPr>
              <a:t>Research Directions:</a:t>
            </a:r>
            <a:endParaRPr b="0" lang="en-US" sz="2800" spc="-1" strike="noStrike">
              <a:solidFill>
                <a:srgbClr val="1d1d5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Navigation, Guidance and Control of Aerocrafts</a:t>
            </a:r>
            <a:endParaRPr b="0" lang="en-US" sz="2400" spc="-1" strike="noStrike">
              <a:solidFill>
                <a:srgbClr val="1d1d57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1c3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Active Vibration Control of flexible structures</a:t>
            </a:r>
            <a:endParaRPr b="0" lang="en-US" sz="2400" spc="-1" strike="noStrike">
              <a:solidFill>
                <a:srgbClr val="1d1d5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346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d57"/>
                </a:solidFill>
                <a:latin typeface="Times New Roman"/>
              </a:rPr>
              <a:t>Solar Sail Research Group –cooperating with Pro. Huang Wen-hao</a:t>
            </a:r>
            <a:endParaRPr b="0" lang="en-US" sz="2800" spc="-1" strike="noStrike">
              <a:solidFill>
                <a:srgbClr val="1d1d5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Research on: Deployment Control and Attitude Control of Solar Sail</a:t>
            </a:r>
            <a:endParaRPr b="0" lang="en-US" sz="2400" spc="-1" strike="noStrike">
              <a:solidFill>
                <a:srgbClr val="1d1d5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Two types of configurations of Solar Sails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10920" y="5084640"/>
            <a:ext cx="53247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The configuration is proposed by 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NASA In-Space Propulsion office (ISP).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43280" y="1665360"/>
            <a:ext cx="420048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Two types of configurations of Solar Sails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11280" y="5213520"/>
            <a:ext cx="56167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The configuration is proposed by 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German Aerospace Center (DLR).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3600360" cy="3781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General Rigid Model of Solar Sail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28640"/>
            <a:ext cx="7385040" cy="43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Based on the latter configuration presented by DLR, Professor Bong Wie formulated rigid dynamic model of Solar Sail </a:t>
            </a:r>
            <a:r>
              <a:rPr b="0" lang="zh-CN" sz="2400" spc="-1" strike="noStrike" baseline="30000">
                <a:solidFill>
                  <a:srgbClr val="1d1d57"/>
                </a:solidFill>
                <a:latin typeface="Times New Roman"/>
              </a:rPr>
              <a:t>[1]</a:t>
            </a: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Linear state space model for control design: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Overall control system is named Gimbaled Thruster Vector Control (TVC) system. 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495440" y="3213000"/>
            <a:ext cx="7267680" cy="1598400"/>
            <a:chOff x="1495440" y="3213000"/>
            <a:chExt cx="7267680" cy="159840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495440" y="3213000"/>
                  <a:ext cx="4886280" cy="15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0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8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316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3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70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6459480" y="3213000"/>
                  <a:ext cx="2303640" cy="15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6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34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4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4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4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Main Characteristics of Solar Sails 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628280"/>
            <a:ext cx="7467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d57"/>
                </a:solidFill>
                <a:latin typeface="Times New Roman"/>
              </a:rPr>
              <a:t>Large Size and Extreme Flexibility </a:t>
            </a:r>
            <a:endParaRPr b="0" lang="en-US" sz="26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d57"/>
                </a:solidFill>
                <a:latin typeface="Times New Roman"/>
              </a:rPr>
              <a:t>Data from New Millennium Program Space Technology 7 (NMP ST7 ) proposed by JPL:</a:t>
            </a:r>
            <a:endParaRPr b="0" lang="en-US" sz="2600" spc="-1" strike="noStrike">
              <a:solidFill>
                <a:srgbClr val="1d1d5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Sail area          1400 m</a:t>
            </a:r>
            <a:r>
              <a:rPr b="0" lang="zh-CN" sz="2400" spc="-1" strike="noStrike" baseline="30000">
                <a:solidFill>
                  <a:srgbClr val="1d1d57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1d1d57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1c3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Areal density   0.111 kg/m</a:t>
            </a:r>
            <a:r>
              <a:rPr b="0" lang="zh-CN" sz="2400" spc="-1" strike="noStrike" baseline="30000">
                <a:solidFill>
                  <a:srgbClr val="1d1d5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57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1c3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Sail film thickness 7.5 microns     </a:t>
            </a:r>
            <a:endParaRPr b="0" lang="en-US" sz="2400" spc="-1" strike="noStrike">
              <a:solidFill>
                <a:srgbClr val="1d1d5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4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4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4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2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More essential characteristic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1d57"/>
                </a:solidFill>
                <a:latin typeface="Times New Roman"/>
              </a:rPr>
              <a:t>Dynamics of solar sail is dominated by the flexible structure.</a:t>
            </a:r>
            <a:endParaRPr b="0" lang="en-US" sz="26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1d57"/>
                </a:solidFill>
                <a:latin typeface="Times New Roman"/>
              </a:rPr>
              <a:t>Vibrations of flexible modes are likely to be excited.  </a:t>
            </a:r>
            <a:endParaRPr b="0" lang="en-US" sz="26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1d57"/>
                </a:solidFill>
                <a:latin typeface="Times New Roman"/>
              </a:rPr>
              <a:t>Extreme flexibility of solar sail has prominently effect on attitude control of solar sail. </a:t>
            </a:r>
            <a:endParaRPr b="0" lang="en-US" sz="26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4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4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4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ur Work on Modeling of Solar Sail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Natural idea: Rigid-body coupled with flexible modes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Realization method: Mixed-coordinates equations-Normalized dynamic equations by combining Euler parameter coordinates with flexible modes coordinates.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General expression: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132000" y="3971880"/>
                <a:ext cx="26640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586520" y="544500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d57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1d1d57"/>
                </a:solidFill>
                <a:latin typeface="Times New Roman"/>
              </a:rPr>
              <a:t>Coupling coefficients</a:t>
            </a:r>
            <a:endParaRPr b="0" lang="en-US" sz="2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15720" y="5445000"/>
            <a:ext cx="37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d57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1d1d57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1d1d57"/>
                </a:solidFill>
                <a:latin typeface="Times New Roman"/>
              </a:rPr>
              <a:t>Flexible modes coordinates</a:t>
            </a:r>
            <a:endParaRPr b="0" lang="en-US" sz="2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655640" y="5010120"/>
            <a:ext cx="2315520" cy="459720"/>
            <a:chOff x="1655640" y="5010120"/>
            <a:chExt cx="2315520" cy="45972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655640" y="5065560"/>
                  <a:ext cx="19044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1943280" y="501012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d1d57"/>
                  </a:solidFill>
                  <a:latin typeface="Times New Roman"/>
                </a:rPr>
                <a:t>－</a:t>
              </a:r>
              <a:r>
                <a:rPr b="0" lang="zh-CN" sz="2200" spc="-1" strike="noStrike">
                  <a:solidFill>
                    <a:srgbClr val="1d1d57"/>
                  </a:solidFill>
                  <a:latin typeface="Times New Roman"/>
                </a:rPr>
                <a:t>Attitude angle</a:t>
              </a:r>
              <a:endParaRPr b="0" lang="en-US" sz="22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4:14:26Z</dcterms:created>
  <dc:creator>zhangyang</dc:creator>
  <dc:description/>
  <dc:language>en-US</dc:language>
  <cp:lastModifiedBy>zhangyang</cp:lastModifiedBy>
  <dcterms:modified xsi:type="dcterms:W3CDTF">2007-06-22T07:36:15Z</dcterms:modified>
  <cp:revision>232</cp:revision>
  <dc:subject/>
  <dc:title>attitude control of solar sail spacecraft based on rigid structure coupled with flexible modes</dc:title>
</cp:coreProperties>
</file>