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95280" y="3887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524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3887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5240" y="3887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9240" y="2971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23560" y="2971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95280" y="3887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9240" y="3887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23560" y="3887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04F-E0BD-4DD0-B223-80B58CE3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69B-5D4C-44FF-819D-02FF80B7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9AC-8C4E-403A-AF96-C33C64AE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5240" y="2971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2C8-A559-4933-ADB5-ECCD45E4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701-9891-4E6C-8B21-4C7DBD2E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90360" y="990720"/>
            <a:ext cx="7086600" cy="77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E55-D118-41FE-8ADC-F92FA37E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5240" y="2971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887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2FF-916A-4E66-AEE9-A8A79653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524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5240" y="3887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57D-2775-435A-936F-723550C1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524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3887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43B-C656-400C-846A-A5007603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95280" y="3887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E2B-48BC-44FF-9AB2-F2ACF2B4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24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95280" y="3887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5240" y="3887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74B-925A-4251-AF5B-09FF34FB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59240" y="2971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23560" y="2971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95280" y="3887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59240" y="3887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23560" y="3887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91F-EC89-4644-B38F-D52A3249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5240" y="2971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990720"/>
            <a:ext cx="7086600" cy="77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5240" y="2971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95280" y="3887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524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5240" y="3887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524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3887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4873680"/>
            <a:ext cx="1204920" cy="17557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8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40068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d5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1c3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d5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64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d5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78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d5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87c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d5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d5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d5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1447920"/>
            <a:ext cx="75438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52600" y="6172200"/>
            <a:ext cx="7740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Haettenschweiler"/>
              </a:rPr>
              <a:t>Solar Sailing Group,</a:t>
            </a:r>
            <a:r>
              <a:rPr b="0" lang="en-US" sz="1600" spc="-1" strike="noStrike">
                <a:solidFill>
                  <a:srgbClr val="ff9900"/>
                </a:solidFill>
                <a:latin typeface="Haettenschweiler"/>
              </a:rPr>
              <a:t>  U</a:t>
            </a:r>
            <a:r>
              <a:rPr b="0" lang="en-US" sz="1600" spc="-1" strike="noStrike">
                <a:solidFill>
                  <a:srgbClr val="000066"/>
                </a:solidFill>
                <a:latin typeface="Haettenschweiler"/>
              </a:rPr>
              <a:t>niversity  of  </a:t>
            </a:r>
            <a:r>
              <a:rPr b="0" lang="en-US" sz="1600" spc="-1" strike="noStrike">
                <a:solidFill>
                  <a:srgbClr val="ff9900"/>
                </a:solidFill>
                <a:latin typeface="Haettenschweiler"/>
              </a:rPr>
              <a:t>S</a:t>
            </a:r>
            <a:r>
              <a:rPr b="0" lang="en-US" sz="1600" spc="-1" strike="noStrike">
                <a:solidFill>
                  <a:srgbClr val="000066"/>
                </a:solidFill>
                <a:latin typeface="Haettenschweiler"/>
              </a:rPr>
              <a:t>cience  and  </a:t>
            </a:r>
            <a:r>
              <a:rPr b="0" lang="en-US" sz="1600" spc="-1" strike="noStrike">
                <a:solidFill>
                  <a:srgbClr val="ff9900"/>
                </a:solidFill>
                <a:latin typeface="Haettenschweiler"/>
              </a:rPr>
              <a:t>T</a:t>
            </a:r>
            <a:r>
              <a:rPr b="0" lang="en-US" sz="1600" spc="-1" strike="noStrike">
                <a:solidFill>
                  <a:srgbClr val="000066"/>
                </a:solidFill>
                <a:latin typeface="Haettenschweiler"/>
              </a:rPr>
              <a:t>echnology  of  </a:t>
            </a:r>
            <a:r>
              <a:rPr b="0" lang="en-US" sz="1600" spc="-1" strike="noStrike">
                <a:solidFill>
                  <a:srgbClr val="ff9900"/>
                </a:solidFill>
                <a:latin typeface="Haettenschweiler"/>
              </a:rPr>
              <a:t>C</a:t>
            </a:r>
            <a:r>
              <a:rPr b="0" lang="en-US" sz="1600" spc="-1" strike="noStrike">
                <a:solidFill>
                  <a:srgbClr val="000066"/>
                </a:solidFill>
                <a:latin typeface="Haettenschweiler"/>
              </a:rPr>
              <a:t>hina</a:t>
            </a:r>
            <a:endParaRPr b="0" lang="en-US" sz="1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840" y="0"/>
            <a:ext cx="9128160" cy="322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e7f6ff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40068"/>
                </a:solidFill>
                <a:latin typeface="Arial"/>
              </a:rPr>
              <a:t>orbit</a:t>
            </a:r>
            <a:endParaRPr b="0" lang="en-US" sz="15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292960" y="6172200"/>
            <a:ext cx="470160" cy="48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563868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63868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887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006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838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b2b8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b2b8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2763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b2b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b2b8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6705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b2b8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55B4-AFF8-412F-AED6-67E5B7DAB464}" type="slidenum">
              <a:rPr b="0" lang="zh-CN" sz="1400" spc="-1" strike="noStrike">
                <a:solidFill>
                  <a:srgbClr val="2b2b8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23840" y="2743200"/>
            <a:ext cx="70866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5791320"/>
            <a:ext cx="4876920" cy="75960"/>
          </a:xfrm>
          <a:prstGeom prst="rect">
            <a:avLst/>
          </a:prstGeom>
          <a:solidFill>
            <a:srgbClr val="e7f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Haettenschweiler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Haettenschweiler"/>
              </a:rPr>
              <a:t>niversity    of    </a:t>
            </a:r>
            <a:r>
              <a:rPr b="0" lang="en-US" sz="2800" spc="-1" strike="noStrike">
                <a:solidFill>
                  <a:srgbClr val="ff9900"/>
                </a:solidFill>
                <a:latin typeface="Haettenschweiler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Haettenschweiler"/>
              </a:rPr>
              <a:t>cience    and    </a:t>
            </a:r>
            <a:r>
              <a:rPr b="0" lang="en-US" sz="2800" spc="-1" strike="noStrike">
                <a:solidFill>
                  <a:srgbClr val="ff9900"/>
                </a:solidFill>
                <a:latin typeface="Haettenschweiler"/>
              </a:rPr>
              <a:t>T</a:t>
            </a:r>
            <a:r>
              <a:rPr b="0" lang="en-US" sz="2000" spc="-1" strike="noStrike">
                <a:solidFill>
                  <a:srgbClr val="000066"/>
                </a:solidFill>
                <a:latin typeface="Haettenschweiler"/>
              </a:rPr>
              <a:t>echnology    of    </a:t>
            </a:r>
            <a:r>
              <a:rPr b="0" lang="en-US" sz="2800" spc="-1" strike="noStrike">
                <a:solidFill>
                  <a:srgbClr val="ff9900"/>
                </a:solidFill>
                <a:latin typeface="Haettenschweiler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Haettenschweiler"/>
              </a:rPr>
              <a:t>hina</a:t>
            </a:r>
            <a:endParaRPr b="0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d5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d57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1d1d57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4c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1d1d57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78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d57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d1d57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7c3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d57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d1d57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d57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d1d57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d57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d1d5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Venus Rendezvous Mission Analysis for  Non-perfect Reflecting Solar Sailcraft 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and Moderate Sail Performance</a:t>
            </a:r>
            <a:endParaRPr b="0" lang="en-US" sz="28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Chuncheng Wang, Wenhao Huang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(Solar Sailing Group, USTC )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0068"/>
                </a:solidFill>
                <a:latin typeface="Times New Roman"/>
              </a:rPr>
              <a:t>Equilibrium temperature of the sail film during </a:t>
            </a:r>
            <a:br>
              <a:rPr sz="2400"/>
            </a:br>
            <a:r>
              <a:rPr b="0" lang="zh-CN" sz="2400" spc="-1" strike="noStrike">
                <a:solidFill>
                  <a:srgbClr val="340068"/>
                </a:solidFill>
                <a:latin typeface="Times New Roman"/>
              </a:rPr>
              <a:t>Earth</a:t>
            </a:r>
            <a:r>
              <a:rPr b="0" lang="zh-CN" sz="2400" spc="-1" strike="noStrike">
                <a:solidFill>
                  <a:srgbClr val="340068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340068"/>
                </a:solidFill>
                <a:latin typeface="Times New Roman"/>
              </a:rPr>
              <a:t>Venus mission</a:t>
            </a:r>
            <a:endParaRPr b="0" lang="en-US" sz="2400" spc="-1" strike="noStrike">
              <a:solidFill>
                <a:srgbClr val="340068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337440" cy="4435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0068"/>
                </a:solidFill>
                <a:latin typeface="Times New Roman"/>
              </a:rPr>
              <a:t>Constraints to solar sail film design</a:t>
            </a:r>
            <a:endParaRPr b="0" lang="en-US" sz="28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Arial"/>
              </a:rPr>
              <a:t>Solar sail film suffers multiple sharp temperature gradient </a:t>
            </a:r>
            <a:r>
              <a:rPr b="0" lang="en-US" sz="2400" spc="-1" strike="noStrike">
                <a:solidFill>
                  <a:srgbClr val="1d1d57"/>
                </a:solidFill>
                <a:latin typeface="Arial"/>
                <a:ea typeface="Arial"/>
              </a:rPr>
              <a:t>→challenge the sail film not to degrade significantly on the mechanical and optical performance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57"/>
                </a:solidFill>
                <a:latin typeface="Arial"/>
                <a:ea typeface="Arial"/>
              </a:rPr>
              <a:t>Ground experiment on sail film: should simulate the frequent </a:t>
            </a:r>
            <a:r>
              <a:rPr b="0" lang="en-US" sz="2400" spc="-1" strike="noStrike">
                <a:solidFill>
                  <a:srgbClr val="1d1d57"/>
                </a:solidFill>
                <a:latin typeface="Arial"/>
              </a:rPr>
              <a:t>steep temperature gradient above during the flight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0068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d57"/>
                </a:solidFill>
                <a:latin typeface="Arial"/>
              </a:rPr>
              <a:t>Moderate performance solar sail can work effectively in interplanetary missions</a:t>
            </a:r>
            <a:endParaRPr b="0" lang="en-US" sz="28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d57"/>
                </a:solidFill>
                <a:latin typeface="Arial"/>
              </a:rPr>
              <a:t>Attitude control system of the sailcraft should execute instantaneous action daily </a:t>
            </a:r>
            <a:endParaRPr b="0" lang="en-US" sz="28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d57"/>
                </a:solidFill>
                <a:latin typeface="Arial"/>
              </a:rPr>
              <a:t>Temperature gradient of solar sail should be included in ground experiment of sail film</a:t>
            </a:r>
            <a:endParaRPr b="0" lang="en-US" sz="28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0068"/>
                </a:solidFill>
                <a:latin typeface="Times New Roman"/>
              </a:rPr>
              <a:t>Further Work</a:t>
            </a:r>
            <a:endParaRPr b="0" lang="en-US" sz="32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d57"/>
                </a:solidFill>
                <a:latin typeface="Arial"/>
              </a:rPr>
              <a:t>We will improve the time resolution to study the structure and evolution of temperature gradient in more details</a:t>
            </a:r>
            <a:endParaRPr b="0" lang="en-US" sz="28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d57"/>
                </a:solidFill>
                <a:latin typeface="Arial"/>
              </a:rPr>
              <a:t>Explore the possibility of solar sail +EP propulsion and related interplanetary trajectory optimization </a:t>
            </a:r>
            <a:r>
              <a:rPr b="0" lang="en-US" sz="2800" spc="-1" strike="noStrike">
                <a:solidFill>
                  <a:srgbClr val="1d1d57"/>
                </a:solidFill>
                <a:latin typeface="Arial"/>
                <a:ea typeface="Arial"/>
              </a:rPr>
              <a:t>→ higher mission feasibility in outer solar system</a:t>
            </a:r>
            <a:endParaRPr b="0" lang="en-US" sz="28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05264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0068"/>
                </a:solidFill>
                <a:latin typeface="Times New Roman"/>
              </a:rPr>
              <a:t>Thanks for attention!</a:t>
            </a:r>
            <a:endParaRPr b="0" lang="en-US" sz="4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0068"/>
                </a:solidFill>
                <a:latin typeface="Times New Roman"/>
              </a:rPr>
              <a:t>Solar Sailing Group of USTC</a:t>
            </a:r>
            <a:br>
              <a:rPr sz="2800"/>
            </a:br>
            <a:r>
              <a:rPr b="0" lang="en-US" sz="2800" spc="-1" strike="noStrike">
                <a:solidFill>
                  <a:srgbClr val="340068"/>
                </a:solidFill>
                <a:latin typeface="Times New Roman"/>
              </a:rPr>
              <a:t>(founded in Jan. 2006)</a:t>
            </a:r>
            <a:endParaRPr b="0" lang="en-US" sz="2800" spc="-1" strike="noStrike">
              <a:solidFill>
                <a:srgbClr val="340068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19320" y="2494080"/>
            <a:ext cx="7673400" cy="1142640"/>
            <a:chOff x="1219320" y="2494080"/>
            <a:chExt cx="7673400" cy="1142640"/>
          </a:xfrm>
        </p:grpSpPr>
        <p:cxnSp>
          <p:nvCxnSpPr>
            <p:cNvPr id="94" name="_s136207"/>
            <p:cNvCxnSpPr>
              <a:stCxn id="95" idx="0"/>
              <a:endCxn id="96" idx="2"/>
            </p:cNvCxnSpPr>
            <p:nvPr/>
          </p:nvCxnSpPr>
          <p:spPr>
            <a:xfrm flipV="1" rot="16200000">
              <a:off x="6424200" y="1581840"/>
              <a:ext cx="228960" cy="29667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3333ff"/>
              </a:solidFill>
              <a:miter/>
            </a:ln>
          </p:spPr>
        </p:cxnSp>
        <p:cxnSp>
          <p:nvCxnSpPr>
            <p:cNvPr id="97" name="_s136204"/>
            <p:cNvCxnSpPr>
              <a:stCxn id="98" idx="0"/>
              <a:endCxn id="96" idx="2"/>
            </p:cNvCxnSpPr>
            <p:nvPr/>
          </p:nvCxnSpPr>
          <p:spPr>
            <a:xfrm flipV="1" rot="16200000">
              <a:off x="5435280" y="2570760"/>
              <a:ext cx="228960" cy="9889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3333ff"/>
              </a:solidFill>
              <a:miter/>
            </a:ln>
          </p:spPr>
        </p:cxnSp>
        <p:cxnSp>
          <p:nvCxnSpPr>
            <p:cNvPr id="99" name="_s136203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4447080" y="2571120"/>
              <a:ext cx="228960" cy="9885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3333ff"/>
              </a:solidFill>
              <a:miter/>
            </a:ln>
          </p:spPr>
        </p:cxnSp>
        <p:cxnSp>
          <p:nvCxnSpPr>
            <p:cNvPr id="101" name="_s136202"/>
            <p:cNvCxnSpPr>
              <a:stCxn id="102" idx="0"/>
              <a:endCxn id="96" idx="2"/>
            </p:cNvCxnSpPr>
            <p:nvPr/>
          </p:nvCxnSpPr>
          <p:spPr>
            <a:xfrm flipH="1" flipV="1" rot="5400000">
              <a:off x="3457800" y="1581840"/>
              <a:ext cx="228960" cy="29667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3333ff"/>
              </a:solidFill>
              <a:miter/>
            </a:ln>
          </p:spPr>
        </p:cxnSp>
        <p:sp>
          <p:nvSpPr>
            <p:cNvPr id="96" name="_s136198"/>
            <p:cNvSpPr/>
            <p:nvPr/>
          </p:nvSpPr>
          <p:spPr>
            <a:xfrm>
              <a:off x="3978360" y="2494080"/>
              <a:ext cx="2155320" cy="4568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Solar Sailing Group</a:t>
              </a:r>
              <a:endParaRPr b="0" lang="en-US" sz="16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102" name="_s136199"/>
            <p:cNvSpPr/>
            <p:nvPr/>
          </p:nvSpPr>
          <p:spPr>
            <a:xfrm>
              <a:off x="1219320" y="3179880"/>
              <a:ext cx="1739160" cy="4568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Hardware</a:t>
              </a:r>
              <a:endParaRPr b="0" lang="en-US" sz="16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100" name="_s136200"/>
            <p:cNvSpPr/>
            <p:nvPr/>
          </p:nvSpPr>
          <p:spPr>
            <a:xfrm>
              <a:off x="3197160" y="3179880"/>
              <a:ext cx="1739160" cy="4568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Attitude Control</a:t>
              </a:r>
              <a:endParaRPr b="0" lang="en-US" sz="16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98" name="_s136201"/>
            <p:cNvSpPr/>
            <p:nvPr/>
          </p:nvSpPr>
          <p:spPr>
            <a:xfrm>
              <a:off x="5175360" y="3179880"/>
              <a:ext cx="1739160" cy="4568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Trajectory/Orbit</a:t>
              </a:r>
              <a:endParaRPr b="0" lang="en-US" sz="16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95" name="_s136206"/>
            <p:cNvSpPr/>
            <p:nvPr/>
          </p:nvSpPr>
          <p:spPr>
            <a:xfrm>
              <a:off x="7153560" y="3179880"/>
              <a:ext cx="1739160" cy="4568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System Simulation</a:t>
              </a:r>
              <a:endParaRPr b="0" lang="en-US" sz="16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557000"/>
            <a:ext cx="75438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Arial"/>
              </a:rPr>
              <a:t>Venus</a:t>
            </a:r>
            <a:r>
              <a:rPr b="0" lang="zh-CN" sz="2000" spc="-1" strike="noStrike">
                <a:solidFill>
                  <a:srgbClr val="000066"/>
                </a:solidFill>
                <a:latin typeface="Arial"/>
              </a:rPr>
              <a:t>－ </a:t>
            </a:r>
            <a:r>
              <a:rPr b="0" lang="zh-CN" sz="2000" spc="-1" strike="noStrike">
                <a:solidFill>
                  <a:srgbClr val="000066"/>
                </a:solidFill>
                <a:latin typeface="Arial"/>
              </a:rPr>
              <a:t>one of our nearby neighbors, yet we know little about it</a:t>
            </a:r>
            <a:endParaRPr b="0" lang="en-US" sz="2000" spc="-1" strike="noStrike">
              <a:solidFill>
                <a:srgbClr val="1d1d57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Arial"/>
              </a:rPr>
              <a:t>Sample mission analysis using a solar sailcraft which is close to current sail technology, real sail film, moderate sail performance (characteristic acceleration </a:t>
            </a:r>
            <a:r>
              <a:rPr b="0" lang="zh-CN" sz="2000" spc="-1" strike="noStrike">
                <a:solidFill>
                  <a:srgbClr val="000066"/>
                </a:solidFill>
                <a:latin typeface="Arial"/>
                <a:ea typeface="Arial"/>
              </a:rPr>
              <a:t>≤</a:t>
            </a:r>
            <a:r>
              <a:rPr b="0" lang="zh-CN" sz="2000" spc="-1" strike="noStrike">
                <a:solidFill>
                  <a:srgbClr val="000066"/>
                </a:solidFill>
                <a:latin typeface="Arial"/>
              </a:rPr>
              <a:t> 0.5 mm/s/s) </a:t>
            </a:r>
            <a:endParaRPr b="0" lang="en-US" sz="2000" spc="-1" strike="noStrike">
              <a:solidFill>
                <a:srgbClr val="1d1d57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Arial"/>
                <a:ea typeface="Arial"/>
              </a:rPr>
              <a:t>Providing constraints to design of interplanetary solar sailcraft from the perspective of trajectory optimization</a:t>
            </a:r>
            <a:endParaRPr b="0" lang="en-US" sz="2000" spc="-1" strike="noStrike">
              <a:solidFill>
                <a:srgbClr val="1d1d57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1d57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0068"/>
                </a:solidFill>
                <a:latin typeface="Times New Roman"/>
              </a:rPr>
              <a:t>Solar Sail Parameters for our Venus Mission Analysis</a:t>
            </a:r>
            <a:endParaRPr b="0" lang="en-US" sz="2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A=120m X 120m, surface density=10 g/m</a:t>
            </a:r>
            <a:r>
              <a:rPr b="0" lang="zh-CN" sz="2400" spc="-1" strike="noStrike" baseline="30000">
                <a:solidFill>
                  <a:srgbClr val="1d1d57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M=500 kg (payload = 356 kg)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a</a:t>
            </a:r>
            <a:r>
              <a:rPr b="0" lang="zh-CN" sz="2400" spc="-1" strike="noStrike" baseline="-25000">
                <a:solidFill>
                  <a:srgbClr val="1d1d5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=0.26 mm/s</a:t>
            </a:r>
            <a:r>
              <a:rPr b="0" lang="zh-CN" sz="2400" spc="-1" strike="noStrike" baseline="30000">
                <a:solidFill>
                  <a:srgbClr val="1d1d5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moderate sail performance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Non-ideal sail film (Al|Cr coated)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Traditional trajectory optimization method</a:t>
            </a: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difficult to reach adequate initial guess for this problem </a:t>
            </a:r>
            <a:r>
              <a:rPr b="0" lang="zh-CN" sz="2400" spc="-1" strike="noStrike">
                <a:solidFill>
                  <a:srgbClr val="1d1d57"/>
                </a:solidFill>
                <a:latin typeface="Arial"/>
                <a:ea typeface="Arial"/>
              </a:rPr>
              <a:t>→new evolutionary nerocontrol (NC) method is perferred (Dachwald 2004)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0068"/>
                </a:solidFill>
                <a:latin typeface="Times New Roman"/>
              </a:rPr>
              <a:t>Structure of our adopted Artificial Neural Network</a:t>
            </a:r>
            <a:br>
              <a:rPr sz="2400"/>
            </a:br>
            <a:r>
              <a:rPr b="0" lang="zh-CN" sz="2400" spc="-1" strike="noStrike">
                <a:solidFill>
                  <a:srgbClr val="340068"/>
                </a:solidFill>
                <a:latin typeface="Times New Roman"/>
              </a:rPr>
              <a:t>(ANN, Dachwald 2004 and references therein)</a:t>
            </a:r>
            <a:endParaRPr b="0" lang="en-US" sz="24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365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Number of input neurons: 24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Number of hidden layers: 1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Number of neurons in the hidden layers (1 line per layer): 30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Number of output neurons: 3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4511880" cy="4309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0068"/>
                </a:solidFill>
                <a:latin typeface="Times New Roman"/>
              </a:rPr>
              <a:t>Venus rendezvous mission analysis for 5 different initial NC population</a:t>
            </a:r>
            <a:br>
              <a:rPr sz="2000"/>
            </a:br>
            <a:r>
              <a:rPr b="0" lang="en-US" sz="2000" spc="-1" strike="noStrike">
                <a:solidFill>
                  <a:srgbClr val="340068"/>
                </a:solidFill>
                <a:latin typeface="Times New Roman"/>
              </a:rPr>
              <a:t>(using different seed values for the pseudo-random number generator)</a:t>
            </a:r>
            <a:endParaRPr b="0" lang="en-US" sz="20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4581360"/>
            <a:ext cx="74674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d57"/>
                </a:solidFill>
                <a:latin typeface="Arial"/>
              </a:rPr>
              <a:t>Transfer time T=600, 600, 625, 650, 600 days (&lt;T&gt;=615days), respectively, with maximum dispersion &lt; 8% </a:t>
            </a:r>
            <a:r>
              <a:rPr b="0" lang="en-US" sz="2000" spc="-1" strike="noStrike">
                <a:solidFill>
                  <a:srgbClr val="1d1d57"/>
                </a:solidFill>
                <a:latin typeface="Arial"/>
                <a:ea typeface="Arial"/>
              </a:rPr>
              <a:t>→our result is close to</a:t>
            </a:r>
            <a:r>
              <a:rPr b="0" lang="en-US" sz="2400" spc="-1" strike="noStrike">
                <a:solidFill>
                  <a:srgbClr val="1d1d57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1d1d57"/>
                </a:solidFill>
                <a:latin typeface="Arial"/>
                <a:ea typeface="Arial"/>
              </a:rPr>
              <a:t>global optimum.</a:t>
            </a:r>
            <a:endParaRPr b="0" lang="en-US" sz="2000" spc="-1" strike="noStrike">
              <a:solidFill>
                <a:srgbClr val="1d1d57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1557360"/>
            <a:ext cx="3929040" cy="2751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816360" cy="2670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11080" y="60912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0068"/>
                </a:solidFill>
                <a:latin typeface="Times New Roman"/>
              </a:rPr>
              <a:t>Best transfer trajectory and attitude history of steering angles</a:t>
            </a:r>
            <a:endParaRPr b="0" lang="en-US" sz="2400" spc="-1" strike="noStrike">
              <a:solidFill>
                <a:srgbClr val="340068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828800"/>
            <a:ext cx="4824360" cy="3376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135240" cy="2193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19640" y="3751200"/>
            <a:ext cx="3135240" cy="2195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0068"/>
                </a:solidFill>
                <a:latin typeface="Times New Roman"/>
              </a:rPr>
              <a:t>Constraint for design of attitude control system</a:t>
            </a:r>
            <a:endParaRPr b="0" lang="en-US" sz="2800" spc="-1" strike="noStrike">
              <a:solidFill>
                <a:srgbClr val="34006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Derived strategy of sail steering angles constraints the control system of solar sail to change clock angle as well as cone angle daily in a complex pattern throughout the flight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Frequent attitude control maneuvers should be carried out  as instantaneous as possible, i.e. a</a:t>
            </a:r>
            <a:r>
              <a:rPr b="0" lang="zh-CN" sz="2400" spc="-1" strike="noStrike" baseline="-25000">
                <a:solidFill>
                  <a:srgbClr val="1d1d57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&lt;0.8X10</a:t>
            </a:r>
            <a:r>
              <a:rPr b="0" lang="zh-CN" sz="2400" spc="-1" strike="noStrike" baseline="30000">
                <a:solidFill>
                  <a:srgbClr val="1d1d57"/>
                </a:solidFill>
                <a:latin typeface="Arial"/>
              </a:rPr>
              <a:t>-3</a:t>
            </a: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 mm/s</a:t>
            </a:r>
            <a:r>
              <a:rPr b="0" lang="zh-CN" sz="2400" spc="-1" strike="noStrike" baseline="30000">
                <a:solidFill>
                  <a:srgbClr val="1d1d5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1d1d57"/>
                </a:solidFill>
                <a:latin typeface="Arial"/>
              </a:rPr>
              <a:t> to avoid disturbing forces on accurate trajectory transfer (Dachwald 2004)</a:t>
            </a:r>
            <a:endParaRPr b="0" lang="en-US" sz="2400" spc="-1" strike="noStrike">
              <a:solidFill>
                <a:srgbClr val="1d1d5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0068"/>
                </a:solidFill>
                <a:latin typeface="Times New Roman"/>
              </a:rPr>
              <a:t>Temperature Evolution of Solar Sail during Flight</a:t>
            </a:r>
            <a:endParaRPr b="0" lang="en-US" sz="2800" spc="-1" strike="noStrike">
              <a:solidFill>
                <a:srgbClr val="34006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79640" y="2117880"/>
                <a:ext cx="4824360" cy="26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den>
                                </m:f>
                                <m:f>
                                  <m:num>
                                    <m:r>
                                      <m:t xml:space="preserve">c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≃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3</m:t>
                        </m:r>
                        <m:f>
                          <m:num>
                            <m:r>
                              <m:t xml:space="preserve">μ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U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4:00:09Z</dcterms:created>
  <dc:creator>ccwang</dc:creator>
  <dc:description/>
  <dc:language>en-US</dc:language>
  <cp:lastModifiedBy>Administrator</cp:lastModifiedBy>
  <dcterms:modified xsi:type="dcterms:W3CDTF">2007-06-27T20:41:15Z</dcterms:modified>
  <cp:revision>22</cp:revision>
  <dc:subject/>
  <dc:title>幻灯片 1</dc:title>
</cp:coreProperties>
</file>