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E4C4-2E17-4D3E-AE6A-F339B5755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8685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FAC4-2602-48B8-9792-3C9CE857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140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8C04-53B7-4F1C-B78D-97E1267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3400" y="1599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7320" y="1599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8685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3400" y="38685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7320" y="38685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F666-0F40-4B38-A63C-496D0C9AF7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0B8A-8871-4D3F-A34D-7656CD54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140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8685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8685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140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3400" y="1599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17320" y="1599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8685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3400" y="38685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17320" y="38685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D78C-FEDC-4EE8-8B13-08A0C734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CA64-31BD-45A9-9099-004AC27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CF3B-8BCD-4E36-B0E0-4E9A224D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04F4-9E82-4288-B31C-624CE21A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9FA7-DB75-468D-8366-D465D3BB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1400" y="38685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066A-211E-43F7-AD67-8A3D4429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685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D3C7-5144-4BDC-A4B5-2075DDD6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22880"/>
            <a:ext cx="9144000" cy="2535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94d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94d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94d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lvl="2" marL="1143000" indent="-1843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94d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lvl="3" marL="1523880" indent="-1458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94d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lvl="4" marL="2006640" indent="-177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94d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lvl="5" marL="2006640" indent="-177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94d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lvl="6" marL="2006640" indent="-177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94d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2280" y="6642000"/>
            <a:ext cx="457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3a94d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94d5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85520" y="6642000"/>
            <a:ext cx="1890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3a94d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a94d5"/>
                </a:solidFill>
                <a:latin typeface="Times New Roman"/>
              </a:rPr>
              <a:t>p</a:t>
            </a:r>
            <a:fld id="{044711FF-41DC-4E2D-AA0D-98BCA4D51139}" type="slidenum">
              <a:rPr b="0" lang="en-US" sz="700" spc="-1" strike="noStrike">
                <a:solidFill>
                  <a:srgbClr val="3a94d5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980720" y="3809520"/>
            <a:ext cx="434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is document is the property of Astrium. It shall not be communicated to third parties without prior written agreement. Its content shall not be disclosed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304920"/>
            <a:ext cx="167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94d5"/>
                </a:solidFill>
                <a:latin typeface="Arial"/>
              </a:rPr>
              <a:t>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4120" y="6705720"/>
            <a:ext cx="75960" cy="0"/>
          </a:xfrm>
          <a:prstGeom prst="line">
            <a:avLst/>
          </a:prstGeom>
          <a:ln w="9360">
            <a:solidFill>
              <a:srgbClr val="3a9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920" y="187020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089680"/>
            <a:ext cx="447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SSS – 27th June 2007, Herrs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773440"/>
            <a:ext cx="692784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Astrium ENS UK – Steve Eckers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knowledg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avid Agnolon, Peter Falkner (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anfred Leipold (Kayser-Threde) &amp; the GeoSail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276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428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pis.org/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7718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eoSail Environment &amp; Eff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31800" y="618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67280" y="61920"/>
            <a:ext cx="5076720" cy="3033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Thermal Environment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39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Reflections dependant on sail cut-out size &amp; sail/mast angle to sun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Reflections lead to: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Increased heat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Increased radiator area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Increased heater power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Specular reflection onto spacecraft at angles &gt;12</a:t>
            </a:r>
            <a:r>
              <a:rPr b="0" lang="en-US" sz="2000" spc="-1" strike="noStrike">
                <a:solidFill>
                  <a:srgbClr val="3a94d5"/>
                </a:solidFill>
                <a:latin typeface="Arial"/>
              </a:rPr>
              <a:t>° for </a:t>
            </a: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10m mast/sail cut-out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Heat input worse beyond 12</a:t>
            </a: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GeoSail platform does not have the area available for increased radiators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Would require heat shiel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a94d5"/>
                </a:solidFill>
                <a:uFillTx/>
                <a:latin typeface="Arial"/>
              </a:rPr>
              <a:t>Specular reflection from the sail onto the spacecraft must be avoided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Keeps thermal design low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-17892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Need careful choice of mast/cut-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03640" y="3395520"/>
            <a:ext cx="4140360" cy="254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067280" y="4005360"/>
            <a:ext cx="19447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AF00-61AD-44C3-A3BC-820579E36B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Sail Degradation from Environment factors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85000"/>
              </a:lnSpc>
              <a:spcBef>
                <a:spcPts val="624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a94d5"/>
                </a:solidFill>
                <a:latin typeface="Arial"/>
              </a:rPr>
              <a:t>Probable chronic degradation of sail by combination of environments:-</a:t>
            </a:r>
            <a:endParaRPr b="0" lang="en-US" sz="25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Degradation of properties due to U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Regular eclipses result in cyclic expansion/contraction stressing of fil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Embrittlement by radiation; </a:t>
            </a: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dose rates in thin sail material ~10Mrad/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Occasional perforation events by meteoroi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5000"/>
              </a:lnSpc>
              <a:spcBef>
                <a:spcPts val="624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a94d5"/>
                </a:solidFill>
                <a:latin typeface="Arial"/>
              </a:rPr>
              <a:t>Processes/effects still major unknown</a:t>
            </a:r>
            <a:endParaRPr b="0" lang="en-US" sz="25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lnSpc>
                <a:spcPct val="85000"/>
              </a:lnSpc>
              <a:spcBef>
                <a:spcPts val="624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a94d5"/>
                </a:solidFill>
                <a:latin typeface="Arial"/>
              </a:rPr>
              <a:t>Design of film must address this progressive degradation scenario, </a:t>
            </a:r>
            <a:endParaRPr b="0" lang="en-US" sz="25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partly by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partly by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5000"/>
              </a:lnSpc>
              <a:spcBef>
                <a:spcPts val="624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a94d5"/>
                </a:solidFill>
                <a:latin typeface="Arial"/>
                <a:ea typeface="SimSun"/>
              </a:rPr>
              <a:t>KOBE test-facility at DLR, </a:t>
            </a:r>
            <a:endParaRPr b="0" lang="en-US" sz="25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will perform simulated environment of solar-thermal, radiation, U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5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NOT micrometeoroi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AFC0-3470-426D-A330-B862D13B464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Plasma Environment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3888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a94d5"/>
                </a:solidFill>
                <a:latin typeface="Arial"/>
              </a:rPr>
              <a:t>Plasma environment in GeoSail orbit is complex &amp; highly variable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Variable plasma density/velo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Eclipses - </a:t>
            </a: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Solar once/orbit, Lunar (different plasma environment</a:t>
            </a: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Not well documented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a94d5"/>
                </a:solidFill>
                <a:latin typeface="Arial"/>
              </a:rPr>
              <a:t>Unusual GeoSail spacecraft will interact with environment – even more complex!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Unusual sheath - Thick Sheath approxim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EMC from spacecraft/sail cause payload inter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Ram/wake eff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Large Charg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Main considerations for plasmas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Debye Length (disturbanc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Charging (arcing &amp; science measure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10126"/>
          <a:stretch/>
        </p:blipFill>
        <p:spPr>
          <a:xfrm>
            <a:off x="5292720" y="3489480"/>
            <a:ext cx="3851280" cy="2698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92720" y="425520"/>
            <a:ext cx="3851280" cy="2744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59280" y="6165720"/>
            <a:ext cx="5056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Needs modell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A092-8DDD-4A47-A2AD-6475FBD720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0" r="4660" b="11544"/>
          <a:stretch/>
        </p:blipFill>
        <p:spPr>
          <a:xfrm>
            <a:off x="5292720" y="4076640"/>
            <a:ext cx="3851280" cy="2068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0" r="6276" b="9822"/>
          <a:stretch/>
        </p:blipFill>
        <p:spPr>
          <a:xfrm>
            <a:off x="5398920" y="1484280"/>
            <a:ext cx="3745080" cy="2746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804000" y="189000"/>
            <a:ext cx="1800360" cy="1073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518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Debye Length, </a:t>
            </a:r>
            <a:r>
              <a:rPr b="0" lang="en-US" sz="2200" spc="-1" strike="noStrike">
                <a:solidFill>
                  <a:srgbClr val="3a94d5"/>
                </a:solidFill>
                <a:latin typeface="Symbol"/>
                <a:ea typeface="Symbol"/>
              </a:rPr>
              <a:t>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Plasma disturbance range (point sour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Depends on </a:t>
            </a:r>
            <a:r>
              <a:rPr b="1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plasma</a:t>
            </a: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 </a:t>
            </a:r>
            <a:r>
              <a:rPr b="1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energy</a:t>
            </a: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 &amp; </a:t>
            </a:r>
            <a:r>
              <a:rPr b="1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Requires modifications for large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Indicates </a:t>
            </a:r>
            <a:r>
              <a:rPr b="0" lang="en-US" sz="1600" spc="-1" strike="noStrike" u="sng">
                <a:solidFill>
                  <a:srgbClr val="3a94d5"/>
                </a:solidFill>
                <a:uFillTx/>
                <a:latin typeface="Arial"/>
                <a:ea typeface="SimSun"/>
              </a:rPr>
              <a:t>boom sizing</a:t>
            </a: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 - </a:t>
            </a:r>
            <a:r>
              <a:rPr b="0" lang="en-US" sz="1600" spc="-1" strike="noStrike" u="sng">
                <a:solidFill>
                  <a:srgbClr val="3a94d5"/>
                </a:solidFill>
                <a:uFillTx/>
                <a:latin typeface="Arial"/>
                <a:ea typeface="SimSun"/>
              </a:rPr>
              <a:t>very large for GeoSai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Charging (+ve in sunlight, -ve in eclipse)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keV e</a:t>
            </a:r>
            <a:r>
              <a:rPr b="0" lang="en-GB" sz="1600" spc="-1" strike="noStrike" baseline="30000">
                <a:solidFill>
                  <a:srgbClr val="3a94d5"/>
                </a:solidFill>
                <a:latin typeface="Arial"/>
                <a:ea typeface="SimSun"/>
              </a:rPr>
              <a:t>-</a:t>
            </a: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 in tail plasmasheet - high eclipse charg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Requires modelling to eval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Charging Effects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Prevent arcing - conducting links around GeoS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94d5"/>
                </a:solidFill>
                <a:uFillTx/>
                <a:latin typeface="Arial"/>
                <a:ea typeface="SimSun"/>
              </a:rPr>
              <a:t>Charging potential tells us minimum energy measurable fo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Charge/Potential control reduces charge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Usually required for serious reconnection missions when  low energy plasma plays r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Scales with area to sun – </a:t>
            </a:r>
            <a:r>
              <a:rPr b="0" lang="en-US" sz="1600" spc="-1" strike="noStrike" u="sng">
                <a:solidFill>
                  <a:srgbClr val="3a94d5"/>
                </a:solidFill>
                <a:uFillTx/>
                <a:latin typeface="Arial"/>
                <a:ea typeface="SimSun"/>
              </a:rPr>
              <a:t>large mass for GeoSai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877000"/>
            <a:ext cx="7920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Requires unfeasibly large booms &amp; potential contro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Debye Length and Charging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644A-7580-43B9-9F46-213C395112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Plasma Environment – Summary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77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Booms are too long for GeoSail (hundreds of metres)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Potential control is too heavy for GeoSail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GeoSail will </a:t>
            </a:r>
            <a:r>
              <a:rPr b="0" lang="en-GB" sz="2000" spc="-1" strike="noStrike" u="sng">
                <a:solidFill>
                  <a:srgbClr val="3a94d5"/>
                </a:solidFill>
                <a:uFillTx/>
                <a:latin typeface="Arial"/>
                <a:ea typeface="SimSun"/>
              </a:rPr>
              <a:t>not</a:t>
            </a: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 fly potential control instruments or long booms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Aim will be to measure the disturbed plasma with sail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Comparisons/calibration can be made without s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Can be used to deduce environment disturbances by s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Other options for plasma measurements with sail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Deconvolve corrupted measurements near sail to estimate plasma properties far from s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Compare measurements when sail normal is parallel and perpendicular to velocity ve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941720"/>
            <a:ext cx="806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Needs detailed modelling to deduce what science can be measured with charged spacecraf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SimSun"/>
              </a:rPr>
              <a:t>Need to assess spacecraft potential in detail for all orbit/plasma 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SimSun"/>
              </a:rPr>
              <a:t>Astrium have carried out preliminary analysis with examples (see n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2CD8-C589-4097-8A1D-2BF86B5867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Recent Astrium Plasma Analysis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249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“</a:t>
            </a: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First-Look” at GeoSail spacecraft electrostatic charging phenomena &amp; plasma interactions, 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using SPIS (Spacecraft Plasma Interaction System) toolk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developed by </a:t>
            </a: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ONERA/DESP, Artenum &amp; University Paris V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See -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p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Modelled scenarios assess extremes of spacecraft potential around operational orbit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Sphere from sail centre chosen to encompass predicted size of the spacecraft plasma sheath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Simplified geometries used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94d5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94d5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84804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2340-E5FA-492A-B3E8-5F7F4D686F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Recent Astrium Plasma Analysis (2)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70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a94d5"/>
                </a:solidFill>
                <a:latin typeface="Arial"/>
                <a:ea typeface="SimSun"/>
              </a:rPr>
              <a:t>Analysis of charging in representative orbits (sunlight &amp; eclipse)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a94d5"/>
                </a:solidFill>
                <a:latin typeface="Arial"/>
                <a:ea typeface="SimSun"/>
              </a:rPr>
              <a:t>Useful to assess 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94d5"/>
                </a:solidFill>
                <a:latin typeface="Arial"/>
                <a:ea typeface="SimSun"/>
              </a:rPr>
              <a:t>which electron energies can be measured in sunlight, even with s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94d5"/>
                </a:solidFill>
                <a:latin typeface="Arial"/>
                <a:ea typeface="SimSun"/>
              </a:rPr>
              <a:t>effects of eclipse charging &amp;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a94d5"/>
                </a:solidFill>
                <a:latin typeface="Arial"/>
                <a:ea typeface="SimSun"/>
              </a:rPr>
              <a:t>Preliminary results interesting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94d5"/>
                </a:solidFill>
                <a:latin typeface="Arial"/>
                <a:ea typeface="SimSun"/>
              </a:rPr>
              <a:t>Good agreement with NASA L1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94d5"/>
                </a:solidFill>
                <a:latin typeface="Arial"/>
                <a:ea typeface="SimSun"/>
              </a:rPr>
              <a:t>Geotail results very different - Needs furthe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94d5"/>
                </a:solidFill>
                <a:latin typeface="Arial"/>
                <a:ea typeface="SimSun"/>
              </a:rPr>
              <a:t>Results need analysis by scientists to see what can be measured passively, i.e. without long booms &amp; potentia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94d5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94d5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3517" t="9775" r="11365" b="5866"/>
          <a:stretch/>
        </p:blipFill>
        <p:spPr>
          <a:xfrm>
            <a:off x="5867280" y="1557360"/>
            <a:ext cx="2987640" cy="2508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23384" t="8548" r="11302" b="5864"/>
          <a:stretch/>
        </p:blipFill>
        <p:spPr>
          <a:xfrm>
            <a:off x="5867280" y="4110120"/>
            <a:ext cx="3025800" cy="253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661F-119F-4062-8110-4F3874DA91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Environment – Main Conclusions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a94d5"/>
                </a:solidFill>
                <a:latin typeface="Arial"/>
                <a:ea typeface="SimSun"/>
              </a:rPr>
              <a:t>Thermal environment critical to platform design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a94d5"/>
                </a:solidFill>
                <a:latin typeface="Arial"/>
                <a:ea typeface="SimSun"/>
              </a:rPr>
              <a:t>Sail Degradation from Environmental factors: 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combined effect of environments is still a major unknow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Needs detailed modelling and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Plasmas: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Debye length very large – unfeasible boom dim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Charging - Common grounding required to minimise ar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Charging</a:t>
            </a: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 - potential control too heavy so will not fly on GeoS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GeoSail will therefore measure ‘disturbed’ plasma due to s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Further analysis of spacecraft potentials will determine measurement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Detailed EMC (from sail) analysi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724280"/>
            <a:ext cx="806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Detailed modelling and testing of environmental effects will predict the design requirements and the measurement limitations of the GeoSail space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42B2-2D14-4403-9453-4B42C86165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Environment – Comparions with SPO/IHP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54003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GeoSail generally less challenging (smaller, short mission, static solar distance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GeoSail has some unique challenges: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Many eclipses (SPO/IHP only have eclipse if planetary fly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High/low power modes; hot/cold cas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Wide variety of plasma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SPO and IHP challenges: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possible direct reflections &amp; radiator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Solar radiation, UV effects will be worse!!! – will impact strongly on sail material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Debye length will depend on plasma density/velocity – needs character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  <a:ea typeface="SimSun"/>
              </a:rPr>
              <a:t>Potential control more challenging (area &gt;&gt; GeoS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94d5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524" r="0" b="2413"/>
          <a:stretch/>
        </p:blipFill>
        <p:spPr>
          <a:xfrm>
            <a:off x="6804000" y="2565360"/>
            <a:ext cx="2112840" cy="2095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360" y="566100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GeoSail environment modelling &amp; testing will be directly applicable to the follow-on missions SPO and I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596360" y="4149720"/>
            <a:ext cx="1272960" cy="1440000"/>
            <a:chOff x="7596360" y="4149720"/>
            <a:chExt cx="1272960" cy="1440000"/>
          </a:xfrm>
        </p:grpSpPr>
        <p:sp>
          <p:nvSpPr>
            <p:cNvPr id="171" name=""/>
            <p:cNvSpPr/>
            <p:nvPr/>
          </p:nvSpPr>
          <p:spPr>
            <a:xfrm rot="20461800">
              <a:off x="8273880" y="4794120"/>
              <a:ext cx="52056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1271800">
              <a:off x="8215200" y="4755960"/>
              <a:ext cx="64728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7596360" y="4149720"/>
              <a:ext cx="127296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" descr=""/>
          <p:cNvPicPr/>
          <p:nvPr/>
        </p:nvPicPr>
        <p:blipFill>
          <a:blip r:embed="rId3"/>
          <a:srcRect l="0" t="14276" r="4489" b="17131"/>
          <a:stretch/>
        </p:blipFill>
        <p:spPr>
          <a:xfrm>
            <a:off x="6154560" y="1557360"/>
            <a:ext cx="1516320" cy="119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19431000">
            <a:off x="5965920" y="2658600"/>
            <a:ext cx="907920" cy="1514520"/>
          </a:xfrm>
          <a:custGeom>
            <a:avLst/>
            <a:gdLst>
              <a:gd name="textAreaLeft" fmla="*/ 121680 w 907920"/>
              <a:gd name="textAreaRight" fmla="*/ 786240 w 907920"/>
              <a:gd name="textAreaTop" fmla="*/ 264960 h 1514520"/>
              <a:gd name="textAreaBottom" fmla="*/ 1098000 h 151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431000">
            <a:off x="6588000" y="4293720"/>
            <a:ext cx="908280" cy="1514520"/>
          </a:xfrm>
          <a:custGeom>
            <a:avLst/>
            <a:gdLst>
              <a:gd name="textAreaLeft" fmla="*/ 121680 w 908280"/>
              <a:gd name="textAreaRight" fmla="*/ 786600 w 908280"/>
              <a:gd name="textAreaTop" fmla="*/ 264960 h 1514520"/>
              <a:gd name="textAreaBottom" fmla="*/ 1098000 h 151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BA1E-7F89-410D-9995-C421973639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a94d5"/>
                </a:solidFill>
                <a:latin typeface="Arial"/>
              </a:rPr>
              <a:t>What is GeoSail and why is it’s environment interesting?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a94d5"/>
                </a:solidFill>
                <a:latin typeface="Arial"/>
              </a:rPr>
              <a:t>What is GeoSail orbit environment?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a94d5"/>
                </a:solidFill>
                <a:latin typeface="Arial"/>
              </a:rPr>
              <a:t>Overview of general space environments &amp; effects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a94d5"/>
                </a:solidFill>
                <a:latin typeface="Arial"/>
              </a:rPr>
              <a:t>What are GeoSail’s interactions with environment?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a94d5"/>
                </a:solidFill>
                <a:latin typeface="Arial"/>
                <a:ea typeface="SimSun"/>
              </a:rPr>
              <a:t>Review of environment analysis for GeoSail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a94d5"/>
                </a:solidFill>
                <a:latin typeface="Arial"/>
                <a:ea typeface="SimSun"/>
              </a:rPr>
              <a:t>Conclusions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a94d5"/>
                </a:solidFill>
                <a:latin typeface="Arial"/>
                <a:ea typeface="SimSun"/>
              </a:rPr>
              <a:t>Environment comparisons with SPO and IHP missions</a:t>
            </a:r>
            <a:endParaRPr b="0" lang="en-US" sz="26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BEF6-2419-40BC-BB23-7FF6E86E64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What is GeoSail?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4897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Solar Sailing Demonstration Mission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Science Mission - Continuously explore Earth’s reconnection regions: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 algn="just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Noon Magnetopause &amp; Magnetosh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 algn="just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Magnetotail and Plasm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 algn="just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Lo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</a:rPr>
              <a:t>~50m diameter square sail</a:t>
            </a: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Mast 10m TBD, central cut-out 10m TBD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~11 x 23Re orbit radius, ~4.1 day orbit</a:t>
            </a: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Launch 2015-25</a:t>
            </a: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 Assumed launch </a:t>
            </a:r>
            <a:r>
              <a:rPr b="1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2020 </a:t>
            </a:r>
            <a:r>
              <a:rPr b="0" lang="en-GB" sz="2000" spc="-1" strike="noStrike">
                <a:solidFill>
                  <a:srgbClr val="3a94d5"/>
                </a:solidFill>
                <a:latin typeface="Arial"/>
                <a:ea typeface="SimSun"/>
              </a:rPr>
              <a:t>for (‘JPL’ solar max)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1250"/>
              </a:spcAft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2 years</a:t>
            </a: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 sailing, </a:t>
            </a:r>
            <a:r>
              <a:rPr b="1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1 year</a:t>
            </a: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 without sail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6000" y="162000"/>
            <a:ext cx="3132000" cy="2469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24360" y="2565360"/>
            <a:ext cx="3203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76720"/>
                <a:tab algn="l" pos="8353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EADS Sans"/>
              </a:rPr>
              <a:t>GeoSail provides an orbit regression of 1deg/day to keep the orbit apogee permanently in the Earth’s magnetotail (this would require significant propellant using electric or chemical propuls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3168720" cy="2497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24360" y="5950080"/>
            <a:ext cx="341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76720"/>
                <a:tab algn="l" pos="8353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EADS Sans"/>
              </a:rPr>
              <a:t>Early conceptual view of GeoSail fully deploy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FD39-712E-4144-BF46-2BA6CC2BBB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32360" y="1900080"/>
            <a:ext cx="4211640" cy="3046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Why is GeoSail environment interesting?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249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Orbit unusual &amp; not well known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Variable pla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&gt;3 hour Eclip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Spacecraft (pseudo) sun-pointing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Shape unusually large &amp; interacts with &amp; modifies environment</a:t>
            </a: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:</a:t>
            </a:r>
            <a:endParaRPr b="0" lang="en-US" sz="18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Ram/wak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Charging (Differential, High Potentia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E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Shape may be susceptible to unique environment effects</a:t>
            </a: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Only 3microns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Thermal shocks in/out of ecli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94d5"/>
                </a:solidFill>
                <a:latin typeface="Arial"/>
                <a:ea typeface="SimSun"/>
              </a:rPr>
              <a:t>Can feed into SPO and IHP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3058" t="13047" r="3058" b="13524"/>
          <a:stretch/>
        </p:blipFill>
        <p:spPr>
          <a:xfrm rot="20663400">
            <a:off x="5552640" y="4122720"/>
            <a:ext cx="1752840" cy="1320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5661000"/>
            <a:ext cx="5256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Combined GeoSail orbit environment &amp; spacecraft design challeng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5B5D-B971-4B2F-8D3D-6409AB81BF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03720" cy="3335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504216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What is GeoSail’s orbit environment?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48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</a:rPr>
              <a:t>Solar Cycle dependencies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1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</a:rPr>
              <a:t>27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</a:rPr>
              <a:t>Seasonal dependencies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</a:rPr>
              <a:t>Solar Eclipses (</a:t>
            </a:r>
            <a:r>
              <a:rPr b="0" lang="en-GB" sz="2200" spc="-1" strike="noStrike">
                <a:solidFill>
                  <a:srgbClr val="3a94d5"/>
                </a:solidFill>
                <a:latin typeface="Arial"/>
              </a:rPr>
              <a:t>11x23 Re)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Penumbra shadow angle = 2.7 d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Penumbra entry to exit = 196.6 min (used for battery siz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Umbra shadow angle = 2.2 d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Umbra entry to exit = 157.1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270 eclipses in 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</a:rPr>
              <a:t>Lunar Eclipses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marL="190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59640" y="400500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305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24360" y="602136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Sail orbit showing location of tailbox region. Note that tailbox position shifts seasonally crossing the ecliptic at the equinoxes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0" t="0" r="64617" b="10352"/>
          <a:stretch/>
        </p:blipFill>
        <p:spPr>
          <a:xfrm>
            <a:off x="8532720" y="3933720"/>
            <a:ext cx="395280" cy="7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C3D8-0DD5-4D05-9924-B7A4C664B8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94d5"/>
                </a:solidFill>
                <a:latin typeface="Arial"/>
              </a:rPr>
              <a:t>Overview of General Environments &amp; Effects</a:t>
            </a:r>
            <a:endParaRPr b="0" lang="en-US" sz="2800" spc="-1" strike="noStrike">
              <a:solidFill>
                <a:srgbClr val="3a94d5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6156360" cy="4054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2000" y="1557360"/>
            <a:ext cx="289548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a94d5"/>
                </a:solidFill>
                <a:uFillTx/>
                <a:latin typeface="Arial"/>
                <a:ea typeface="SimSun"/>
              </a:rPr>
              <a:t>ECSS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Micro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Geomagnet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Solar e-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Energetic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Plas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Micrometeo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Spacecraft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E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3573360"/>
            <a:ext cx="2664000" cy="3603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2924280"/>
            <a:ext cx="2664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6021360"/>
            <a:ext cx="505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Environments also act synergystical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DF00-A62D-4A15-85DD-CC014A1522B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What are interactions with environment?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17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94d5"/>
                </a:solidFill>
                <a:latin typeface="Arial"/>
                <a:ea typeface="SimSun"/>
              </a:rPr>
              <a:t>Generic environments &amp; effects </a:t>
            </a:r>
            <a:endParaRPr b="0" lang="en-US" sz="24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Applicable to normal 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94d5"/>
                </a:solidFill>
                <a:latin typeface="Arial"/>
                <a:ea typeface="SimSun"/>
              </a:rPr>
              <a:t>Interactions with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94d5"/>
                </a:solidFill>
                <a:latin typeface="Arial"/>
                <a:ea typeface="SimSun"/>
              </a:rPr>
              <a:t>Specific interactions &amp; effects for GeoSail-type spacecraft including:</a:t>
            </a:r>
            <a:endParaRPr b="0" lang="en-US" sz="24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94d5"/>
                </a:solidFill>
                <a:latin typeface="Arial"/>
                <a:ea typeface="SimSun"/>
              </a:rPr>
              <a:t>Unique to GeoSail space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spcBef>
                <a:spcPts val="451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94d5"/>
                </a:solidFill>
                <a:latin typeface="Arial"/>
                <a:ea typeface="SimSun"/>
              </a:rPr>
              <a:t>Interactions with sail/b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058" t="13047" r="3058" b="13524"/>
          <a:stretch/>
        </p:blipFill>
        <p:spPr>
          <a:xfrm rot="20663400">
            <a:off x="5219640" y="3212640"/>
            <a:ext cx="3468600" cy="2616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56360" y="2205000"/>
            <a:ext cx="936720" cy="1081080"/>
          </a:xfrm>
          <a:prstGeom prst="downArrow">
            <a:avLst>
              <a:gd name="adj1" fmla="val 50000"/>
              <a:gd name="adj2" fmla="val 288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4497200">
            <a:off x="5145840" y="3934800"/>
            <a:ext cx="1882800" cy="1125360"/>
          </a:xfrm>
          <a:custGeom>
            <a:avLst/>
            <a:gdLst>
              <a:gd name="textAreaLeft" fmla="*/ 284400 w 1882800"/>
              <a:gd name="textAreaRight" fmla="*/ 1410120 w 18828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28" hR="21600" stAng="10800000" swAng="5400000"/>
                <a:lnTo>
                  <a:pt x="12912" y="0"/>
                </a:lnTo>
                <a:arcTo wR="6528" hR="21600" stAng="-5400000" swAng="4219329"/>
                <a:lnTo>
                  <a:pt x="21562" y="19279"/>
                </a:lnTo>
                <a:lnTo>
                  <a:pt x="16248" y="21600"/>
                </a:lnTo>
                <a:lnTo>
                  <a:pt x="10858" y="19279"/>
                </a:lnTo>
                <a:lnTo>
                  <a:pt x="13018" y="19279"/>
                </a:lnTo>
                <a:arcTo wR="6528" hR="21600" stAng="-1180671" swAng="-3642412"/>
                <a:lnTo>
                  <a:pt x="9720" y="2758"/>
                </a:lnTo>
                <a:arcTo wR="6528" hR="21600" stAng="-5976917" swAng="-4823083"/>
                <a:close/>
              </a:path>
              <a:path fill="darkenLess" w="21600" h="21600">
                <a:moveTo>
                  <a:pt x="0" y="21600"/>
                </a:moveTo>
                <a:arcTo wR="6528" hR="21600" stAng="10800000" swAng="5400000"/>
                <a:lnTo>
                  <a:pt x="6528" y="0"/>
                </a:lnTo>
                <a:arcTo wR="6528" hR="21600" stAng="-5400000" swAng="576917"/>
                <a:lnTo>
                  <a:pt x="9720" y="2758"/>
                </a:lnTo>
                <a:arcTo wR="6528" hR="21600" stAng="-5976917" swAng="-4823083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3786600">
            <a:off x="6877440" y="3275640"/>
            <a:ext cx="2232000" cy="1585800"/>
          </a:xfrm>
          <a:custGeom>
            <a:avLst/>
            <a:gdLst>
              <a:gd name="textAreaLeft" fmla="*/ 441360 w 2232000"/>
              <a:gd name="textAreaRight" fmla="*/ 1567440 w 2232000"/>
              <a:gd name="textAreaTop" fmla="*/ 212400 h 1585800"/>
              <a:gd name="textAreaBottom" fmla="*/ 137340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46" hR="21600" stAng="10800000" swAng="5400000"/>
                <a:lnTo>
                  <a:pt x="10895" y="0"/>
                </a:lnTo>
                <a:arcTo wR="8546" hR="21600" stAng="-5400000" swAng="2892851"/>
                <a:lnTo>
                  <a:pt x="21111" y="14400"/>
                </a:lnTo>
                <a:lnTo>
                  <a:pt x="18266" y="21600"/>
                </a:lnTo>
                <a:lnTo>
                  <a:pt x="14442" y="14400"/>
                </a:lnTo>
                <a:lnTo>
                  <a:pt x="16602" y="14400"/>
                </a:lnTo>
                <a:arcTo wR="8546" hR="21600" stAng="-2507149" swAng="-2704322"/>
                <a:lnTo>
                  <a:pt x="9720" y="205"/>
                </a:lnTo>
                <a:arcTo wR="8546" hR="21600" stAng="-5588529" swAng="-5211471"/>
                <a:close/>
              </a:path>
              <a:path fill="darkenLess" w="21600" h="21600">
                <a:moveTo>
                  <a:pt x="0" y="21600"/>
                </a:moveTo>
                <a:arcTo wR="8546" hR="21600" stAng="10800000" swAng="5400000"/>
                <a:lnTo>
                  <a:pt x="8546" y="0"/>
                </a:lnTo>
                <a:arcTo wR="8546" hR="21600" stAng="-5400000" swAng="188529"/>
                <a:lnTo>
                  <a:pt x="9720" y="205"/>
                </a:lnTo>
                <a:arcTo wR="8546" hR="21600" stAng="-5588529" swAng="-5211471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148428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disturbed environment directly on the Sail or Platfo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501336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6400"/>
                </a:solidFill>
                <a:latin typeface="Arial"/>
              </a:rPr>
              <a:t>Modulation/disturbance of external environment by Sail &amp; subsequent effects on Platform/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5373720"/>
            <a:ext cx="244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  <a:ea typeface="MS PGothic"/>
              </a:rPr>
              <a:t>Platform effects onto s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520E-7A44-4A73-944D-A541428A50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What does this mean?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Mission environment is a primary driver for GeoSail!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Important effects are: 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reflections from sail, eclipses (therm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degradation of sail material integrity (combined environ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a94d5"/>
                </a:solidFill>
                <a:latin typeface="Arial"/>
                <a:ea typeface="SimSun"/>
              </a:rPr>
              <a:t>interference on sensors from </a:t>
            </a: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sail charging (interaction with plasm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Need characterisation of many environmental aspects 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thermal loading (inc. spacecraft power) and eclip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UV and energetic radiation flux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micrometeoroid impac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94d5"/>
                </a:solidFill>
                <a:latin typeface="Arial"/>
                <a:ea typeface="SimSun"/>
              </a:rPr>
              <a:t>plasma properties (density/energy profiles, surface charging, ram/wake effect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a94d5"/>
                </a:solidFill>
                <a:latin typeface="Arial"/>
                <a:ea typeface="SimSun"/>
              </a:rPr>
              <a:t>Very large surface area &amp; lack of in-orbit data - considerable uncertainty to fidelity/applicability of older models.</a:t>
            </a:r>
            <a:endParaRPr b="0" lang="en-US" sz="2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5373720"/>
            <a:ext cx="505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Better modelling and testing requi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5480-E548-4819-B19A-3EA19B135E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94d5"/>
                </a:solidFill>
                <a:latin typeface="Arial"/>
              </a:rPr>
              <a:t>Thermal Environment </a:t>
            </a:r>
            <a:endParaRPr b="0" lang="en-US" sz="3200" spc="-1" strike="noStrike">
              <a:solidFill>
                <a:srgbClr val="3a94d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48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Thermal design must cope with: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High/low power modes (hot/cold ca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With/without s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Off-pointing &amp; possible reflections from sail? (much more heat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long eclipses once per orbit (very cold cas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Complexity requires analysis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Hot case drives: 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radiator design - Limited are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Sail design (central cut-ou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951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94d5"/>
                </a:solidFill>
                <a:latin typeface="Arial"/>
              </a:rPr>
              <a:t>Cold case require heaters </a:t>
            </a:r>
            <a:endParaRPr b="0" lang="en-US" sz="2000" spc="-1" strike="noStrike">
              <a:solidFill>
                <a:srgbClr val="3a94d5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00"/>
              </a:spcBef>
              <a:buClr>
                <a:srgbClr val="3a94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94d5"/>
                </a:solidFill>
                <a:latin typeface="Arial"/>
              </a:rPr>
              <a:t>drives pow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52920" y="1197000"/>
            <a:ext cx="4591080" cy="3084480"/>
            <a:chOff x="4552920" y="1197000"/>
            <a:chExt cx="4591080" cy="3084480"/>
          </a:xfrm>
        </p:grpSpPr>
        <p:grpSp>
          <p:nvGrpSpPr>
            <p:cNvPr id="129" name=""/>
            <p:cNvGrpSpPr/>
            <p:nvPr/>
          </p:nvGrpSpPr>
          <p:grpSpPr>
            <a:xfrm>
              <a:off x="4552920" y="1197000"/>
              <a:ext cx="4591080" cy="3084480"/>
              <a:chOff x="4552920" y="1197000"/>
              <a:chExt cx="4591080" cy="308448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52920" y="1197000"/>
                <a:ext cx="4065480" cy="29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423280" y="3562200"/>
                <a:ext cx="720720" cy="719280"/>
              </a:xfrm>
              <a:prstGeom prst="sun">
                <a:avLst>
                  <a:gd name="adj" fmla="val 25000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102280" y="247032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Eclipse of 2.5 h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870080" y="2309760"/>
              <a:ext cx="27612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00360" y="5229360"/>
            <a:ext cx="644364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D6EF-65AF-4D0B-98A1-838E033467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/12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9:41:57Z</dcterms:created>
  <dc:creator>Marie-Claire Perkinson</dc:creator>
  <dc:description/>
  <dc:language>en-US</dc:language>
  <cp:lastModifiedBy>Bernd Dachwald</cp:lastModifiedBy>
  <cp:lastPrinted>2006-12-21T14:36:47Z</cp:lastPrinted>
  <dcterms:modified xsi:type="dcterms:W3CDTF">2007-06-27T10:51:39Z</dcterms:modified>
  <cp:revision>148</cp:revision>
  <dc:subject/>
  <dc:title>Near Earth Asteroid TRS</dc:title>
</cp:coreProperties>
</file>